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12.jpeg" ContentType="image/jpeg"/>
  <Override PartName="/ppt/media/image6.wmf" ContentType="image/x-wmf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32380-9BA8-4F7E-8614-E0E0EE556C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A1924-5D9D-4B93-BD02-8841237390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30626-EC5F-4630-9FA3-DD5E5B837E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604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260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3948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604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85260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F0418-E2CF-4011-A6E6-3617BE486F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2199E-3717-4A2F-996D-E7B729B9EE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2F2B8-2F5B-4114-AC7C-2A9E5DC383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7CAC3-C260-4502-9487-22410D5451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0280A-29EE-4D7E-84BF-C751185AE1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3920" y="294840"/>
            <a:ext cx="8366040" cy="64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4B229-5875-4B2B-AB55-EA345A05CE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D70CF-58AD-4304-84BC-7A52CC4CFB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66C9F-610F-42BD-B549-E5C3BAD7D1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3E9A7-B547-48D7-84FC-F828490BCF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7320" y="160200"/>
            <a:ext cx="9990000" cy="6594480"/>
          </a:xfrm>
          <a:prstGeom prst="rect">
            <a:avLst/>
          </a:prstGeom>
          <a:solidFill>
            <a:srgbClr val="000000"/>
          </a:solidFill>
          <a:ln w="1584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74600" y="1833480"/>
            <a:ext cx="9958320" cy="4905360"/>
          </a:xfrm>
          <a:prstGeom prst="rect">
            <a:avLst/>
          </a:prstGeom>
          <a:gradFill rotWithShape="0">
            <a:gsLst>
              <a:gs pos="0">
                <a:srgbClr val="31313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57040" y="6248520"/>
            <a:ext cx="2143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2020-4DD1-4119-8475-B5CAAFE305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2K" descr=""/>
          <p:cNvPicPr/>
          <p:nvPr/>
        </p:nvPicPr>
        <p:blipFill>
          <a:blip r:embed="rId2"/>
          <a:stretch/>
        </p:blipFill>
        <p:spPr>
          <a:xfrm>
            <a:off x="7155000" y="5908680"/>
            <a:ext cx="2836800" cy="714240"/>
          </a:xfrm>
          <a:prstGeom prst="rect">
            <a:avLst/>
          </a:prstGeom>
          <a:ln w="0">
            <a:noFill/>
          </a:ln>
        </p:spPr>
      </p:pic>
      <p:pic>
        <p:nvPicPr>
          <p:cNvPr id="6" name="crescent" descr=""/>
          <p:cNvPicPr/>
          <p:nvPr/>
        </p:nvPicPr>
        <p:blipFill>
          <a:blip r:embed="rId3"/>
          <a:stretch/>
        </p:blipFill>
        <p:spPr>
          <a:xfrm>
            <a:off x="8777160" y="403200"/>
            <a:ext cx="1246320" cy="1106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57320" y="1824120"/>
            <a:ext cx="9986760" cy="0"/>
          </a:xfrm>
          <a:prstGeom prst="line">
            <a:avLst/>
          </a:prstGeom>
          <a:ln w="1260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Techniques and Algorithms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93840" y="399744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Roger Corron, SGI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28080" y="6499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mage Cach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acking stor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arely part of the graphics system, since the general case is expensive to impl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general case is rarely needed, so you can develop an implementation tuned to your nee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accelerated offscreen frame buffer if avail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mage Caching: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mproves traversal and geometry rat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thing is traversed, transformed, or li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mproves host download rat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offscreen frame buffer is avail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Optimizes fill rat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graphics system does not have to calculate individu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ixels, but simply copy them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Application data cach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atabase roaming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efetch nearest neighbo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Large texture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draw what you can’t se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208400" y="3505320"/>
            <a:ext cx="14781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 Typ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Use one. Use all. Pipeline them together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iew Frustum Cul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ckface Cul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cclusion Cul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tribution Cul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ounding Volum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est against a bounding volume not individual primitive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be bounding sphere, box, screen oriented box, or any enclosing volu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ierarchical bounding volumes to reduce cull ti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heres are fast, boxes are more accu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a combination of bo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View Frustum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Graphics pipeline clips data that falls outside the View Frustum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f data will be completely clipped, don’t  draw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743200" y="3048120"/>
            <a:ext cx="3857400" cy="2209680"/>
            <a:chOff x="2743200" y="3048120"/>
            <a:chExt cx="3857400" cy="2209680"/>
          </a:xfrm>
        </p:grpSpPr>
        <p:sp>
          <p:nvSpPr>
            <p:cNvPr id="99" name=""/>
            <p:cNvSpPr/>
            <p:nvPr/>
          </p:nvSpPr>
          <p:spPr>
            <a:xfrm>
              <a:off x="2743200" y="3048120"/>
              <a:ext cx="3857400" cy="2209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14560" y="3124080"/>
              <a:ext cx="1492920" cy="1363320"/>
            </a:xfrm>
            <a:custGeom>
              <a:avLst/>
              <a:gdLst/>
              <a:ahLst/>
              <a:rect l="l" t="t" r="r" b="b"/>
              <a:pathLst>
                <a:path w="836" h="859">
                  <a:moveTo>
                    <a:pt x="0" y="0"/>
                  </a:moveTo>
                  <a:lnTo>
                    <a:pt x="836" y="238"/>
                  </a:lnTo>
                  <a:lnTo>
                    <a:pt x="835" y="859"/>
                  </a:lnTo>
                  <a:lnTo>
                    <a:pt x="4" y="62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71720" y="3657600"/>
              <a:ext cx="1028520" cy="91404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93040" y="3120840"/>
              <a:ext cx="1708920" cy="2009520"/>
            </a:xfrm>
            <a:custGeom>
              <a:avLst/>
              <a:gdLst/>
              <a:ahLst/>
              <a:rect l="l" t="t" r="r" b="b"/>
              <a:pathLst>
                <a:path w="957" h="1266">
                  <a:moveTo>
                    <a:pt x="0" y="1266"/>
                  </a:moveTo>
                  <a:lnTo>
                    <a:pt x="957" y="0"/>
                  </a:lnTo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93040" y="3504960"/>
              <a:ext cx="3221640" cy="1625400"/>
            </a:xfrm>
            <a:custGeom>
              <a:avLst/>
              <a:gdLst/>
              <a:ahLst/>
              <a:rect l="l" t="t" r="r" b="b"/>
              <a:pathLst>
                <a:path w="1804" h="1024">
                  <a:moveTo>
                    <a:pt x="0" y="1024"/>
                  </a:moveTo>
                  <a:lnTo>
                    <a:pt x="1804" y="0"/>
                  </a:lnTo>
                </a:path>
              </a:pathLst>
            </a:custGeom>
            <a:noFill/>
            <a:ln w="9360">
              <a:solidFill>
                <a:srgbClr val="863d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3040" y="4498920"/>
              <a:ext cx="3230640" cy="631440"/>
            </a:xfrm>
            <a:custGeom>
              <a:avLst/>
              <a:gdLst/>
              <a:ahLst/>
              <a:rect l="l" t="t" r="r" b="b"/>
              <a:pathLst>
                <a:path w="1809" h="398">
                  <a:moveTo>
                    <a:pt x="0" y="398"/>
                  </a:moveTo>
                  <a:lnTo>
                    <a:pt x="1809" y="0"/>
                  </a:lnTo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57040" y="4114800"/>
              <a:ext cx="771480" cy="685440"/>
            </a:xfrm>
            <a:custGeom>
              <a:avLst/>
              <a:gdLst/>
              <a:ahLst/>
              <a:rect l="l" t="t" r="r" b="b"/>
              <a:pathLst>
                <a:path w="651" h="732">
                  <a:moveTo>
                    <a:pt x="0" y="0"/>
                  </a:moveTo>
                  <a:lnTo>
                    <a:pt x="642" y="201"/>
                  </a:lnTo>
                  <a:lnTo>
                    <a:pt x="651" y="732"/>
                  </a:lnTo>
                  <a:lnTo>
                    <a:pt x="3" y="52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00480" y="3048120"/>
              <a:ext cx="509040" cy="304560"/>
            </a:xfrm>
            <a:custGeom>
              <a:avLst/>
              <a:gdLst/>
              <a:ahLst/>
              <a:rect l="l" t="t" r="r" b="b"/>
              <a:pathLst>
                <a:path w="657" h="654">
                  <a:moveTo>
                    <a:pt x="0" y="651"/>
                  </a:moveTo>
                  <a:lnTo>
                    <a:pt x="411" y="0"/>
                  </a:lnTo>
                  <a:lnTo>
                    <a:pt x="657" y="654"/>
                  </a:lnTo>
                  <a:lnTo>
                    <a:pt x="0" y="651"/>
                  </a:lnTo>
                  <a:close/>
                </a:path>
              </a:pathLst>
            </a:custGeom>
            <a:solidFill>
              <a:srgbClr val="979393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00600" y="3962160"/>
              <a:ext cx="599760" cy="609480"/>
            </a:xfrm>
            <a:custGeom>
              <a:avLst/>
              <a:gdLst/>
              <a:ahLst/>
              <a:rect l="l" t="t" r="r" b="b"/>
              <a:pathLst>
                <a:path w="240" h="375">
                  <a:moveTo>
                    <a:pt x="0" y="306"/>
                  </a:moveTo>
                  <a:lnTo>
                    <a:pt x="189" y="0"/>
                  </a:lnTo>
                  <a:lnTo>
                    <a:pt x="240" y="375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cc3300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43080" y="3504960"/>
              <a:ext cx="469800" cy="425160"/>
            </a:xfrm>
            <a:custGeom>
              <a:avLst/>
              <a:gdLst/>
              <a:ahLst/>
              <a:rect l="l" t="t" r="r" b="b"/>
              <a:pathLst>
                <a:path w="234" h="228">
                  <a:moveTo>
                    <a:pt x="0" y="228"/>
                  </a:moveTo>
                  <a:lnTo>
                    <a:pt x="103" y="0"/>
                  </a:lnTo>
                  <a:lnTo>
                    <a:pt x="234" y="132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979393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60520" y="4241520"/>
              <a:ext cx="430200" cy="460080"/>
            </a:xfrm>
            <a:custGeom>
              <a:avLst/>
              <a:gdLst/>
              <a:ahLst/>
              <a:rect l="l" t="t" r="r" b="b"/>
              <a:pathLst>
                <a:path w="214" h="247">
                  <a:moveTo>
                    <a:pt x="0" y="192"/>
                  </a:moveTo>
                  <a:lnTo>
                    <a:pt x="54" y="0"/>
                  </a:lnTo>
                  <a:lnTo>
                    <a:pt x="214" y="247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979393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32280" y="3749400"/>
              <a:ext cx="1157400" cy="1074600"/>
            </a:xfrm>
            <a:prstGeom prst="rtTriangle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96640" y="4114800"/>
              <a:ext cx="1717920" cy="1012320"/>
            </a:xfrm>
            <a:custGeom>
              <a:avLst/>
              <a:gdLst/>
              <a:ahLst/>
              <a:rect l="l" t="t" r="r" b="b"/>
              <a:pathLst>
                <a:path w="962" h="638">
                  <a:moveTo>
                    <a:pt x="0" y="638"/>
                  </a:moveTo>
                  <a:lnTo>
                    <a:pt x="962" y="0"/>
                  </a:lnTo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25160" y="3619440"/>
              <a:ext cx="387360" cy="282240"/>
            </a:xfrm>
            <a:custGeom>
              <a:avLst/>
              <a:gdLst/>
              <a:ahLst/>
              <a:rect l="l" t="t" r="r" b="b"/>
              <a:pathLst>
                <a:path w="217" h="178">
                  <a:moveTo>
                    <a:pt x="0" y="178"/>
                  </a:moveTo>
                  <a:lnTo>
                    <a:pt x="139" y="0"/>
                  </a:lnTo>
                  <a:lnTo>
                    <a:pt x="217" y="83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cc3300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View Frustum Usefulnes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s geometry rat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lled vertices are not transformed, lit, and clip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s host download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 data moved from memory into graphic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es not change fill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angles outside the View Frustum would not have been rasterized any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View Frustum Implement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ansform bounding volume  to clip coordinates (in OpenGL multiply by Model-View and Projection matrix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eck each volume against View Frustu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ometry is either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I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Ou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or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Parti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nder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I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Parti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kip the Clip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n software transform systems (GTX-RD)  skip the clip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Partia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I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geometry classifi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ipe renders </a:t>
            </a:r>
            <a:r>
              <a:rPr b="0" i="1" lang="en-US" sz="2400" spc="-1" strike="noStrike">
                <a:solidFill>
                  <a:srgbClr val="fec524"/>
                </a:solidFill>
                <a:latin typeface="Arial"/>
              </a:rPr>
              <a:t>Partial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as u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ipe can render </a:t>
            </a:r>
            <a:r>
              <a:rPr b="0" i="1" lang="en-US" sz="2400" spc="-1" strike="noStrike">
                <a:solidFill>
                  <a:srgbClr val="fec524"/>
                </a:solidFill>
                <a:latin typeface="Arial"/>
              </a:rPr>
              <a:t>In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without a View Frustum cl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be a hint to rend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improve geometry rates if not already fill-limi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o write an efficient graphics application, one must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nderstand the platfor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graphics efficient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rite good cod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ec524"/>
                </a:solidFill>
                <a:latin typeface="Arial"/>
              </a:rPr>
              <a:t>Use efficient application structures and algorith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Only half of any closed polyhedron is visible at any one tim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render what you can’t se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ackfac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bunny" descr=""/>
          <p:cNvPicPr/>
          <p:nvPr/>
        </p:nvPicPr>
        <p:blipFill>
          <a:blip r:embed="rId1"/>
          <a:stretch/>
        </p:blipFill>
        <p:spPr>
          <a:xfrm>
            <a:off x="3733920" y="2286000"/>
            <a:ext cx="3848040" cy="354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ackface Usefulnes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s fill rate when using a native implement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itives are transformed and lit before cul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elps both geometry and fill with an application specific algorith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computationally expen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graphics and CPU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not be used when you enter closed geometry or need two-sided light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41280" y="2649600"/>
            <a:ext cx="7742520" cy="2674800"/>
          </a:xfrm>
          <a:prstGeom prst="rect">
            <a:avLst/>
          </a:prstGeom>
          <a:solidFill>
            <a:srgbClr val="863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f you can’t see i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draw i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oc1" descr=""/>
          <p:cNvPicPr/>
          <p:nvPr/>
        </p:nvPicPr>
        <p:blipFill>
          <a:blip r:embed="rId1"/>
          <a:stretch/>
        </p:blipFill>
        <p:spPr>
          <a:xfrm>
            <a:off x="1312920" y="3033720"/>
            <a:ext cx="3316320" cy="15541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c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occ2" descr=""/>
          <p:cNvPicPr/>
          <p:nvPr/>
        </p:nvPicPr>
        <p:blipFill>
          <a:blip r:embed="rId2"/>
          <a:stretch/>
        </p:blipFill>
        <p:spPr>
          <a:xfrm>
            <a:off x="5138640" y="3033720"/>
            <a:ext cx="3745080" cy="1554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311120" y="2340000"/>
            <a:ext cx="1028880" cy="91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58720" y="4614840"/>
            <a:ext cx="893160" cy="491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70400" y="4614840"/>
            <a:ext cx="789480" cy="491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cclusion Goal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nd the optimal set of occluders that will enable drawing the minimal number of occludee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ccluders: The geometry that is visi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ccludees: The geometry that is not visibl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general purpose occlusion culling algorith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application specific spatial knowledge if possi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cclusion Culling Usefulnes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improve transform-limited, fill-limited, and bandwidth-limited  applic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ationally expensi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ware of time trade-of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ssible hardware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eneral Occlusion Cull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d for arbitrary sce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improve both transform limited and fill limited applic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ationally expensive for arbitrary sce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cclusion Spatial Partition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ell and Portal” Culling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atial organization leads to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Cell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Porta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ames that move from room to ro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rchitectural walkthrough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walk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819520" y="4267080"/>
            <a:ext cx="4387680" cy="18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219320" y="2895480"/>
            <a:ext cx="7727760" cy="243864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tribu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f it’s too small to make a differenc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render i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676520" y="3733920"/>
            <a:ext cx="3390480" cy="785520"/>
            <a:chOff x="1676520" y="3733920"/>
            <a:chExt cx="3390480" cy="785520"/>
          </a:xfrm>
        </p:grpSpPr>
        <p:grpSp>
          <p:nvGrpSpPr>
            <p:cNvPr id="145" name=""/>
            <p:cNvGrpSpPr/>
            <p:nvPr/>
          </p:nvGrpSpPr>
          <p:grpSpPr>
            <a:xfrm>
              <a:off x="1676520" y="3733920"/>
              <a:ext cx="3390480" cy="707760"/>
              <a:chOff x="1676520" y="3733920"/>
              <a:chExt cx="3390480" cy="70776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1854000" y="3733920"/>
                <a:ext cx="2325600" cy="276840"/>
                <a:chOff x="1854000" y="3733920"/>
                <a:chExt cx="2325600" cy="276840"/>
              </a:xfrm>
            </p:grpSpPr>
            <p:grpSp>
              <p:nvGrpSpPr>
                <p:cNvPr id="147" name=""/>
                <p:cNvGrpSpPr/>
                <p:nvPr/>
              </p:nvGrpSpPr>
              <p:grpSpPr>
                <a:xfrm>
                  <a:off x="2670480" y="3763440"/>
                  <a:ext cx="1242000" cy="243720"/>
                  <a:chOff x="2670480" y="3763440"/>
                  <a:chExt cx="1242000" cy="243720"/>
                </a:xfrm>
              </p:grpSpPr>
              <p:grpSp>
                <p:nvGrpSpPr>
                  <p:cNvPr id="148" name=""/>
                  <p:cNvGrpSpPr/>
                  <p:nvPr/>
                </p:nvGrpSpPr>
                <p:grpSpPr>
                  <a:xfrm>
                    <a:off x="2945520" y="3771720"/>
                    <a:ext cx="790920" cy="210240"/>
                    <a:chOff x="2945520" y="3771720"/>
                    <a:chExt cx="790920" cy="210240"/>
                  </a:xfrm>
                </p:grpSpPr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2945520" y="3771720"/>
                      <a:ext cx="135360" cy="17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6" h="334">
                          <a:moveTo>
                            <a:pt x="5" y="4"/>
                          </a:moveTo>
                          <a:lnTo>
                            <a:pt x="0" y="0"/>
                          </a:lnTo>
                          <a:lnTo>
                            <a:pt x="155" y="334"/>
                          </a:lnTo>
                          <a:lnTo>
                            <a:pt x="236" y="334"/>
                          </a:lnTo>
                          <a:lnTo>
                            <a:pt x="65" y="0"/>
                          </a:lnTo>
                          <a:lnTo>
                            <a:pt x="5" y="4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611520" y="3867120"/>
                      <a:ext cx="124920" cy="11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223">
                          <a:moveTo>
                            <a:pt x="58" y="25"/>
                          </a:moveTo>
                          <a:lnTo>
                            <a:pt x="64" y="21"/>
                          </a:lnTo>
                          <a:lnTo>
                            <a:pt x="218" y="223"/>
                          </a:lnTo>
                          <a:lnTo>
                            <a:pt x="143" y="211"/>
                          </a:lnTo>
                          <a:lnTo>
                            <a:pt x="0" y="0"/>
                          </a:lnTo>
                          <a:lnTo>
                            <a:pt x="58" y="25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1" name=""/>
                  <p:cNvSpPr/>
                  <p:nvPr/>
                </p:nvSpPr>
                <p:spPr>
                  <a:xfrm>
                    <a:off x="2670480" y="3763440"/>
                    <a:ext cx="1242000" cy="24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475">
                        <a:moveTo>
                          <a:pt x="16" y="64"/>
                        </a:moveTo>
                        <a:lnTo>
                          <a:pt x="220" y="55"/>
                        </a:lnTo>
                        <a:lnTo>
                          <a:pt x="375" y="55"/>
                        </a:lnTo>
                        <a:lnTo>
                          <a:pt x="585" y="43"/>
                        </a:lnTo>
                        <a:lnTo>
                          <a:pt x="778" y="43"/>
                        </a:lnTo>
                        <a:lnTo>
                          <a:pt x="996" y="43"/>
                        </a:lnTo>
                        <a:lnTo>
                          <a:pt x="1190" y="49"/>
                        </a:lnTo>
                        <a:lnTo>
                          <a:pt x="1283" y="62"/>
                        </a:lnTo>
                        <a:lnTo>
                          <a:pt x="1362" y="80"/>
                        </a:lnTo>
                        <a:lnTo>
                          <a:pt x="1450" y="111"/>
                        </a:lnTo>
                        <a:lnTo>
                          <a:pt x="1534" y="146"/>
                        </a:lnTo>
                        <a:lnTo>
                          <a:pt x="1840" y="304"/>
                        </a:lnTo>
                        <a:lnTo>
                          <a:pt x="2003" y="378"/>
                        </a:lnTo>
                        <a:lnTo>
                          <a:pt x="2096" y="439"/>
                        </a:lnTo>
                        <a:lnTo>
                          <a:pt x="2011" y="437"/>
                        </a:lnTo>
                        <a:lnTo>
                          <a:pt x="0" y="283"/>
                        </a:lnTo>
                        <a:lnTo>
                          <a:pt x="3" y="330"/>
                        </a:lnTo>
                        <a:lnTo>
                          <a:pt x="2102" y="475"/>
                        </a:lnTo>
                        <a:lnTo>
                          <a:pt x="2167" y="463"/>
                        </a:lnTo>
                        <a:lnTo>
                          <a:pt x="2134" y="421"/>
                        </a:lnTo>
                        <a:lnTo>
                          <a:pt x="2076" y="378"/>
                        </a:lnTo>
                        <a:lnTo>
                          <a:pt x="1935" y="304"/>
                        </a:lnTo>
                        <a:lnTo>
                          <a:pt x="1825" y="245"/>
                        </a:lnTo>
                        <a:lnTo>
                          <a:pt x="1547" y="108"/>
                        </a:lnTo>
                        <a:lnTo>
                          <a:pt x="1421" y="59"/>
                        </a:lnTo>
                        <a:lnTo>
                          <a:pt x="1297" y="28"/>
                        </a:lnTo>
                        <a:lnTo>
                          <a:pt x="1019" y="0"/>
                        </a:lnTo>
                        <a:lnTo>
                          <a:pt x="638" y="0"/>
                        </a:lnTo>
                        <a:lnTo>
                          <a:pt x="16" y="33"/>
                        </a:lnTo>
                        <a:lnTo>
                          <a:pt x="16" y="64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2" name=""/>
                <p:cNvSpPr/>
                <p:nvPr/>
              </p:nvSpPr>
              <p:spPr>
                <a:xfrm>
                  <a:off x="1854000" y="3733920"/>
                  <a:ext cx="2325600" cy="276840"/>
                </a:xfrm>
                <a:custGeom>
                  <a:avLst/>
                  <a:gdLst/>
                  <a:ahLst/>
                  <a:rect l="l" t="t" r="r" b="b"/>
                  <a:pathLst>
                    <a:path w="4057" h="537">
                      <a:moveTo>
                        <a:pt x="0" y="359"/>
                      </a:moveTo>
                      <a:lnTo>
                        <a:pt x="156" y="337"/>
                      </a:lnTo>
                      <a:lnTo>
                        <a:pt x="276" y="310"/>
                      </a:lnTo>
                      <a:lnTo>
                        <a:pt x="357" y="286"/>
                      </a:lnTo>
                      <a:lnTo>
                        <a:pt x="423" y="268"/>
                      </a:lnTo>
                      <a:lnTo>
                        <a:pt x="510" y="246"/>
                      </a:lnTo>
                      <a:lnTo>
                        <a:pt x="583" y="224"/>
                      </a:lnTo>
                      <a:lnTo>
                        <a:pt x="667" y="203"/>
                      </a:lnTo>
                      <a:lnTo>
                        <a:pt x="742" y="187"/>
                      </a:lnTo>
                      <a:lnTo>
                        <a:pt x="827" y="174"/>
                      </a:lnTo>
                      <a:lnTo>
                        <a:pt x="896" y="162"/>
                      </a:lnTo>
                      <a:lnTo>
                        <a:pt x="955" y="152"/>
                      </a:lnTo>
                      <a:lnTo>
                        <a:pt x="1043" y="138"/>
                      </a:lnTo>
                      <a:lnTo>
                        <a:pt x="1118" y="126"/>
                      </a:lnTo>
                      <a:lnTo>
                        <a:pt x="1189" y="115"/>
                      </a:lnTo>
                      <a:lnTo>
                        <a:pt x="1263" y="95"/>
                      </a:lnTo>
                      <a:lnTo>
                        <a:pt x="1323" y="64"/>
                      </a:lnTo>
                      <a:lnTo>
                        <a:pt x="1367" y="30"/>
                      </a:lnTo>
                      <a:lnTo>
                        <a:pt x="1455" y="25"/>
                      </a:lnTo>
                      <a:lnTo>
                        <a:pt x="1582" y="23"/>
                      </a:lnTo>
                      <a:lnTo>
                        <a:pt x="1726" y="11"/>
                      </a:lnTo>
                      <a:lnTo>
                        <a:pt x="1838" y="5"/>
                      </a:lnTo>
                      <a:lnTo>
                        <a:pt x="2004" y="2"/>
                      </a:lnTo>
                      <a:lnTo>
                        <a:pt x="2164" y="1"/>
                      </a:lnTo>
                      <a:lnTo>
                        <a:pt x="2317" y="0"/>
                      </a:lnTo>
                      <a:lnTo>
                        <a:pt x="2434" y="0"/>
                      </a:lnTo>
                      <a:lnTo>
                        <a:pt x="2561" y="10"/>
                      </a:lnTo>
                      <a:lnTo>
                        <a:pt x="2691" y="30"/>
                      </a:lnTo>
                      <a:lnTo>
                        <a:pt x="2788" y="54"/>
                      </a:lnTo>
                      <a:lnTo>
                        <a:pt x="2874" y="77"/>
                      </a:lnTo>
                      <a:lnTo>
                        <a:pt x="2968" y="106"/>
                      </a:lnTo>
                      <a:lnTo>
                        <a:pt x="3070" y="138"/>
                      </a:lnTo>
                      <a:lnTo>
                        <a:pt x="3174" y="174"/>
                      </a:lnTo>
                      <a:lnTo>
                        <a:pt x="3285" y="211"/>
                      </a:lnTo>
                      <a:lnTo>
                        <a:pt x="3393" y="249"/>
                      </a:lnTo>
                      <a:lnTo>
                        <a:pt x="3507" y="285"/>
                      </a:lnTo>
                      <a:lnTo>
                        <a:pt x="3593" y="314"/>
                      </a:lnTo>
                      <a:lnTo>
                        <a:pt x="3672" y="335"/>
                      </a:lnTo>
                      <a:lnTo>
                        <a:pt x="3758" y="367"/>
                      </a:lnTo>
                      <a:lnTo>
                        <a:pt x="3848" y="395"/>
                      </a:lnTo>
                      <a:lnTo>
                        <a:pt x="3958" y="431"/>
                      </a:lnTo>
                      <a:lnTo>
                        <a:pt x="4057" y="468"/>
                      </a:lnTo>
                      <a:lnTo>
                        <a:pt x="4017" y="494"/>
                      </a:lnTo>
                      <a:lnTo>
                        <a:pt x="3958" y="510"/>
                      </a:lnTo>
                      <a:lnTo>
                        <a:pt x="3893" y="527"/>
                      </a:lnTo>
                      <a:lnTo>
                        <a:pt x="3812" y="536"/>
                      </a:lnTo>
                      <a:lnTo>
                        <a:pt x="3705" y="537"/>
                      </a:lnTo>
                      <a:lnTo>
                        <a:pt x="3598" y="534"/>
                      </a:lnTo>
                      <a:lnTo>
                        <a:pt x="3571" y="494"/>
                      </a:lnTo>
                      <a:lnTo>
                        <a:pt x="3545" y="468"/>
                      </a:lnTo>
                      <a:lnTo>
                        <a:pt x="3494" y="432"/>
                      </a:lnTo>
                      <a:lnTo>
                        <a:pt x="3385" y="373"/>
                      </a:lnTo>
                      <a:lnTo>
                        <a:pt x="3249" y="302"/>
                      </a:lnTo>
                      <a:lnTo>
                        <a:pt x="3128" y="242"/>
                      </a:lnTo>
                      <a:lnTo>
                        <a:pt x="2981" y="168"/>
                      </a:lnTo>
                      <a:lnTo>
                        <a:pt x="2858" y="121"/>
                      </a:lnTo>
                      <a:lnTo>
                        <a:pt x="2741" y="87"/>
                      </a:lnTo>
                      <a:lnTo>
                        <a:pt x="2646" y="75"/>
                      </a:lnTo>
                      <a:lnTo>
                        <a:pt x="2470" y="57"/>
                      </a:lnTo>
                      <a:lnTo>
                        <a:pt x="2241" y="56"/>
                      </a:lnTo>
                      <a:lnTo>
                        <a:pt x="1972" y="63"/>
                      </a:lnTo>
                      <a:lnTo>
                        <a:pt x="1768" y="70"/>
                      </a:lnTo>
                      <a:lnTo>
                        <a:pt x="1440" y="87"/>
                      </a:lnTo>
                      <a:lnTo>
                        <a:pt x="1421" y="408"/>
                      </a:lnTo>
                      <a:lnTo>
                        <a:pt x="0" y="35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>
                <a:off x="1919520" y="4005720"/>
                <a:ext cx="3145320" cy="435960"/>
              </a:xfrm>
              <a:custGeom>
                <a:avLst/>
                <a:gdLst/>
                <a:ahLst/>
                <a:rect l="l" t="t" r="r" b="b"/>
                <a:pathLst>
                  <a:path w="5487" h="850">
                    <a:moveTo>
                      <a:pt x="4630" y="403"/>
                    </a:moveTo>
                    <a:lnTo>
                      <a:pt x="4672" y="531"/>
                    </a:lnTo>
                    <a:lnTo>
                      <a:pt x="4672" y="629"/>
                    </a:lnTo>
                    <a:lnTo>
                      <a:pt x="5487" y="629"/>
                    </a:lnTo>
                    <a:lnTo>
                      <a:pt x="5430" y="695"/>
                    </a:lnTo>
                    <a:lnTo>
                      <a:pt x="5468" y="770"/>
                    </a:lnTo>
                    <a:lnTo>
                      <a:pt x="5468" y="805"/>
                    </a:lnTo>
                    <a:lnTo>
                      <a:pt x="5443" y="829"/>
                    </a:lnTo>
                    <a:lnTo>
                      <a:pt x="4975" y="829"/>
                    </a:lnTo>
                    <a:lnTo>
                      <a:pt x="4937" y="850"/>
                    </a:lnTo>
                    <a:lnTo>
                      <a:pt x="4698" y="850"/>
                    </a:lnTo>
                    <a:lnTo>
                      <a:pt x="4666" y="826"/>
                    </a:lnTo>
                    <a:lnTo>
                      <a:pt x="325" y="826"/>
                    </a:lnTo>
                    <a:lnTo>
                      <a:pt x="153" y="671"/>
                    </a:lnTo>
                    <a:lnTo>
                      <a:pt x="18" y="723"/>
                    </a:lnTo>
                    <a:lnTo>
                      <a:pt x="0" y="310"/>
                    </a:lnTo>
                    <a:lnTo>
                      <a:pt x="331" y="0"/>
                    </a:lnTo>
                    <a:lnTo>
                      <a:pt x="847" y="12"/>
                    </a:lnTo>
                    <a:lnTo>
                      <a:pt x="3538" y="695"/>
                    </a:lnTo>
                    <a:lnTo>
                      <a:pt x="3614" y="613"/>
                    </a:lnTo>
                    <a:lnTo>
                      <a:pt x="3681" y="401"/>
                    </a:lnTo>
                    <a:lnTo>
                      <a:pt x="3776" y="227"/>
                    </a:lnTo>
                    <a:lnTo>
                      <a:pt x="4058" y="87"/>
                    </a:lnTo>
                    <a:lnTo>
                      <a:pt x="4321" y="94"/>
                    </a:lnTo>
                    <a:lnTo>
                      <a:pt x="4517" y="196"/>
                    </a:lnTo>
                    <a:lnTo>
                      <a:pt x="4630" y="40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4" name=""/>
              <p:cNvGrpSpPr/>
              <p:nvPr/>
            </p:nvGrpSpPr>
            <p:grpSpPr>
              <a:xfrm>
                <a:off x="1676520" y="3823200"/>
                <a:ext cx="3390480" cy="554760"/>
                <a:chOff x="1676520" y="3823200"/>
                <a:chExt cx="3390480" cy="554760"/>
              </a:xfrm>
            </p:grpSpPr>
            <p:grpSp>
              <p:nvGrpSpPr>
                <p:cNvPr id="155" name=""/>
                <p:cNvGrpSpPr/>
                <p:nvPr/>
              </p:nvGrpSpPr>
              <p:grpSpPr>
                <a:xfrm>
                  <a:off x="1676520" y="4003200"/>
                  <a:ext cx="203760" cy="317880"/>
                  <a:chOff x="1676520" y="4003200"/>
                  <a:chExt cx="203760" cy="31788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>
                    <a:off x="1693440" y="4068720"/>
                    <a:ext cx="77760" cy="1224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1693440" y="4003200"/>
                    <a:ext cx="77760" cy="277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1693440" y="4044240"/>
                    <a:ext cx="77760" cy="1116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1693440" y="4028400"/>
                    <a:ext cx="150840" cy="140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640" y="21599"/>
                        </a:moveTo>
                        <a:arcTo wR="10800" hR="10800" stAng="5450983" swAng="539632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640" y="21599"/>
                        </a:moveTo>
                        <a:arcTo wR="10800" hR="10800" stAng="5450983" swAng="5396328"/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0" name=""/>
                  <p:cNvGrpSpPr/>
                  <p:nvPr/>
                </p:nvGrpSpPr>
                <p:grpSpPr>
                  <a:xfrm>
                    <a:off x="1676520" y="4285080"/>
                    <a:ext cx="203760" cy="11160"/>
                    <a:chOff x="1676520" y="4285080"/>
                    <a:chExt cx="203760" cy="11160"/>
                  </a:xfrm>
                </p:grpSpPr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1685520" y="4285080"/>
                      <a:ext cx="194760" cy="111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1676520" y="4285080"/>
                      <a:ext cx="22680" cy="111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3" name=""/>
                  <p:cNvGrpSpPr/>
                  <p:nvPr/>
                </p:nvGrpSpPr>
                <p:grpSpPr>
                  <a:xfrm>
                    <a:off x="1676520" y="4309920"/>
                    <a:ext cx="203760" cy="11160"/>
                    <a:chOff x="1676520" y="4309920"/>
                    <a:chExt cx="203760" cy="11160"/>
                  </a:xfrm>
                </p:grpSpPr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1685520" y="4309920"/>
                      <a:ext cx="194760" cy="111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1676520" y="4309920"/>
                      <a:ext cx="22680" cy="111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6" name=""/>
                  <p:cNvGrpSpPr/>
                  <p:nvPr/>
                </p:nvGrpSpPr>
                <p:grpSpPr>
                  <a:xfrm>
                    <a:off x="1676520" y="4259520"/>
                    <a:ext cx="203760" cy="11160"/>
                    <a:chOff x="1676520" y="4259520"/>
                    <a:chExt cx="203760" cy="11160"/>
                  </a:xfrm>
                </p:grpSpPr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1685520" y="4259520"/>
                      <a:ext cx="194760" cy="111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1676520" y="4259520"/>
                      <a:ext cx="22680" cy="111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69" name=""/>
                <p:cNvSpPr/>
                <p:nvPr/>
              </p:nvSpPr>
              <p:spPr>
                <a:xfrm>
                  <a:off x="1693440" y="3917880"/>
                  <a:ext cx="3373560" cy="460080"/>
                </a:xfrm>
                <a:custGeom>
                  <a:avLst/>
                  <a:gdLst/>
                  <a:ahLst/>
                  <a:rect l="l" t="t" r="r" b="b"/>
                  <a:pathLst>
                    <a:path w="5884" h="896">
                      <a:moveTo>
                        <a:pt x="294" y="0"/>
                      </a:moveTo>
                      <a:lnTo>
                        <a:pt x="34" y="0"/>
                      </a:lnTo>
                      <a:lnTo>
                        <a:pt x="0" y="139"/>
                      </a:lnTo>
                      <a:lnTo>
                        <a:pt x="115" y="139"/>
                      </a:lnTo>
                      <a:lnTo>
                        <a:pt x="115" y="639"/>
                      </a:lnTo>
                      <a:lnTo>
                        <a:pt x="341" y="865"/>
                      </a:lnTo>
                      <a:lnTo>
                        <a:pt x="392" y="888"/>
                      </a:lnTo>
                      <a:lnTo>
                        <a:pt x="435" y="896"/>
                      </a:lnTo>
                      <a:lnTo>
                        <a:pt x="428" y="782"/>
                      </a:lnTo>
                      <a:lnTo>
                        <a:pt x="422" y="646"/>
                      </a:lnTo>
                      <a:lnTo>
                        <a:pt x="452" y="531"/>
                      </a:lnTo>
                      <a:lnTo>
                        <a:pt x="494" y="446"/>
                      </a:lnTo>
                      <a:lnTo>
                        <a:pt x="549" y="371"/>
                      </a:lnTo>
                      <a:lnTo>
                        <a:pt x="628" y="297"/>
                      </a:lnTo>
                      <a:lnTo>
                        <a:pt x="721" y="242"/>
                      </a:lnTo>
                      <a:lnTo>
                        <a:pt x="851" y="208"/>
                      </a:lnTo>
                      <a:lnTo>
                        <a:pt x="1021" y="195"/>
                      </a:lnTo>
                      <a:lnTo>
                        <a:pt x="1139" y="225"/>
                      </a:lnTo>
                      <a:lnTo>
                        <a:pt x="1226" y="273"/>
                      </a:lnTo>
                      <a:lnTo>
                        <a:pt x="1298" y="327"/>
                      </a:lnTo>
                      <a:lnTo>
                        <a:pt x="1384" y="412"/>
                      </a:lnTo>
                      <a:lnTo>
                        <a:pt x="1439" y="506"/>
                      </a:lnTo>
                      <a:lnTo>
                        <a:pt x="1475" y="590"/>
                      </a:lnTo>
                      <a:lnTo>
                        <a:pt x="1487" y="671"/>
                      </a:lnTo>
                      <a:lnTo>
                        <a:pt x="1487" y="846"/>
                      </a:lnTo>
                      <a:lnTo>
                        <a:pt x="4058" y="896"/>
                      </a:lnTo>
                      <a:lnTo>
                        <a:pt x="4058" y="725"/>
                      </a:lnTo>
                      <a:lnTo>
                        <a:pt x="4094" y="609"/>
                      </a:lnTo>
                      <a:lnTo>
                        <a:pt x="4136" y="518"/>
                      </a:lnTo>
                      <a:lnTo>
                        <a:pt x="4199" y="433"/>
                      </a:lnTo>
                      <a:lnTo>
                        <a:pt x="4290" y="358"/>
                      </a:lnTo>
                      <a:lnTo>
                        <a:pt x="4382" y="309"/>
                      </a:lnTo>
                      <a:lnTo>
                        <a:pt x="4473" y="280"/>
                      </a:lnTo>
                      <a:lnTo>
                        <a:pt x="4633" y="280"/>
                      </a:lnTo>
                      <a:lnTo>
                        <a:pt x="4718" y="297"/>
                      </a:lnTo>
                      <a:lnTo>
                        <a:pt x="4805" y="335"/>
                      </a:lnTo>
                      <a:lnTo>
                        <a:pt x="4883" y="401"/>
                      </a:lnTo>
                      <a:lnTo>
                        <a:pt x="4958" y="487"/>
                      </a:lnTo>
                      <a:lnTo>
                        <a:pt x="5007" y="590"/>
                      </a:lnTo>
                      <a:lnTo>
                        <a:pt x="5037" y="701"/>
                      </a:lnTo>
                      <a:lnTo>
                        <a:pt x="5037" y="816"/>
                      </a:lnTo>
                      <a:lnTo>
                        <a:pt x="5884" y="813"/>
                      </a:lnTo>
                      <a:lnTo>
                        <a:pt x="5884" y="776"/>
                      </a:lnTo>
                      <a:lnTo>
                        <a:pt x="5857" y="776"/>
                      </a:lnTo>
                      <a:lnTo>
                        <a:pt x="5857" y="721"/>
                      </a:lnTo>
                      <a:lnTo>
                        <a:pt x="5883" y="718"/>
                      </a:lnTo>
                      <a:lnTo>
                        <a:pt x="5883" y="552"/>
                      </a:lnTo>
                      <a:lnTo>
                        <a:pt x="5860" y="518"/>
                      </a:lnTo>
                      <a:lnTo>
                        <a:pt x="5663" y="420"/>
                      </a:lnTo>
                      <a:lnTo>
                        <a:pt x="5447" y="335"/>
                      </a:lnTo>
                      <a:lnTo>
                        <a:pt x="5186" y="255"/>
                      </a:lnTo>
                      <a:lnTo>
                        <a:pt x="4903" y="188"/>
                      </a:lnTo>
                      <a:lnTo>
                        <a:pt x="4643" y="133"/>
                      </a:lnTo>
                      <a:lnTo>
                        <a:pt x="4395" y="90"/>
                      </a:lnTo>
                      <a:lnTo>
                        <a:pt x="4310" y="90"/>
                      </a:lnTo>
                      <a:lnTo>
                        <a:pt x="4254" y="114"/>
                      </a:lnTo>
                      <a:lnTo>
                        <a:pt x="3990" y="152"/>
                      </a:lnTo>
                      <a:lnTo>
                        <a:pt x="3781" y="170"/>
                      </a:lnTo>
                      <a:lnTo>
                        <a:pt x="2683" y="101"/>
                      </a:lnTo>
                      <a:lnTo>
                        <a:pt x="2156" y="59"/>
                      </a:lnTo>
                      <a:lnTo>
                        <a:pt x="1660" y="22"/>
                      </a:lnTo>
                      <a:lnTo>
                        <a:pt x="1409" y="4"/>
                      </a:lnTo>
                      <a:lnTo>
                        <a:pt x="29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3049920" y="3954960"/>
                  <a:ext cx="680040" cy="414720"/>
                </a:xfrm>
                <a:custGeom>
                  <a:avLst/>
                  <a:gdLst/>
                  <a:ahLst/>
                  <a:rect l="l" t="t" r="r" b="b"/>
                  <a:pathLst>
                    <a:path w="1188" h="806">
                      <a:moveTo>
                        <a:pt x="0" y="0"/>
                      </a:moveTo>
                      <a:lnTo>
                        <a:pt x="0" y="787"/>
                      </a:lnTo>
                      <a:lnTo>
                        <a:pt x="1188" y="806"/>
                      </a:lnTo>
                      <a:lnTo>
                        <a:pt x="1188" y="85"/>
                      </a:lnTo>
                      <a:lnTo>
                        <a:pt x="1030" y="69"/>
                      </a:lnTo>
                      <a:lnTo>
                        <a:pt x="814" y="54"/>
                      </a:lnTo>
                      <a:lnTo>
                        <a:pt x="596" y="44"/>
                      </a:lnTo>
                      <a:lnTo>
                        <a:pt x="455" y="31"/>
                      </a:lnTo>
                      <a:lnTo>
                        <a:pt x="316" y="23"/>
                      </a:lnTo>
                      <a:lnTo>
                        <a:pt x="129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1" name=""/>
                <p:cNvGrpSpPr/>
                <p:nvPr/>
              </p:nvGrpSpPr>
              <p:grpSpPr>
                <a:xfrm>
                  <a:off x="2500560" y="3823200"/>
                  <a:ext cx="1143000" cy="470880"/>
                  <a:chOff x="2500560" y="3823200"/>
                  <a:chExt cx="1143000" cy="47088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>
                    <a:off x="2500560" y="3823200"/>
                    <a:ext cx="130680" cy="6480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2524680" y="3845520"/>
                    <a:ext cx="18000" cy="16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922480" y="4011480"/>
                    <a:ext cx="721080" cy="282600"/>
                    <a:chOff x="2922480" y="4011480"/>
                    <a:chExt cx="721080" cy="28260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922480" y="4203720"/>
                      <a:ext cx="721080" cy="9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56" h="176">
                          <a:moveTo>
                            <a:pt x="0" y="98"/>
                          </a:moveTo>
                          <a:lnTo>
                            <a:pt x="0" y="176"/>
                          </a:lnTo>
                          <a:lnTo>
                            <a:pt x="1256" y="0"/>
                          </a:lnTo>
                          <a:lnTo>
                            <a:pt x="0" y="98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560" bIns="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2922480" y="4011480"/>
                      <a:ext cx="712800" cy="10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43" h="208">
                          <a:moveTo>
                            <a:pt x="0" y="0"/>
                          </a:moveTo>
                          <a:lnTo>
                            <a:pt x="0" y="81"/>
                          </a:lnTo>
                          <a:lnTo>
                            <a:pt x="1243" y="20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2922480" y="4074120"/>
                      <a:ext cx="712800" cy="6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43" h="128">
                          <a:moveTo>
                            <a:pt x="0" y="0"/>
                          </a:moveTo>
                          <a:lnTo>
                            <a:pt x="0" y="79"/>
                          </a:lnTo>
                          <a:lnTo>
                            <a:pt x="1243" y="12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160" bIns="20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922480" y="4134600"/>
                      <a:ext cx="72108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56" h="79">
                          <a:moveTo>
                            <a:pt x="0" y="0"/>
                          </a:moveTo>
                          <a:lnTo>
                            <a:pt x="0" y="79"/>
                          </a:lnTo>
                          <a:lnTo>
                            <a:pt x="1256" y="4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922480" y="4181040"/>
                      <a:ext cx="721080" cy="5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56" h="104">
                          <a:moveTo>
                            <a:pt x="0" y="25"/>
                          </a:moveTo>
                          <a:lnTo>
                            <a:pt x="0" y="104"/>
                          </a:lnTo>
                          <a:lnTo>
                            <a:pt x="1256" y="0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480" bIns="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80" name=""/>
            <p:cNvGrpSpPr/>
            <p:nvPr/>
          </p:nvGrpSpPr>
          <p:grpSpPr>
            <a:xfrm>
              <a:off x="1969920" y="4036680"/>
              <a:ext cx="2599560" cy="482760"/>
              <a:chOff x="1969920" y="4036680"/>
              <a:chExt cx="2599560" cy="48276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4037400" y="4036680"/>
                <a:ext cx="532080" cy="482760"/>
                <a:chOff x="4037400" y="4036680"/>
                <a:chExt cx="532080" cy="48276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4037400" y="4036680"/>
                  <a:ext cx="532080" cy="482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260960" y="4350600"/>
                  <a:ext cx="92520" cy="102960"/>
                </a:xfrm>
                <a:custGeom>
                  <a:avLst/>
                  <a:gdLst/>
                  <a:ahLst/>
                  <a:rect l="l" t="t" r="r" b="b"/>
                  <a:pathLst>
                    <a:path w="163" h="200">
                      <a:moveTo>
                        <a:pt x="0" y="186"/>
                      </a:moveTo>
                      <a:lnTo>
                        <a:pt x="64" y="0"/>
                      </a:lnTo>
                      <a:lnTo>
                        <a:pt x="103" y="0"/>
                      </a:lnTo>
                      <a:lnTo>
                        <a:pt x="163" y="193"/>
                      </a:lnTo>
                      <a:lnTo>
                        <a:pt x="84" y="200"/>
                      </a:lnTo>
                      <a:lnTo>
                        <a:pt x="0" y="18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255200" y="4101480"/>
                  <a:ext cx="95040" cy="102960"/>
                </a:xfrm>
                <a:custGeom>
                  <a:avLst/>
                  <a:gdLst/>
                  <a:ahLst/>
                  <a:rect l="l" t="t" r="r" b="b"/>
                  <a:pathLst>
                    <a:path w="166" h="201">
                      <a:moveTo>
                        <a:pt x="0" y="15"/>
                      </a:moveTo>
                      <a:lnTo>
                        <a:pt x="66" y="201"/>
                      </a:lnTo>
                      <a:lnTo>
                        <a:pt x="104" y="201"/>
                      </a:lnTo>
                      <a:lnTo>
                        <a:pt x="166" y="9"/>
                      </a:lnTo>
                      <a:lnTo>
                        <a:pt x="85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382640" y="4233240"/>
                  <a:ext cx="114480" cy="83160"/>
                </a:xfrm>
                <a:custGeom>
                  <a:avLst/>
                  <a:gdLst/>
                  <a:ahLst/>
                  <a:rect l="l" t="t" r="r" b="b"/>
                  <a:pathLst>
                    <a:path w="199" h="163">
                      <a:moveTo>
                        <a:pt x="185" y="0"/>
                      </a:moveTo>
                      <a:lnTo>
                        <a:pt x="0" y="65"/>
                      </a:lnTo>
                      <a:lnTo>
                        <a:pt x="0" y="104"/>
                      </a:lnTo>
                      <a:lnTo>
                        <a:pt x="190" y="163"/>
                      </a:lnTo>
                      <a:lnTo>
                        <a:pt x="199" y="85"/>
                      </a:lnTo>
                      <a:lnTo>
                        <a:pt x="185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109400" y="4233240"/>
                  <a:ext cx="114480" cy="83160"/>
                </a:xfrm>
                <a:custGeom>
                  <a:avLst/>
                  <a:gdLst/>
                  <a:ahLst/>
                  <a:rect l="l" t="t" r="r" b="b"/>
                  <a:pathLst>
                    <a:path w="199" h="163">
                      <a:moveTo>
                        <a:pt x="14" y="0"/>
                      </a:moveTo>
                      <a:lnTo>
                        <a:pt x="199" y="65"/>
                      </a:lnTo>
                      <a:lnTo>
                        <a:pt x="199" y="104"/>
                      </a:lnTo>
                      <a:lnTo>
                        <a:pt x="7" y="163"/>
                      </a:lnTo>
                      <a:lnTo>
                        <a:pt x="0" y="85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109400" y="4099320"/>
                  <a:ext cx="384120" cy="34992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8" name=""/>
                <p:cNvGrpSpPr/>
                <p:nvPr/>
              </p:nvGrpSpPr>
              <p:grpSpPr>
                <a:xfrm>
                  <a:off x="4230000" y="4208400"/>
                  <a:ext cx="144360" cy="132840"/>
                  <a:chOff x="4230000" y="4208400"/>
                  <a:chExt cx="144360" cy="13284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4230000" y="4208400"/>
                    <a:ext cx="144360" cy="132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4259520" y="4236120"/>
                    <a:ext cx="82080" cy="77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1" name=""/>
              <p:cNvGrpSpPr/>
              <p:nvPr/>
            </p:nvGrpSpPr>
            <p:grpSpPr>
              <a:xfrm>
                <a:off x="1969920" y="4036680"/>
                <a:ext cx="532800" cy="482760"/>
                <a:chOff x="1969920" y="4036680"/>
                <a:chExt cx="532800" cy="48276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1969920" y="4036680"/>
                  <a:ext cx="532800" cy="482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194200" y="4350600"/>
                  <a:ext cx="92520" cy="102960"/>
                </a:xfrm>
                <a:custGeom>
                  <a:avLst/>
                  <a:gdLst/>
                  <a:ahLst/>
                  <a:rect l="l" t="t" r="r" b="b"/>
                  <a:pathLst>
                    <a:path w="161" h="200">
                      <a:moveTo>
                        <a:pt x="0" y="186"/>
                      </a:moveTo>
                      <a:lnTo>
                        <a:pt x="62" y="0"/>
                      </a:lnTo>
                      <a:lnTo>
                        <a:pt x="101" y="0"/>
                      </a:lnTo>
                      <a:lnTo>
                        <a:pt x="161" y="193"/>
                      </a:lnTo>
                      <a:lnTo>
                        <a:pt x="83" y="200"/>
                      </a:lnTo>
                      <a:lnTo>
                        <a:pt x="0" y="18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2188440" y="4101480"/>
                  <a:ext cx="95040" cy="102960"/>
                </a:xfrm>
                <a:custGeom>
                  <a:avLst/>
                  <a:gdLst/>
                  <a:ahLst/>
                  <a:rect l="l" t="t" r="r" b="b"/>
                  <a:pathLst>
                    <a:path w="167" h="201">
                      <a:moveTo>
                        <a:pt x="0" y="15"/>
                      </a:moveTo>
                      <a:lnTo>
                        <a:pt x="66" y="201"/>
                      </a:lnTo>
                      <a:lnTo>
                        <a:pt x="106" y="201"/>
                      </a:lnTo>
                      <a:lnTo>
                        <a:pt x="167" y="9"/>
                      </a:lnTo>
                      <a:lnTo>
                        <a:pt x="86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2315880" y="4233240"/>
                  <a:ext cx="114480" cy="83160"/>
                </a:xfrm>
                <a:custGeom>
                  <a:avLst/>
                  <a:gdLst/>
                  <a:ahLst/>
                  <a:rect l="l" t="t" r="r" b="b"/>
                  <a:pathLst>
                    <a:path w="200" h="163">
                      <a:moveTo>
                        <a:pt x="186" y="0"/>
                      </a:moveTo>
                      <a:lnTo>
                        <a:pt x="0" y="65"/>
                      </a:lnTo>
                      <a:lnTo>
                        <a:pt x="0" y="104"/>
                      </a:lnTo>
                      <a:lnTo>
                        <a:pt x="192" y="163"/>
                      </a:lnTo>
                      <a:lnTo>
                        <a:pt x="200" y="85"/>
                      </a:lnTo>
                      <a:lnTo>
                        <a:pt x="18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041920" y="4233240"/>
                  <a:ext cx="114480" cy="83160"/>
                </a:xfrm>
                <a:custGeom>
                  <a:avLst/>
                  <a:gdLst/>
                  <a:ahLst/>
                  <a:rect l="l" t="t" r="r" b="b"/>
                  <a:pathLst>
                    <a:path w="201" h="163">
                      <a:moveTo>
                        <a:pt x="15" y="0"/>
                      </a:moveTo>
                      <a:lnTo>
                        <a:pt x="201" y="65"/>
                      </a:lnTo>
                      <a:lnTo>
                        <a:pt x="201" y="104"/>
                      </a:lnTo>
                      <a:lnTo>
                        <a:pt x="9" y="163"/>
                      </a:lnTo>
                      <a:lnTo>
                        <a:pt x="0" y="85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2041920" y="4099320"/>
                  <a:ext cx="384120" cy="34992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8" name=""/>
                <p:cNvGrpSpPr/>
                <p:nvPr/>
              </p:nvGrpSpPr>
              <p:grpSpPr>
                <a:xfrm>
                  <a:off x="2162160" y="4208400"/>
                  <a:ext cx="145440" cy="132840"/>
                  <a:chOff x="2162160" y="4208400"/>
                  <a:chExt cx="145440" cy="13284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>
                    <a:off x="2162160" y="4208400"/>
                    <a:ext cx="145440" cy="132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2192760" y="4236120"/>
                    <a:ext cx="81360" cy="77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01" name=""/>
          <p:cNvGrpSpPr/>
          <p:nvPr/>
        </p:nvGrpSpPr>
        <p:grpSpPr>
          <a:xfrm>
            <a:off x="6934320" y="3429000"/>
            <a:ext cx="1798920" cy="1618200"/>
            <a:chOff x="6934320" y="3429000"/>
            <a:chExt cx="1798920" cy="1618200"/>
          </a:xfrm>
        </p:grpSpPr>
        <p:grpSp>
          <p:nvGrpSpPr>
            <p:cNvPr id="202" name=""/>
            <p:cNvGrpSpPr/>
            <p:nvPr/>
          </p:nvGrpSpPr>
          <p:grpSpPr>
            <a:xfrm>
              <a:off x="6934320" y="3429000"/>
              <a:ext cx="1798920" cy="1618200"/>
              <a:chOff x="6934320" y="3429000"/>
              <a:chExt cx="1798920" cy="1618200"/>
            </a:xfrm>
          </p:grpSpPr>
          <p:sp>
            <p:nvSpPr>
              <p:cNvPr id="203" name=""/>
              <p:cNvSpPr/>
              <p:nvPr/>
            </p:nvSpPr>
            <p:spPr>
              <a:xfrm>
                <a:off x="6934320" y="3429000"/>
                <a:ext cx="1798920" cy="161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692480" y="4481640"/>
                <a:ext cx="313200" cy="344880"/>
              </a:xfrm>
              <a:custGeom>
                <a:avLst/>
                <a:gdLst/>
                <a:ahLst/>
                <a:rect l="l" t="t" r="r" b="b"/>
                <a:pathLst>
                  <a:path w="161" h="200">
                    <a:moveTo>
                      <a:pt x="0" y="186"/>
                    </a:moveTo>
                    <a:lnTo>
                      <a:pt x="62" y="0"/>
                    </a:lnTo>
                    <a:lnTo>
                      <a:pt x="101" y="0"/>
                    </a:lnTo>
                    <a:lnTo>
                      <a:pt x="161" y="193"/>
                    </a:lnTo>
                    <a:lnTo>
                      <a:pt x="83" y="200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673040" y="3646440"/>
                <a:ext cx="321120" cy="344880"/>
              </a:xfrm>
              <a:custGeom>
                <a:avLst/>
                <a:gdLst/>
                <a:ahLst/>
                <a:rect l="l" t="t" r="r" b="b"/>
                <a:pathLst>
                  <a:path w="167" h="201">
                    <a:moveTo>
                      <a:pt x="0" y="15"/>
                    </a:moveTo>
                    <a:lnTo>
                      <a:pt x="66" y="201"/>
                    </a:lnTo>
                    <a:lnTo>
                      <a:pt x="106" y="201"/>
                    </a:lnTo>
                    <a:lnTo>
                      <a:pt x="167" y="9"/>
                    </a:lnTo>
                    <a:lnTo>
                      <a:pt x="86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102160" y="4087800"/>
                <a:ext cx="387000" cy="279360"/>
              </a:xfrm>
              <a:custGeom>
                <a:avLst/>
                <a:gdLst/>
                <a:ahLst/>
                <a:rect l="l" t="t" r="r" b="b"/>
                <a:pathLst>
                  <a:path w="200" h="163">
                    <a:moveTo>
                      <a:pt x="186" y="0"/>
                    </a:moveTo>
                    <a:lnTo>
                      <a:pt x="0" y="65"/>
                    </a:lnTo>
                    <a:lnTo>
                      <a:pt x="0" y="104"/>
                    </a:lnTo>
                    <a:lnTo>
                      <a:pt x="192" y="163"/>
                    </a:lnTo>
                    <a:lnTo>
                      <a:pt x="200" y="85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177320" y="4087800"/>
                <a:ext cx="387000" cy="279360"/>
              </a:xfrm>
              <a:custGeom>
                <a:avLst/>
                <a:gdLst/>
                <a:ahLst/>
                <a:rect l="l" t="t" r="r" b="b"/>
                <a:pathLst>
                  <a:path w="201" h="163">
                    <a:moveTo>
                      <a:pt x="15" y="0"/>
                    </a:moveTo>
                    <a:lnTo>
                      <a:pt x="201" y="65"/>
                    </a:lnTo>
                    <a:lnTo>
                      <a:pt x="201" y="104"/>
                    </a:lnTo>
                    <a:lnTo>
                      <a:pt x="9" y="163"/>
                    </a:lnTo>
                    <a:lnTo>
                      <a:pt x="0" y="8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177320" y="3639240"/>
                <a:ext cx="1297080" cy="117288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9" name=""/>
              <p:cNvGrpSpPr/>
              <p:nvPr/>
            </p:nvGrpSpPr>
            <p:grpSpPr>
              <a:xfrm>
                <a:off x="7583400" y="4005000"/>
                <a:ext cx="490680" cy="444600"/>
                <a:chOff x="7583400" y="4005000"/>
                <a:chExt cx="490680" cy="44460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7583400" y="4005000"/>
                  <a:ext cx="490680" cy="44460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687440" y="4097880"/>
                  <a:ext cx="275040" cy="25848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2" name=""/>
            <p:cNvSpPr/>
            <p:nvPr/>
          </p:nvSpPr>
          <p:spPr>
            <a:xfrm>
              <a:off x="7785720" y="3996360"/>
              <a:ext cx="113040" cy="100800"/>
            </a:xfrm>
            <a:prstGeom prst="hexagon">
              <a:avLst>
                <a:gd name="adj" fmla="val 28036"/>
                <a:gd name="vf" fmla="val 1154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83200" y="4358520"/>
              <a:ext cx="113400" cy="101160"/>
            </a:xfrm>
            <a:prstGeom prst="hexagon">
              <a:avLst>
                <a:gd name="adj" fmla="val 28025"/>
                <a:gd name="vf" fmla="val 1154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9440" bIns="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05720" y="4171320"/>
              <a:ext cx="113400" cy="100800"/>
            </a:xfrm>
            <a:prstGeom prst="hexagon">
              <a:avLst>
                <a:gd name="adj" fmla="val 28125"/>
                <a:gd name="vf" fmla="val 1154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67520" y="4171320"/>
              <a:ext cx="113400" cy="100800"/>
            </a:xfrm>
            <a:prstGeom prst="hexagon">
              <a:avLst>
                <a:gd name="adj" fmla="val 28125"/>
                <a:gd name="vf" fmla="val 1154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267080" y="4495680"/>
            <a:ext cx="350532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267080" y="3428640"/>
            <a:ext cx="350532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tribution Implement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render items that fall below a size threshold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creen space size of bounding volu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less computational approach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ance to object combined with some notion of global object s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s geometry rat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lled vertices are not transformed, lit, and clip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s host download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 data moved from memory into graphic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ssists occluder se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es not change fill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reen space projection already mini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ves few pixels from rasterization st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tribution Usefulnes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ch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ul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vel of Detail (LOD) manag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plication architectu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fter culling, need to draw what is lef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ill too much geometry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multiple Levels of Detail, I.e. multi-resolution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tch geometric complexity to visible on-screen space covera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duce geometric complexity to maintain target frame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095560" y="1905120"/>
            <a:ext cx="60958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ssu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nerating LODs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ight Fields vs 3D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w-Dependent: nice, but compute inten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w-Independent: fast, memory inten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ed to decide which LOD level to u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trivia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ed smooth transitions between leve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omorp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eight Field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nerally thought of as infinite terra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ecialized algorithms can be us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terrain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523880" y="3200400"/>
            <a:ext cx="691200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3D Model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neral purpose simplification algorith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use on height fields als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re are real-time view-dependent algorith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so used for compres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lod" descr=""/>
          <p:cNvPicPr/>
          <p:nvPr/>
        </p:nvPicPr>
        <p:blipFill>
          <a:blip r:embed="rId1"/>
          <a:stretch/>
        </p:blipFill>
        <p:spPr>
          <a:xfrm>
            <a:off x="690480" y="3692520"/>
            <a:ext cx="9183600" cy="2071800"/>
          </a:xfrm>
          <a:prstGeom prst="rect">
            <a:avLst/>
          </a:prstGeom>
          <a:ln w="0">
            <a:noFill/>
          </a:ln>
        </p:spPr>
      </p:pic>
      <p:grpSp>
        <p:nvGrpSpPr>
          <p:cNvPr id="233" name=""/>
          <p:cNvGrpSpPr/>
          <p:nvPr/>
        </p:nvGrpSpPr>
        <p:grpSpPr>
          <a:xfrm>
            <a:off x="912240" y="5667480"/>
            <a:ext cx="8859240" cy="424080"/>
            <a:chOff x="912240" y="5667480"/>
            <a:chExt cx="8859240" cy="424080"/>
          </a:xfrm>
        </p:grpSpPr>
        <p:sp>
          <p:nvSpPr>
            <p:cNvPr id="234" name=""/>
            <p:cNvSpPr/>
            <p:nvPr/>
          </p:nvSpPr>
          <p:spPr>
            <a:xfrm>
              <a:off x="912240" y="5667480"/>
              <a:ext cx="186696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024 Triang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413520" y="5667480"/>
              <a:ext cx="172512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56 Triang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895360" y="5667480"/>
              <a:ext cx="158364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64 Triang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187840" y="5667480"/>
              <a:ext cx="158364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6 Triang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When to switch LOD level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bility to only generate LOD models is not sufficien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ed to know when to use which LOD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constant hard metric: distance from ey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heuristics: cost, benefit, rank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bias LODs to ensure frame rate targets are reach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evel determin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termine system rendering characterist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termine cost of rendering each ob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nder objects with highest benefit while remaining under the target frame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Level determination can be time consuming!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snap" descr=""/>
          <p:cNvPicPr/>
          <p:nvPr/>
        </p:nvPicPr>
        <p:blipFill>
          <a:blip r:embed="rId1">
            <a:biLevel thresh="50000"/>
            <a:lum bright="-48000"/>
          </a:blip>
          <a:stretch/>
        </p:blipFill>
        <p:spPr>
          <a:xfrm>
            <a:off x="7543800" y="3049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termining cost of render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ost is affected by many factor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raphics hardware: published benchmarks, startup tes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umber of vertices: primarily a function of LOD algorith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ndering Quality: lighting, shading, wire frame, anti-aliasing, et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14680" y="1905120"/>
            <a:ext cx="6858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enefit Fun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ost alone is not good enough, need benefit also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ndered size of ob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rror tolerance between LOD level and reference mod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ortance in sce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rame-to-frame coherenc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rade-off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have enough time to run full LOD optimization problem and render the scen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plify cost and benefit func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plify optimization problem into a ranking of Benefit/Co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frame-to-frame coherenc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 sure to consider time taken to calculate LO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snap" descr=""/>
          <p:cNvPicPr/>
          <p:nvPr/>
        </p:nvPicPr>
        <p:blipFill>
          <a:blip r:embed="rId1">
            <a:biLevel thresh="50000"/>
            <a:lum bright="-48000"/>
          </a:blip>
          <a:stretch/>
        </p:blipFill>
        <p:spPr>
          <a:xfrm>
            <a:off x="7543800" y="3049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arget Frame Rat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 target frame rate attempts to bound the maximum render tim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trol Culling and LOD aggressiven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intain a constant frame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chieve an acceptable interactive frame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snap" descr=""/>
          <p:cNvPicPr/>
          <p:nvPr/>
        </p:nvPicPr>
        <p:blipFill>
          <a:blip r:embed="rId1">
            <a:biLevel thresh="50000"/>
            <a:lum bright="-48000"/>
          </a:blip>
          <a:stretch/>
        </p:blipFill>
        <p:spPr>
          <a:xfrm>
            <a:off x="7543800" y="3049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Rendering Path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plication work, culling, LOD, draw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rendering path forms a pipel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43560" y="5638680"/>
            <a:ext cx="111420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371600" y="3276720"/>
            <a:ext cx="5314320" cy="533520"/>
            <a:chOff x="1371600" y="3276720"/>
            <a:chExt cx="5314320" cy="533520"/>
          </a:xfrm>
        </p:grpSpPr>
        <p:grpSp>
          <p:nvGrpSpPr>
            <p:cNvPr id="55" name=""/>
            <p:cNvGrpSpPr/>
            <p:nvPr/>
          </p:nvGrpSpPr>
          <p:grpSpPr>
            <a:xfrm>
              <a:off x="1371600" y="3276720"/>
              <a:ext cx="1028160" cy="533520"/>
              <a:chOff x="1371600" y="3276720"/>
              <a:chExt cx="1028160" cy="533520"/>
            </a:xfrm>
          </p:grpSpPr>
          <p:sp>
            <p:nvSpPr>
              <p:cNvPr id="56" name=""/>
              <p:cNvSpPr/>
              <p:nvPr/>
            </p:nvSpPr>
            <p:spPr>
              <a:xfrm>
                <a:off x="1371600" y="3276720"/>
                <a:ext cx="1028160" cy="533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57280" y="3276720"/>
                <a:ext cx="722520" cy="491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Ap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2800080" y="3276720"/>
              <a:ext cx="1028160" cy="533520"/>
              <a:chOff x="2800080" y="3276720"/>
              <a:chExt cx="1028160" cy="533520"/>
            </a:xfrm>
          </p:grpSpPr>
          <p:sp>
            <p:nvSpPr>
              <p:cNvPr id="59" name=""/>
              <p:cNvSpPr/>
              <p:nvPr/>
            </p:nvSpPr>
            <p:spPr>
              <a:xfrm>
                <a:off x="2800080" y="3276720"/>
                <a:ext cx="1028160" cy="533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886840" y="3276720"/>
                <a:ext cx="704160" cy="491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Cul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4228920" y="3276720"/>
              <a:ext cx="1028160" cy="533520"/>
              <a:chOff x="4228920" y="3276720"/>
              <a:chExt cx="1028160" cy="533520"/>
            </a:xfrm>
          </p:grpSpPr>
          <p:sp>
            <p:nvSpPr>
              <p:cNvPr id="62" name=""/>
              <p:cNvSpPr/>
              <p:nvPr/>
            </p:nvSpPr>
            <p:spPr>
              <a:xfrm>
                <a:off x="4228920" y="3276720"/>
                <a:ext cx="1028160" cy="533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314240" y="3276720"/>
                <a:ext cx="807840" cy="491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LOD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5657760" y="3276720"/>
              <a:ext cx="1028160" cy="533160"/>
              <a:chOff x="5657760" y="3276720"/>
              <a:chExt cx="1028160" cy="533160"/>
            </a:xfrm>
          </p:grpSpPr>
          <p:sp>
            <p:nvSpPr>
              <p:cNvPr id="65" name=""/>
              <p:cNvSpPr/>
              <p:nvPr/>
            </p:nvSpPr>
            <p:spPr>
              <a:xfrm>
                <a:off x="5657760" y="3276720"/>
                <a:ext cx="1028160" cy="53316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658120" y="3276720"/>
                <a:ext cx="891720" cy="491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Draw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2400120" y="3505320"/>
              <a:ext cx="42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57400" y="3505320"/>
              <a:ext cx="42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29000" y="3505320"/>
              <a:ext cx="42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Application Architectures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re stages give more time to cull or generate LO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ch stage adds latenc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92760" y="3079800"/>
            <a:ext cx="9480960" cy="3013200"/>
            <a:chOff x="392760" y="3079800"/>
            <a:chExt cx="9480960" cy="3013200"/>
          </a:xfrm>
        </p:grpSpPr>
        <p:grpSp>
          <p:nvGrpSpPr>
            <p:cNvPr id="257" name=""/>
            <p:cNvGrpSpPr/>
            <p:nvPr/>
          </p:nvGrpSpPr>
          <p:grpSpPr>
            <a:xfrm>
              <a:off x="1646640" y="3079800"/>
              <a:ext cx="8227080" cy="3013200"/>
              <a:chOff x="1646640" y="3079800"/>
              <a:chExt cx="8227080" cy="3013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817520" y="5853240"/>
                <a:ext cx="1114200" cy="72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1646640" y="3315240"/>
                <a:ext cx="8227080" cy="1925280"/>
                <a:chOff x="1646640" y="3315240"/>
                <a:chExt cx="8227080" cy="192528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1646640" y="3315240"/>
                  <a:ext cx="5312880" cy="506880"/>
                  <a:chOff x="1646640" y="3315240"/>
                  <a:chExt cx="5312880" cy="506880"/>
                </a:xfrm>
              </p:grpSpPr>
              <p:grpSp>
                <p:nvGrpSpPr>
                  <p:cNvPr id="261" name=""/>
                  <p:cNvGrpSpPr/>
                  <p:nvPr/>
                </p:nvGrpSpPr>
                <p:grpSpPr>
                  <a:xfrm>
                    <a:off x="1646640" y="3315240"/>
                    <a:ext cx="1027800" cy="506880"/>
                    <a:chOff x="1646640" y="3315240"/>
                    <a:chExt cx="1027800" cy="506880"/>
                  </a:xfrm>
                </p:grpSpPr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1646640" y="331524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1732320" y="3315240"/>
                      <a:ext cx="7225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4" name=""/>
                  <p:cNvGrpSpPr/>
                  <p:nvPr/>
                </p:nvGrpSpPr>
                <p:grpSpPr>
                  <a:xfrm>
                    <a:off x="3074400" y="3315240"/>
                    <a:ext cx="1027800" cy="506880"/>
                    <a:chOff x="3074400" y="3315240"/>
                    <a:chExt cx="1027800" cy="506880"/>
                  </a:xfrm>
                </p:grpSpPr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3074400" y="331524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3161160" y="3315240"/>
                      <a:ext cx="70416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4502880" y="3315240"/>
                    <a:ext cx="1027800" cy="506880"/>
                    <a:chOff x="4502880" y="3315240"/>
                    <a:chExt cx="1027800" cy="50688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4502880" y="331524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4587840" y="3315240"/>
                      <a:ext cx="80784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0" name=""/>
                  <p:cNvGrpSpPr/>
                  <p:nvPr/>
                </p:nvGrpSpPr>
                <p:grpSpPr>
                  <a:xfrm>
                    <a:off x="5931720" y="3315240"/>
                    <a:ext cx="1027800" cy="506880"/>
                    <a:chOff x="5931720" y="3315240"/>
                    <a:chExt cx="1027800" cy="506880"/>
                  </a:xfrm>
                </p:grpSpPr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5931720" y="331524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5932080" y="3315240"/>
                      <a:ext cx="8917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73" name=""/>
                  <p:cNvSpPr/>
                  <p:nvPr/>
                </p:nvSpPr>
                <p:spPr>
                  <a:xfrm>
                    <a:off x="2674800" y="353232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4131720" y="353232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5503320" y="353232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6" name=""/>
                <p:cNvGrpSpPr/>
                <p:nvPr/>
              </p:nvGrpSpPr>
              <p:grpSpPr>
                <a:xfrm>
                  <a:off x="3103560" y="4023360"/>
                  <a:ext cx="5312880" cy="506880"/>
                  <a:chOff x="3103560" y="4023360"/>
                  <a:chExt cx="5312880" cy="506880"/>
                </a:xfrm>
              </p:grpSpPr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3103560" y="4023360"/>
                    <a:ext cx="1027800" cy="506880"/>
                    <a:chOff x="3103560" y="4023360"/>
                    <a:chExt cx="1027800" cy="50688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3103560" y="402336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3189240" y="4023360"/>
                      <a:ext cx="7225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0" name=""/>
                  <p:cNvGrpSpPr/>
                  <p:nvPr/>
                </p:nvGrpSpPr>
                <p:grpSpPr>
                  <a:xfrm>
                    <a:off x="4531320" y="4023360"/>
                    <a:ext cx="1027800" cy="506880"/>
                    <a:chOff x="4531320" y="4023360"/>
                    <a:chExt cx="1027800" cy="506880"/>
                  </a:xfrm>
                </p:grpSpPr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4531320" y="402336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4618080" y="4023360"/>
                      <a:ext cx="70416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3" name=""/>
                  <p:cNvGrpSpPr/>
                  <p:nvPr/>
                </p:nvGrpSpPr>
                <p:grpSpPr>
                  <a:xfrm>
                    <a:off x="5959800" y="4023360"/>
                    <a:ext cx="1027800" cy="506880"/>
                    <a:chOff x="5959800" y="4023360"/>
                    <a:chExt cx="1027800" cy="506880"/>
                  </a:xfrm>
                </p:grpSpPr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5959800" y="402336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6044760" y="4023360"/>
                      <a:ext cx="80784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6" name=""/>
                  <p:cNvGrpSpPr/>
                  <p:nvPr/>
                </p:nvGrpSpPr>
                <p:grpSpPr>
                  <a:xfrm>
                    <a:off x="7388640" y="4023360"/>
                    <a:ext cx="1027800" cy="506880"/>
                    <a:chOff x="7388640" y="4023360"/>
                    <a:chExt cx="1027800" cy="506880"/>
                  </a:xfrm>
                </p:grpSpPr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7388640" y="402336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7389000" y="4023360"/>
                      <a:ext cx="8917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9" name=""/>
                  <p:cNvSpPr/>
                  <p:nvPr/>
                </p:nvSpPr>
                <p:spPr>
                  <a:xfrm>
                    <a:off x="4131720" y="424044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5588640" y="424044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6960240" y="424044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2" name=""/>
                <p:cNvGrpSpPr/>
                <p:nvPr/>
              </p:nvGrpSpPr>
              <p:grpSpPr>
                <a:xfrm>
                  <a:off x="4560480" y="4733280"/>
                  <a:ext cx="5313240" cy="507240"/>
                  <a:chOff x="4560480" y="4733280"/>
                  <a:chExt cx="5313240" cy="507240"/>
                </a:xfrm>
              </p:grpSpPr>
              <p:grpSp>
                <p:nvGrpSpPr>
                  <p:cNvPr id="293" name=""/>
                  <p:cNvGrpSpPr/>
                  <p:nvPr/>
                </p:nvGrpSpPr>
                <p:grpSpPr>
                  <a:xfrm>
                    <a:off x="4560480" y="4733280"/>
                    <a:ext cx="1028160" cy="507240"/>
                    <a:chOff x="4560480" y="4733280"/>
                    <a:chExt cx="1028160" cy="507240"/>
                  </a:xfrm>
                </p:grpSpPr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4560480" y="4733280"/>
                      <a:ext cx="1028160" cy="50724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4646160" y="4733280"/>
                      <a:ext cx="7225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6" name=""/>
                  <p:cNvGrpSpPr/>
                  <p:nvPr/>
                </p:nvGrpSpPr>
                <p:grpSpPr>
                  <a:xfrm>
                    <a:off x="5988600" y="4733280"/>
                    <a:ext cx="1028160" cy="507240"/>
                    <a:chOff x="5988600" y="4733280"/>
                    <a:chExt cx="1028160" cy="507240"/>
                  </a:xfrm>
                </p:grpSpPr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5988600" y="4733280"/>
                      <a:ext cx="1028160" cy="50724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6075360" y="4733280"/>
                      <a:ext cx="70416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9" name=""/>
                  <p:cNvGrpSpPr/>
                  <p:nvPr/>
                </p:nvGrpSpPr>
                <p:grpSpPr>
                  <a:xfrm>
                    <a:off x="7417080" y="4733280"/>
                    <a:ext cx="1028160" cy="507240"/>
                    <a:chOff x="7417080" y="4733280"/>
                    <a:chExt cx="1028160" cy="507240"/>
                  </a:xfrm>
                </p:grpSpPr>
                <p:sp>
                  <p:nvSpPr>
                    <p:cNvPr id="300" name=""/>
                    <p:cNvSpPr/>
                    <p:nvPr/>
                  </p:nvSpPr>
                  <p:spPr>
                    <a:xfrm>
                      <a:off x="7417080" y="4733280"/>
                      <a:ext cx="1028160" cy="50724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7502400" y="4733280"/>
                      <a:ext cx="80784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2" name=""/>
                  <p:cNvGrpSpPr/>
                  <p:nvPr/>
                </p:nvGrpSpPr>
                <p:grpSpPr>
                  <a:xfrm>
                    <a:off x="8845560" y="4733280"/>
                    <a:ext cx="1028160" cy="507240"/>
                    <a:chOff x="8845560" y="4733280"/>
                    <a:chExt cx="1028160" cy="507240"/>
                  </a:xfrm>
                </p:grpSpPr>
                <p:sp>
                  <p:nvSpPr>
                    <p:cNvPr id="303" name=""/>
                    <p:cNvSpPr/>
                    <p:nvPr/>
                  </p:nvSpPr>
                  <p:spPr>
                    <a:xfrm>
                      <a:off x="8845560" y="4733280"/>
                      <a:ext cx="1028160" cy="50724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8845920" y="4733280"/>
                      <a:ext cx="8917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05" name=""/>
                  <p:cNvSpPr/>
                  <p:nvPr/>
                </p:nvSpPr>
                <p:spPr>
                  <a:xfrm>
                    <a:off x="5589000" y="4950360"/>
                    <a:ext cx="42840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7045920" y="4950360"/>
                    <a:ext cx="42840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8417160" y="4950360"/>
                    <a:ext cx="42840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8" name=""/>
              <p:cNvSpPr/>
              <p:nvPr/>
            </p:nvSpPr>
            <p:spPr>
              <a:xfrm>
                <a:off x="2867760" y="3079800"/>
                <a:ext cx="0" cy="2945880"/>
              </a:xfrm>
              <a:prstGeom prst="line">
                <a:avLst/>
              </a:prstGeom>
              <a:ln w="28440">
                <a:solidFill>
                  <a:srgbClr val="97939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760720" y="3079800"/>
                <a:ext cx="0" cy="2945880"/>
              </a:xfrm>
              <a:prstGeom prst="line">
                <a:avLst/>
              </a:prstGeom>
              <a:ln w="28440">
                <a:solidFill>
                  <a:srgbClr val="97939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196400" y="3079800"/>
                <a:ext cx="0" cy="2945880"/>
              </a:xfrm>
              <a:prstGeom prst="line">
                <a:avLst/>
              </a:prstGeom>
              <a:ln w="28440">
                <a:solidFill>
                  <a:srgbClr val="97939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8739000" y="3079800"/>
                <a:ext cx="0" cy="2945880"/>
              </a:xfrm>
              <a:prstGeom prst="line">
                <a:avLst/>
              </a:prstGeom>
              <a:ln w="28440">
                <a:solidFill>
                  <a:srgbClr val="97939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335840" y="3079800"/>
                <a:ext cx="0" cy="2945880"/>
              </a:xfrm>
              <a:prstGeom prst="line">
                <a:avLst/>
              </a:prstGeom>
              <a:ln w="28440">
                <a:solidFill>
                  <a:srgbClr val="97939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82736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37212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80960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19056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80948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919044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392760" y="3289680"/>
              <a:ext cx="1161360" cy="5464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ram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92760" y="4023720"/>
              <a:ext cx="1161360" cy="5464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ram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92760" y="4739760"/>
              <a:ext cx="1161360" cy="5464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ram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Application Architectures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rd part is data synchroniz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pelining simplifies synchron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atch out for memory blo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Application Architectures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cene Graph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 scene graph is the basic data structures holding the description of your scen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ull-able, sort-able, and can contain multi-resolution obj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ierarchical Bounding Volum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atistics gathering and timing infrastru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r large scenes can do memory management and database pag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Application Architectures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rade-off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e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mo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plication Complex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yinyang" descr=""/>
          <p:cNvPicPr/>
          <p:nvPr/>
        </p:nvPicPr>
        <p:blipFill>
          <a:blip r:embed="rId1"/>
          <a:stretch/>
        </p:blipFill>
        <p:spPr>
          <a:xfrm>
            <a:off x="7308720" y="257040"/>
            <a:ext cx="1381320" cy="12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: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Most importantly - Think about balance!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snap" descr=""/>
          <p:cNvPicPr/>
          <p:nvPr/>
        </p:nvPicPr>
        <p:blipFill>
          <a:blip r:embed="rId1">
            <a:biLevel thresh="50000"/>
            <a:lum bright="-48000"/>
          </a:blip>
          <a:stretch/>
        </p:blipFill>
        <p:spPr>
          <a:xfrm>
            <a:off x="3124080" y="2590920"/>
            <a:ext cx="3181320" cy="31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Techniqu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ch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rving data to avoid rerend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ulling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ving geometry that isn't vi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vel of Detail Managemen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ing geometric complex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534520" y="3048120"/>
            <a:ext cx="1143000" cy="1414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010280" y="4343400"/>
            <a:ext cx="1216080" cy="13082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8381880" y="5410080"/>
            <a:ext cx="951120" cy="24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ch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recompute what can be stored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redraw what has already been drawn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ch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Geometry caching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splay lis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mage caching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cking sto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pplication data caching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eometry Cach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aches geometry in a format that can be quickly traversed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isplay list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d by graphics AP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reated by application develop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Make as flat as possibl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eometry Caching: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ccelerates traversa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s memory locality and data align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plifies traversal logi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plifies state manag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3T15:38:34Z</dcterms:created>
  <dc:creator>Keith Cok</dc:creator>
  <dc:description/>
  <dc:language>en-US</dc:language>
  <cp:lastModifiedBy>Keith Cok</cp:lastModifiedBy>
  <cp:lastPrinted>2000-06-06T19:18:09Z</cp:lastPrinted>
  <dcterms:modified xsi:type="dcterms:W3CDTF">2000-08-07T19:58:07Z</dcterms:modified>
  <cp:revision>32</cp:revision>
  <dc:subject/>
  <dc:title>Developing Efficient Graphics Software</dc:title>
</cp:coreProperties>
</file>