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C205-1555-469F-ACC0-0A80E187E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844560" y="68904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 to the siggraph course on Developing Efficien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out this course, we’ll be covering a variety of topics  related to writing fas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 adsf asdf ds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2985-F85D-4D8F-AFBF-70B2B6505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57A9-6327-4EF3-AF5F-F23EE0D66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C9E4-3939-4F49-B83D-959A38F3D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C226-B7E7-4247-BFDC-1739FAD605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91E0-AE2C-4283-A704-843425AC30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47F5-97DF-4022-915C-9658834CD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66EF-81B7-4442-9E17-9CA504E3E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9D6A-1A82-4C3B-8009-EEEB75FD4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8C70-3316-456B-A37F-0D3066639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D8F9-B8AB-453E-8BEE-F530AEC80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DB71-8658-41B9-A322-9BDE63DC2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0B2E-D2EC-4D3D-8149-74F9752F3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F828-A2D7-441D-ABD4-462B14EE5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nt of Cours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component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: Agenda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:35  General Performance Overvie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2:15 Software and System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00 Break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15 Software profiling / Performance analysi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40 Compiler and  language issu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00 Graphics techniques and algorithm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45 Wrap-up and ques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peakers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gineers for SGI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ing, differentiating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ith Cok, Bob Kuehne, Thomas True, Roger Corr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L cont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ity.sgi.com/cok_newport/s2000/index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29600" y="4419720"/>
            <a:ext cx="1219320" cy="12189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21:04:26Z</cp:lastPrinted>
  <dcterms:modified xsi:type="dcterms:W3CDTF">2000-07-20T17:32:38Z</dcterms:modified>
  <cp:revision>17</cp:revision>
  <dc:subject/>
  <dc:title>Developing Efficient Graphics Software</dc:title>
</cp:coreProperties>
</file>