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98B0-4997-4654-A270-7EFBBB010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C8B5-FB14-46AC-958C-3FE490261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1CA9-24C9-43E0-848F-B9F45A432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44A3-33F0-4510-9D52-4C295857E7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4271-B890-47F1-984A-AD37F1588D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B740-B777-490E-9D18-8BC134AA9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589F-677E-4E5A-91B4-6FB399E92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F4D2-36D7-40F6-9FCD-33E9300C6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DAB3-C005-4ED5-BA15-17F538544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7DC16-E39C-4D17-AB52-4B121AC06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26E1-A3D7-4C6C-B643-8359F55A3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BE66-0871-4256-9D2A-1292EF14A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FA7E-0A85-484E-9045-ED85EC9EE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31.WAV" TargetMode="External"/><Relationship Id="rId2" Type="http://schemas.microsoft.com/office/2007/relationships/media" Target="file:///tmp/home/.config/libreoffice/4/user/gallery/~PP313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671.WAV" TargetMode="External"/><Relationship Id="rId2" Type="http://schemas.microsoft.com/office/2007/relationships/media" Target="file:///tmp/home/.config/libreoffice/4/user/gallery/~PP2671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102.WAV" TargetMode="External"/><Relationship Id="rId2" Type="http://schemas.microsoft.com/office/2007/relationships/media" Target="file:///tmp/home/.config/libreoffice/4/user/gallery/~PP3102.WAV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99480" y="6513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6:09Z</dcterms:modified>
  <cp:revision>5</cp:revision>
  <dc:subject/>
  <dc:title>Conclusion</dc:title>
</cp:coreProperties>
</file>