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71E3-74ED-4BE2-8B6C-C0AA4629F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642F-0533-4EC3-AB10-92CC95AEF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853920" y="695160"/>
            <a:ext cx="5151600" cy="3434040"/>
          </a:xfrm>
          <a:prstGeom prst="rect">
            <a:avLst/>
          </a:prstGeom>
          <a:ln w="0">
            <a:noFill/>
          </a:ln>
        </p:spPr>
      </p:sp>
      <p:sp>
        <p:nvSpPr>
          <p:cNvPr id="8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E5A7-B9C2-417D-A8AF-4266C1F21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853920" y="695160"/>
            <a:ext cx="5151600" cy="3434040"/>
          </a:xfrm>
          <a:prstGeom prst="rect">
            <a:avLst/>
          </a:prstGeom>
          <a:ln w="0">
            <a:noFill/>
          </a:ln>
        </p:spPr>
      </p:sp>
      <p:sp>
        <p:nvSpPr>
          <p:cNvPr id="14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ED51-405B-4527-B2A7-7778761CE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3920" y="695160"/>
            <a:ext cx="5151600" cy="3434040"/>
          </a:xfrm>
          <a:prstGeom prst="rect">
            <a:avLst/>
          </a:prstGeom>
          <a:ln w="0">
            <a:noFill/>
          </a:ln>
        </p:spPr>
      </p:sp>
      <p:sp>
        <p:nvSpPr>
          <p:cNvPr id="14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7E99-2292-4376-8A65-7115D0F4A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53920" y="695160"/>
            <a:ext cx="5151600" cy="3434040"/>
          </a:xfrm>
          <a:prstGeom prst="rect">
            <a:avLst/>
          </a:prstGeom>
          <a:ln w="0">
            <a:noFill/>
          </a:ln>
        </p:spPr>
      </p:sp>
      <p:sp>
        <p:nvSpPr>
          <p:cNvPr id="15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1F5B-3D69-444C-A997-05D9EF065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3920" y="695160"/>
            <a:ext cx="5151600" cy="3434040"/>
          </a:xfrm>
          <a:prstGeom prst="rect">
            <a:avLst/>
          </a:prstGeom>
          <a:ln w="0">
            <a:noFill/>
          </a:ln>
        </p:spPr>
      </p:sp>
      <p:sp>
        <p:nvSpPr>
          <p:cNvPr id="15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0702-1247-488D-8D72-E58B53BC6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3920" y="695160"/>
            <a:ext cx="5151600" cy="3434040"/>
          </a:xfrm>
          <a:prstGeom prst="rect">
            <a:avLst/>
          </a:prstGeom>
          <a:ln w="0">
            <a:noFill/>
          </a:ln>
        </p:spPr>
      </p:sp>
      <p:sp>
        <p:nvSpPr>
          <p:cNvPr id="16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8C5D-1875-4C8F-B154-D5E1C51DB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53920" y="695160"/>
            <a:ext cx="5151600" cy="3434040"/>
          </a:xfrm>
          <a:prstGeom prst="rect">
            <a:avLst/>
          </a:prstGeom>
          <a:ln w="0">
            <a:noFill/>
          </a:ln>
        </p:spPr>
      </p:sp>
      <p:sp>
        <p:nvSpPr>
          <p:cNvPr id="170"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2FA1-E7A5-4D0F-9FF4-615B9EA27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853920" y="695160"/>
            <a:ext cx="5151600" cy="3434040"/>
          </a:xfrm>
          <a:prstGeom prst="rect">
            <a:avLst/>
          </a:prstGeom>
          <a:ln w="0">
            <a:noFill/>
          </a:ln>
        </p:spPr>
      </p:sp>
      <p:sp>
        <p:nvSpPr>
          <p:cNvPr id="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B375-28D0-4CC5-A44C-DA2ABD851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853920" y="695160"/>
            <a:ext cx="5151600" cy="3434040"/>
          </a:xfrm>
          <a:prstGeom prst="rect">
            <a:avLst/>
          </a:prstGeom>
          <a:ln w="0">
            <a:noFill/>
          </a:ln>
        </p:spPr>
      </p:sp>
      <p:sp>
        <p:nvSpPr>
          <p:cNvPr id="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C5B6-81A2-4B4F-A702-496C60581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853920" y="695160"/>
            <a:ext cx="5151600" cy="3434040"/>
          </a:xfrm>
          <a:prstGeom prst="rect">
            <a:avLst/>
          </a:prstGeom>
          <a:ln w="0">
            <a:noFill/>
          </a:ln>
        </p:spPr>
      </p:sp>
      <p:sp>
        <p:nvSpPr>
          <p:cNvPr id="1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CA32-84EB-4674-92EB-E0E227715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853920" y="695160"/>
            <a:ext cx="5151600" cy="3434040"/>
          </a:xfrm>
          <a:prstGeom prst="rect">
            <a:avLst/>
          </a:prstGeom>
          <a:ln w="0">
            <a:noFill/>
          </a:ln>
        </p:spPr>
      </p:sp>
      <p:sp>
        <p:nvSpPr>
          <p:cNvPr id="1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7DE5-EBEF-49BE-8F78-7F7D737DA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853920" y="695160"/>
            <a:ext cx="5151600" cy="3434040"/>
          </a:xfrm>
          <a:prstGeom prst="rect">
            <a:avLst/>
          </a:prstGeom>
          <a:ln w="0">
            <a:noFill/>
          </a:ln>
        </p:spPr>
      </p:sp>
      <p:sp>
        <p:nvSpPr>
          <p:cNvPr id="11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B2D2-4221-4A60-B3D1-37E4CB578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853920" y="695160"/>
            <a:ext cx="5151600" cy="3434040"/>
          </a:xfrm>
          <a:prstGeom prst="rect">
            <a:avLst/>
          </a:prstGeom>
          <a:ln w="0">
            <a:noFill/>
          </a:ln>
        </p:spPr>
      </p:sp>
      <p:sp>
        <p:nvSpPr>
          <p:cNvPr id="12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DE28-6DC6-4FCE-8EC7-85C11AED8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853920" y="695160"/>
            <a:ext cx="5151600" cy="3434040"/>
          </a:xfrm>
          <a:prstGeom prst="rect">
            <a:avLst/>
          </a:prstGeom>
          <a:ln w="0">
            <a:noFill/>
          </a:ln>
        </p:spPr>
      </p:sp>
      <p:sp>
        <p:nvSpPr>
          <p:cNvPr id="12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1EBD-2A51-46BA-8C52-FE1F1866C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853920" y="695160"/>
            <a:ext cx="5151600" cy="343404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20FA6-FFEE-4DA4-9AF7-9BEA8BD75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81B67ED3-6CBD-4116-8D07-32E4EDFD6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DB5958D8-BE6C-4864-925E-62ADA02CA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BF9F543C-8DE2-4823-878B-97A7EFE587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8762634-9026-44BF-A23E-52AD6D7089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6983F57B-4D3F-4263-8212-10FAB3456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93F647D0-8B82-462C-A65B-347CC7841B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3A3F58D0-C49F-4617-B719-97FEFA7F1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745D4D3F-5C09-499F-9826-86B44FECE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FBA88B39-EFB2-4AD7-827B-B2E3B7C182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0C7D6F3D-68CB-4D1D-896D-9ACAA7B425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54860A5-1202-411E-9970-DADBA3CF17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6A0D-2C06-427A-9C94-6F7ACB474C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8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6:59:36Z</dcterms:modified>
  <cp:revision>4</cp:revision>
  <dc:subject/>
  <dc:title>Developing Efficient Graphics Software</dc:title>
</cp:coreProperties>
</file>