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288588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44560" y="688680"/>
            <a:ext cx="51703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F6BB-F4DB-4D89-AA1B-C180E849D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44560" y="689040"/>
            <a:ext cx="5170320" cy="344628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 to the siggraph course on Developing Efficient Graphics softwa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out this course, we’ll be covering a variety of topics  related to writing fast graphics softwa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f adsf asdf ds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7990-C483-429D-80E0-553B9C4D4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D1729-A2FC-4B48-BFF1-1B4810E33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EE77-98FC-483D-835B-163A87F9B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F907-685D-40AE-9D0B-B79AEA7497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80DA-246B-4189-8846-0140D7EEE6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75FBE-25EC-4246-AF6D-19E07F85B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E297C-B36C-4173-B82F-28D8F2A22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10EB2-45D7-49DA-9281-BD0B951A7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C885-8EAA-4706-BA22-5D573EC1B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46A3D-AF94-49B6-9DB2-0323C2360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4E91F-09CD-47C9-A8E7-82481C5AF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D2C8-E5CB-4541-8796-264B4B8D5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34C4-BDFD-4DED-A28E-B69007B91B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801.WAV" TargetMode="External"/><Relationship Id="rId2" Type="http://schemas.microsoft.com/office/2007/relationships/media" Target="file:///tmp/home/.config/libreoffice/4/user/gallery/~PP1801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05.WAV" TargetMode="External"/><Relationship Id="rId2" Type="http://schemas.microsoft.com/office/2007/relationships/media" Target="file:///tmp/home/.config/libreoffice/4/user/gallery/~PP105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017.WAV" TargetMode="External"/><Relationship Id="rId2" Type="http://schemas.microsoft.com/office/2007/relationships/media" Target="file:///tmp/home/.config/libreoffice/4/user/gallery/~PP1017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236.WAV" TargetMode="External"/><Relationship Id="rId2" Type="http://schemas.microsoft.com/office/2007/relationships/media" Target="file:///tmp/home/.config/libreoffice/4/user/gallery/~PP1236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28080" y="649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tent of Cours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application and hardwar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fy and optimiz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efficient software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software and hardware component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28080" y="649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: Agenda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1:35  General Performance Overview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2:15 Software and System Perform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00 Break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15 Software profiling / Performance analysi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40 Compiler and  language issu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:00 Graphics techniques and algorithm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:45 Wrap-up and question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28080" y="649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peakers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gineers for SGI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izing, differentiating graphic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eith Cok, Bob Kuehne, Thomas True, Roger Corr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L conten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lity.sgi.com/cok_newport/s2000/index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29600" y="4419720"/>
            <a:ext cx="1219320" cy="12189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28080" y="649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5:38:34Z</dcterms:created>
  <dc:creator>Keith Cok</dc:creator>
  <dc:description/>
  <dc:language>en-US</dc:language>
  <cp:lastModifiedBy>Keith Cok</cp:lastModifiedBy>
  <cp:lastPrinted>2000-06-06T21:04:26Z</cp:lastPrinted>
  <dcterms:modified xsi:type="dcterms:W3CDTF">2000-08-07T14:49:16Z</dcterms:modified>
  <cp:revision>18</cp:revision>
  <dc:subject/>
  <dc:title>Developing Efficient Graphics Software</dc:title>
</cp:coreProperties>
</file>