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2F5D-4D9C-4E84-B548-6A98606B0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844560" y="6890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the siggraph course on Developing Efficien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is course, we’ll be covering a variety of topics  related to writing fas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 adsf asdf ds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46F5-438D-4422-92E2-7A091D9AF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44C5-9238-4F06-8DE6-9770717E7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D395-2DA7-407C-9F9F-5423A9A23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4790-4F79-4425-8371-1565A549A9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9947-C6D3-47C0-98D3-8346F0AC13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BD95-4C89-43A9-880D-4CF2287CF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B0EA-BB05-4656-AF52-4ECF404A1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2EE5-4CBD-4B0C-87E3-CE3AA27E5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A1EA-0BD8-4322-9442-EAE70C804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EF93-C86B-4F28-AEA8-A59D4E5D8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8E7C-61B8-4977-881F-F3641208D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6991-1F34-4E4F-B744-237D21E39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8B75-0FAF-410C-ABB3-8C63A8A2C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nt of Cours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component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: Agenda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:35  General Performance Overvie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2:15 Software and System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00 Break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15 Software profiling / Performance analy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40 Compiler and  language iss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00 Graphics techniques and algorithm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45 Wrap-up and ques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peakers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ineers for SG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ing, differentiating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ith Cok, Bob Kuehne, Thomas True, Roger Corr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L cont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ity.sgi.com/cok_newport/s2000/index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4419720"/>
            <a:ext cx="1219320" cy="12189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21:04:26Z</cp:lastPrinted>
  <dcterms:modified xsi:type="dcterms:W3CDTF">2000-07-20T17:32:38Z</dcterms:modified>
  <cp:revision>17</cp:revision>
  <dc:subject/>
  <dc:title>Developing Efficient Graphics Software</dc:title>
</cp:coreProperties>
</file>