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F35F3-EA24-4EB8-A972-D5BF7DE6A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EA5CE-ABD6-4C61-BB69-E08231D36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02703-BD7D-477D-88BB-5AE28BC46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08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084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132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08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084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261B1-81E5-4C2E-8EA3-8CB3A3FC3F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08BC-08F7-4F2B-9E99-1417BD8F77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C7093-CFA9-4CC2-A3BC-C353492AF2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FDE59-73BA-4AF3-AB13-0D539AF38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2E0AF-2F59-4198-BD8B-6789EDF6ED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9000" y="294840"/>
            <a:ext cx="743580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8BE33-D6D3-43B6-A0E5-5529F4E34E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D1A29-7D75-4A09-B049-CC936DF5C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5729-BD1B-4048-A234-073F4FB3C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D9238-09D9-4E0F-B2BC-0D75DB4EA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9680" y="160200"/>
            <a:ext cx="888048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5520" y="1833480"/>
            <a:ext cx="885204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0266-CD31-49BE-AC15-0F7CA464F4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6359400" y="5908680"/>
            <a:ext cx="252252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7802640" y="403200"/>
            <a:ext cx="110628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39680" y="1824120"/>
            <a:ext cx="887724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131.WAV" TargetMode="External"/><Relationship Id="rId2" Type="http://schemas.microsoft.com/office/2007/relationships/media" Target="file:///tmp/home/.config/libreoffice/4/user/gallery/~PP3131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671.WAV" TargetMode="External"/><Relationship Id="rId2" Type="http://schemas.microsoft.com/office/2007/relationships/media" Target="file:///tmp/home/.config/libreoffice/4/user/gallery/~PP2671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102.WAV" TargetMode="External"/><Relationship Id="rId2" Type="http://schemas.microsoft.com/office/2007/relationships/media" Target="file:///tmp/home/.config/libreoffice/4/user/gallery/~PP3102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Keith Cok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99480" y="6513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at we’ve learned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application and hardwar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fy and optimiz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efficient software 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software and hardware system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99480" y="6513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lance between 3 foundations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mal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ll structured graphics API function cal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ll tuned/written soft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99480" y="6513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yinyang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1866960" cy="1866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72200" y="2819520"/>
            <a:ext cx="1523880" cy="144756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1T01:09:48Z</dcterms:created>
  <dc:creator>Thomas J. True</dc:creator>
  <dc:description/>
  <dc:language>en-US</dc:language>
  <cp:lastModifiedBy>Keith Cok</cp:lastModifiedBy>
  <dcterms:modified xsi:type="dcterms:W3CDTF">2000-08-07T20:46:09Z</dcterms:modified>
  <cp:revision>5</cp:revision>
  <dc:subject/>
  <dc:title>Conclusion</dc:title>
</cp:coreProperties>
</file>