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6391-0C72-4C53-AFA4-688D46220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533B-5E9C-4726-9C47-7C3967CB3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8500-92FE-4C5A-8E51-112A6997C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7E22-E324-4753-8DB1-CC24088C2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3650-9162-486E-9EB3-ECDE060F3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DB53-E37E-49AA-B72B-D3006FD5C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7DCC-4B2E-4CC1-8994-6E3E48BF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43B2-0A75-4E60-95C0-B77A2E072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5965-90DF-43F5-90A0-422197767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449C-4C3A-4FE3-9B3F-229BAC098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4110-20C8-4770-8CAE-98B20B2AD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6239-EE3B-4B14-9F67-7399BBAFC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824-2E43-42BE-8758-5B3AEBF19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2:17Z</dcterms:modified>
  <cp:revision>4</cp:revision>
  <dc:subject/>
  <dc:title>Conclusion</dc:title>
</cp:coreProperties>
</file>