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27200" y="1447920"/>
            <a:ext cx="66787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64 bit file leng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_LARGE_FILES 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eld of NEGOTIATE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s server supports requests with 64 bit file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large file version of requests (READ_ANDX, WRITE_ANDX, LOCKING_ANDX, etc.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cod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support is nego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_UNICODE 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eld of NEGOTIATE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s server supports Unicode file n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 15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gs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eld of all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s client is sending in Uni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parameters of type STRING in the spec are Unicode when this bit is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s are always ASC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Windows 95 and Windows 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hange no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e via NT_TRANSACT_NOTIFY_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est is made using FID of a dire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single level, or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y which events trigger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letion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s when change happens, with list of FILE_NOTIFY_INFORMATION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mpletion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_NOTIFY_CHANGE_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7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_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7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_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_WRI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_ACCES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O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mpletion filter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_NOTIFY_CHANGE_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_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_SIZ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4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AM_WRI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FILE_NOTIFY_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spcAft>
                <a:spcPts val="2305"/>
              </a:spcAft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typedef struct {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ULONG NextEntryOffset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ULONG Action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ULONG FileNameLength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WCHAR FileName[1]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ourier New"/>
                <a:ea typeface="Courier New"/>
              </a:rPr>
              <a:t>} FILE_NOTIFY_INFORMATIO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ction enco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_ACTION_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00001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0000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00003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D_OLD_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00004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NAMED_NEW_NAM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00005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ED_STR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00006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VED_STR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00007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DIFIED_STREAM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x00000008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F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roduce referrals, inconsistency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gotiation of D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_DFS in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i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eld of NEGOTIATE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s server supports D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 12 of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gs2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eld of all requ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s OKs use of DFS to resolve path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s client understands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FS refer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ence of referral discovered by status from open-type requ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 not found in server error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ral is fetched with TRANS2_GET_DFS_REFERRAL reque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t to IPC$ share of the server that returned the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ral requ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MaxReferralLeve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test referral version number understoo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CHAR RequestFile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FS name of file for which referral is sou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2120" y="5335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’s new in CIF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62120" y="2895480"/>
            <a:ext cx="6400800" cy="19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 J. L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hitect, Distributed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ulle@microsof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ral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PathConsum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NumberOfReferrals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HORT Flags;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RAL_LIST Referrals[]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r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wo kinds: to a referral server or to a storag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ral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same get referral request; get new refer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orage server - again two ki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FS aware or not (down-level can be le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eat original open-type 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ole file name if DFS-a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ainder if n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ral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se “\\server\share\dir1” is junction to “\\dfssvr\j1” and “\\oldsvr\j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se original path is “\\server\share\dir1\dir2\file.tx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thConsumed would be 19: length of “\\server\share\dir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“\dir2\file.txt” to “\\oldsvr\j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whole original path to “\\dfssvr\j1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FS inconsistency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referral was bogus, enables report back to source of the refer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ogus means got referred to storage server and storage server didn’t have th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2_REPORT_DFS_INCONSIST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d path name that generated bad refer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cels pending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d, Uid, Tid, Mid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nd source of request)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to identify pending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pecial response to this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 response to original requ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code tells if cancel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ght have succeeded if cancel crosses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32 bit status cod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code support is negoti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cated in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pabilitie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eld of NEGOTIATE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s server supports statu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 14 of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gs2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eld of any request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s client understands status codes in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 14 of </a:t>
            </a:r>
            <a:r>
              <a:rPr b="0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lags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field of an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ys response uses status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 codes map to “DOS” error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updated sp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6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Questions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ngs that have been added to SMB since last sp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me are specifically for the Internet, some are generally good, but often also make CIFS more gen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opics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 naming of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ng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cod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4 bit file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2-bit status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opics not cove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CT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/Set Security Descrip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/Set Path/Fil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NS n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ive: access file servers ove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ciple: separate name resolution from connection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 DNS names as part of UNC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\\corpfs.somecorp.com\share\file.t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address of server resolved via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tead of NetB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onnection setup 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made using NetBIOS/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 per RFC 1001/1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“*SMBSERVER[0x20]” as “called nam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ans don’t have to know real NetBIOS name of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at fails, can try first component of DNS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.g., “corpfs” in the previous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at fails, can do NetBIOS “adapter status” to get the name (for old serv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DNS misc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 NT 4 clients can “prime” LMHOSTS to access servers over the 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ervers should register, but not defend, “*SMBSERVER[0x20]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lps if DNS name and NetBIOS name are rel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8088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Long name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3500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 0 of Flags2 (client understands non-8.3 nam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t 2 of Flags2 SMB_FLAGS_IS_LONG_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w client knows server supports long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efi</cp:lastModifiedBy>
  <cp:revision>0</cp:revision>
  <dc:subject/>
  <dc:title>No Slide Title</dc:title>
</cp:coreProperties>
</file>