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lient ID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35000" y="1676520"/>
            <a:ext cx="772812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lient access to remot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 a logon for each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secure file with Name/PW at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a separate sh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once, many commands, 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UNIX UID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ff Donnelly/Domain’ maps to j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md maps to ‘Jeff Donnelly/Domai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ssword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GID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local &amp; glob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 to UNIX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it mapping or nam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gid()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belongs to its group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belongs to the attribu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source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resource security is lo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ke domain user accou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1: Standard Security lay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1: NT-style security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2: Unix file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1 or layer 2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3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 one security such as DCE / PO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source Security   (Layer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 Descri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er set of discretionary access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of User/Domain :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of Audit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: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Security Descri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35000" y="1676520"/>
            <a:ext cx="77281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acces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ly pop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file 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through to system based on UNIX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Create with SD / NT Trans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 will have SIDs no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CIFS servers should ignore SD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dministrativ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 local access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File Permissions (Layer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upport of UNIX file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olutions may no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support of UNIX file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users want ‘protection’ from network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 UID/GID per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uid/sete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etive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/NT Password Sy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time goal of users and administr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 really goo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authentication authority (futur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text password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text password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client security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ssword Sync - Op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utility to change UNIX &amp; NT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DC/BDC could replicate UNIX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could add UNIX password set to NT password set API &amp; user accou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sted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/bin/lo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UNIX logon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 and UNIX passwords match         -O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 and CIFS (NT / AS/U) pass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35000" y="1676520"/>
            <a:ext cx="772812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blem if CIFS always impersonates mapped UNIX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oot access allowed on 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seteuid client before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seteuid owner before 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s on concern for UNIX file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performanc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 will be s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lock manager and UNIX lo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File System Qu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UFS file system qu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(file)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(data)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tracking &amp;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 client on 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 non root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60400" y="1066680"/>
            <a:ext cx="72928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 UNIX Integration Issue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eff Donnelly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irector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dvanced Server for UNIX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64560" y="6153120"/>
            <a:ext cx="1197000" cy="376560"/>
            <a:chOff x="7864560" y="6153120"/>
            <a:chExt cx="1197000" cy="37656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8836200" y="6153120"/>
              <a:ext cx="225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991120" y="3817800"/>
            <a:ext cx="1081440" cy="871920"/>
            <a:chOff x="5991120" y="3817800"/>
            <a:chExt cx="1081440" cy="871920"/>
          </a:xfrm>
        </p:grpSpPr>
        <p:grpSp>
          <p:nvGrpSpPr>
            <p:cNvPr id="88" name=""/>
            <p:cNvGrpSpPr/>
            <p:nvPr/>
          </p:nvGrpSpPr>
          <p:grpSpPr>
            <a:xfrm>
              <a:off x="6227640" y="3817800"/>
              <a:ext cx="844920" cy="871920"/>
              <a:chOff x="6227640" y="3817800"/>
              <a:chExt cx="844920" cy="87192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6230880" y="4270320"/>
                <a:ext cx="841680" cy="419400"/>
                <a:chOff x="6230880" y="4270320"/>
                <a:chExt cx="841680" cy="4194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649920" y="4270320"/>
                  <a:ext cx="422640" cy="417960"/>
                </a:xfrm>
                <a:custGeom>
                  <a:avLst/>
                  <a:gdLst/>
                  <a:ahLst/>
                  <a:rect l="0" t="0" r="r" b="b"/>
                  <a:pathLst>
                    <a:path w="1174" h="1161">
                      <a:moveTo>
                        <a:pt x="914" y="0"/>
                      </a:moveTo>
                      <a:lnTo>
                        <a:pt x="1174" y="0"/>
                      </a:lnTo>
                      <a:lnTo>
                        <a:pt x="0" y="1161"/>
                      </a:lnTo>
                      <a:lnTo>
                        <a:pt x="0" y="904"/>
                      </a:lnTo>
                      <a:lnTo>
                        <a:pt x="914" y="0"/>
                      </a:lnTo>
                      <a:close/>
                    </a:path>
                  </a:pathLst>
                </a:custGeom>
                <a:solidFill>
                  <a:srgbClr val="009688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230880" y="4270320"/>
                  <a:ext cx="419400" cy="419400"/>
                </a:xfrm>
                <a:custGeom>
                  <a:avLst/>
                  <a:gdLst/>
                  <a:ahLst/>
                  <a:rect l="0" t="0" r="r" b="b"/>
                  <a:pathLst>
                    <a:path w="1165" h="1165">
                      <a:moveTo>
                        <a:pt x="248" y="2"/>
                      </a:moveTo>
                      <a:lnTo>
                        <a:pt x="1165" y="907"/>
                      </a:lnTo>
                      <a:lnTo>
                        <a:pt x="1165" y="1165"/>
                      </a:lnTo>
                      <a:lnTo>
                        <a:pt x="0" y="0"/>
                      </a:lnTo>
                      <a:lnTo>
                        <a:pt x="248" y="2"/>
                      </a:lnTo>
                      <a:close/>
                    </a:path>
                  </a:pathLst>
                </a:custGeom>
                <a:solidFill>
                  <a:srgbClr val="006b6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21600" y="4272120"/>
                  <a:ext cx="655920" cy="324360"/>
                </a:xfrm>
                <a:custGeom>
                  <a:avLst/>
                  <a:gdLst/>
                  <a:ahLst/>
                  <a:rect l="0" t="0" r="r" b="b"/>
                  <a:pathLst>
                    <a:path w="1822" h="901">
                      <a:moveTo>
                        <a:pt x="1822" y="901"/>
                      </a:moveTo>
                      <a:lnTo>
                        <a:pt x="0" y="901"/>
                      </a:lnTo>
                      <a:lnTo>
                        <a:pt x="910" y="0"/>
                      </a:lnTo>
                      <a:lnTo>
                        <a:pt x="1822" y="901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227640" y="3817800"/>
                <a:ext cx="844920" cy="419760"/>
                <a:chOff x="6227640" y="3817800"/>
                <a:chExt cx="844920" cy="419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649920" y="3817800"/>
                  <a:ext cx="422640" cy="417960"/>
                </a:xfrm>
                <a:custGeom>
                  <a:avLst/>
                  <a:gdLst/>
                  <a:ahLst/>
                  <a:rect l="0" t="0" r="r" b="b"/>
                  <a:pathLst>
                    <a:path w="1174" h="1161">
                      <a:moveTo>
                        <a:pt x="0" y="257"/>
                      </a:moveTo>
                      <a:lnTo>
                        <a:pt x="0" y="0"/>
                      </a:lnTo>
                      <a:lnTo>
                        <a:pt x="1174" y="1161"/>
                      </a:lnTo>
                      <a:lnTo>
                        <a:pt x="914" y="1161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14d1b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227640" y="3817800"/>
                  <a:ext cx="422640" cy="417960"/>
                </a:xfrm>
                <a:custGeom>
                  <a:avLst/>
                  <a:gdLst/>
                  <a:ahLst/>
                  <a:rect l="0" t="0" r="r" b="b"/>
                  <a:pathLst>
                    <a:path w="1174" h="1161">
                      <a:moveTo>
                        <a:pt x="1174" y="0"/>
                      </a:moveTo>
                      <a:lnTo>
                        <a:pt x="1174" y="257"/>
                      </a:lnTo>
                      <a:lnTo>
                        <a:pt x="260" y="1161"/>
                      </a:lnTo>
                      <a:lnTo>
                        <a:pt x="0" y="1161"/>
                      </a:lnTo>
                      <a:lnTo>
                        <a:pt x="1174" y="0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321600" y="3913200"/>
                  <a:ext cx="655920" cy="324360"/>
                </a:xfrm>
                <a:custGeom>
                  <a:avLst/>
                  <a:gdLst/>
                  <a:ahLst/>
                  <a:rect l="0" t="0" r="r" b="b"/>
                  <a:pathLst>
                    <a:path w="1822" h="901">
                      <a:moveTo>
                        <a:pt x="0" y="901"/>
                      </a:moveTo>
                      <a:lnTo>
                        <a:pt x="1822" y="901"/>
                      </a:lnTo>
                      <a:lnTo>
                        <a:pt x="910" y="0"/>
                      </a:lnTo>
                      <a:lnTo>
                        <a:pt x="0" y="901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240600" y="4168800"/>
                  <a:ext cx="154440" cy="62280"/>
                </a:xfrm>
                <a:custGeom>
                  <a:avLst/>
                  <a:gdLst/>
                  <a:ahLst/>
                  <a:rect l="0" t="0" r="r" b="b"/>
                  <a:pathLst>
                    <a:path w="429" h="173">
                      <a:moveTo>
                        <a:pt x="429" y="90"/>
                      </a:moveTo>
                      <a:lnTo>
                        <a:pt x="416" y="120"/>
                      </a:lnTo>
                      <a:lnTo>
                        <a:pt x="370" y="97"/>
                      </a:lnTo>
                      <a:lnTo>
                        <a:pt x="324" y="83"/>
                      </a:lnTo>
                      <a:lnTo>
                        <a:pt x="113" y="29"/>
                      </a:lnTo>
                      <a:lnTo>
                        <a:pt x="178" y="151"/>
                      </a:lnTo>
                      <a:lnTo>
                        <a:pt x="152" y="173"/>
                      </a:lnTo>
                      <a:lnTo>
                        <a:pt x="126" y="173"/>
                      </a:lnTo>
                      <a:lnTo>
                        <a:pt x="0" y="151"/>
                      </a:lnTo>
                      <a:lnTo>
                        <a:pt x="26" y="113"/>
                      </a:lnTo>
                      <a:lnTo>
                        <a:pt x="113" y="128"/>
                      </a:lnTo>
                      <a:lnTo>
                        <a:pt x="91" y="76"/>
                      </a:lnTo>
                      <a:lnTo>
                        <a:pt x="119" y="15"/>
                      </a:lnTo>
                      <a:lnTo>
                        <a:pt x="146" y="0"/>
                      </a:lnTo>
                      <a:lnTo>
                        <a:pt x="377" y="60"/>
                      </a:lnTo>
                      <a:lnTo>
                        <a:pt x="429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5991120" y="4084560"/>
              <a:ext cx="851400" cy="440280"/>
              <a:chOff x="5991120" y="4084560"/>
              <a:chExt cx="851400" cy="440280"/>
            </a:xfrm>
          </p:grpSpPr>
          <p:sp>
            <p:nvSpPr>
              <p:cNvPr id="99" name=""/>
              <p:cNvSpPr/>
              <p:nvPr/>
            </p:nvSpPr>
            <p:spPr>
              <a:xfrm>
                <a:off x="5991120" y="4084560"/>
                <a:ext cx="417960" cy="133560"/>
              </a:xfrm>
              <a:custGeom>
                <a:avLst/>
                <a:gdLst/>
                <a:ahLst/>
                <a:rect l="0" t="0" r="r" b="b"/>
                <a:pathLst>
                  <a:path w="1161" h="371">
                    <a:moveTo>
                      <a:pt x="1142" y="360"/>
                    </a:moveTo>
                    <a:lnTo>
                      <a:pt x="1161" y="341"/>
                    </a:lnTo>
                    <a:lnTo>
                      <a:pt x="1157" y="303"/>
                    </a:lnTo>
                    <a:lnTo>
                      <a:pt x="877" y="165"/>
                    </a:lnTo>
                    <a:lnTo>
                      <a:pt x="509" y="0"/>
                    </a:lnTo>
                    <a:lnTo>
                      <a:pt x="509" y="35"/>
                    </a:lnTo>
                    <a:lnTo>
                      <a:pt x="500" y="71"/>
                    </a:lnTo>
                    <a:lnTo>
                      <a:pt x="771" y="284"/>
                    </a:lnTo>
                    <a:lnTo>
                      <a:pt x="689" y="249"/>
                    </a:lnTo>
                    <a:lnTo>
                      <a:pt x="586" y="193"/>
                    </a:lnTo>
                    <a:lnTo>
                      <a:pt x="445" y="142"/>
                    </a:lnTo>
                    <a:lnTo>
                      <a:pt x="456" y="157"/>
                    </a:lnTo>
                    <a:lnTo>
                      <a:pt x="449" y="189"/>
                    </a:lnTo>
                    <a:lnTo>
                      <a:pt x="441" y="211"/>
                    </a:lnTo>
                    <a:lnTo>
                      <a:pt x="92" y="132"/>
                    </a:lnTo>
                    <a:lnTo>
                      <a:pt x="39" y="129"/>
                    </a:lnTo>
                    <a:lnTo>
                      <a:pt x="0" y="129"/>
                    </a:lnTo>
                    <a:lnTo>
                      <a:pt x="191" y="182"/>
                    </a:lnTo>
                    <a:lnTo>
                      <a:pt x="381" y="244"/>
                    </a:lnTo>
                    <a:lnTo>
                      <a:pt x="548" y="298"/>
                    </a:lnTo>
                    <a:lnTo>
                      <a:pt x="563" y="274"/>
                    </a:lnTo>
                    <a:lnTo>
                      <a:pt x="553" y="254"/>
                    </a:lnTo>
                    <a:lnTo>
                      <a:pt x="537" y="227"/>
                    </a:lnTo>
                    <a:lnTo>
                      <a:pt x="764" y="336"/>
                    </a:lnTo>
                    <a:lnTo>
                      <a:pt x="841" y="368"/>
                    </a:lnTo>
                    <a:lnTo>
                      <a:pt x="877" y="371"/>
                    </a:lnTo>
                    <a:lnTo>
                      <a:pt x="891" y="353"/>
                    </a:lnTo>
                    <a:lnTo>
                      <a:pt x="869" y="325"/>
                    </a:lnTo>
                    <a:lnTo>
                      <a:pt x="839" y="303"/>
                    </a:lnTo>
                    <a:lnTo>
                      <a:pt x="640" y="113"/>
                    </a:lnTo>
                    <a:lnTo>
                      <a:pt x="1142" y="360"/>
                    </a:lnTo>
                    <a:close/>
                  </a:path>
                </a:pathLst>
              </a:custGeom>
              <a:solidFill>
                <a:srgbClr val="b760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6370560" y="4136760"/>
                <a:ext cx="228600" cy="215640"/>
                <a:chOff x="6370560" y="4136760"/>
                <a:chExt cx="228600" cy="215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370560" y="4136760"/>
                  <a:ext cx="228600" cy="215640"/>
                </a:xfrm>
                <a:custGeom>
                  <a:avLst/>
                  <a:gdLst/>
                  <a:ahLst/>
                  <a:rect l="0" t="0" r="r" b="b"/>
                  <a:pathLst>
                    <a:path w="635" h="599">
                      <a:moveTo>
                        <a:pt x="0" y="294"/>
                      </a:moveTo>
                      <a:lnTo>
                        <a:pt x="0" y="294"/>
                      </a:lnTo>
                      <a:cubicBezTo>
                        <a:pt x="-1" y="347"/>
                        <a:pt x="13" y="399"/>
                        <a:pt x="40" y="445"/>
                      </a:cubicBezTo>
                      <a:cubicBezTo>
                        <a:pt x="67" y="491"/>
                        <a:pt x="106" y="529"/>
                        <a:pt x="154" y="557"/>
                      </a:cubicBezTo>
                      <a:cubicBezTo>
                        <a:pt x="202" y="584"/>
                        <a:pt x="257" y="599"/>
                        <a:pt x="312" y="599"/>
                      </a:cubicBezTo>
                      <a:cubicBezTo>
                        <a:pt x="368" y="600"/>
                        <a:pt x="423" y="588"/>
                        <a:pt x="472" y="562"/>
                      </a:cubicBezTo>
                      <a:cubicBezTo>
                        <a:pt x="520" y="537"/>
                        <a:pt x="561" y="499"/>
                        <a:pt x="590" y="454"/>
                      </a:cubicBezTo>
                      <a:cubicBezTo>
                        <a:pt x="619" y="409"/>
                        <a:pt x="634" y="358"/>
                        <a:pt x="635" y="305"/>
                      </a:cubicBezTo>
                      <a:lnTo>
                        <a:pt x="635" y="305"/>
                      </a:lnTo>
                      <a:lnTo>
                        <a:pt x="635" y="305"/>
                      </a:lnTo>
                      <a:cubicBezTo>
                        <a:pt x="636" y="252"/>
                        <a:pt x="622" y="200"/>
                        <a:pt x="595" y="154"/>
                      </a:cubicBezTo>
                      <a:cubicBezTo>
                        <a:pt x="568" y="108"/>
                        <a:pt x="529" y="70"/>
                        <a:pt x="481" y="42"/>
                      </a:cubicBezTo>
                      <a:cubicBezTo>
                        <a:pt x="433" y="15"/>
                        <a:pt x="378" y="0"/>
                        <a:pt x="323" y="0"/>
                      </a:cubicBezTo>
                      <a:cubicBezTo>
                        <a:pt x="267" y="-1"/>
                        <a:pt x="212" y="11"/>
                        <a:pt x="163" y="37"/>
                      </a:cubicBezTo>
                      <a:cubicBezTo>
                        <a:pt x="115" y="62"/>
                        <a:pt x="74" y="100"/>
                        <a:pt x="45" y="145"/>
                      </a:cubicBezTo>
                      <a:cubicBezTo>
                        <a:pt x="16" y="190"/>
                        <a:pt x="1" y="241"/>
                        <a:pt x="0" y="294"/>
                      </a:cubicBezTo>
                      <a:close/>
                    </a:path>
                  </a:pathLst>
                </a:custGeom>
                <a:solidFill>
                  <a:srgbClr val="f1ea0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13400" y="4151160"/>
                  <a:ext cx="171720" cy="161640"/>
                </a:xfrm>
                <a:custGeom>
                  <a:avLst/>
                  <a:gdLst/>
                  <a:ahLst/>
                  <a:rect l="0" t="0" r="r" b="b"/>
                  <a:pathLst>
                    <a:path w="477" h="449">
                      <a:moveTo>
                        <a:pt x="0" y="220"/>
                      </a:moveTo>
                      <a:lnTo>
                        <a:pt x="0" y="220"/>
                      </a:lnTo>
                      <a:cubicBezTo>
                        <a:pt x="-1" y="260"/>
                        <a:pt x="10" y="299"/>
                        <a:pt x="30" y="333"/>
                      </a:cubicBezTo>
                      <a:cubicBezTo>
                        <a:pt x="50" y="368"/>
                        <a:pt x="80" y="396"/>
                        <a:pt x="116" y="417"/>
                      </a:cubicBezTo>
                      <a:cubicBezTo>
                        <a:pt x="152" y="437"/>
                        <a:pt x="193" y="448"/>
                        <a:pt x="235" y="449"/>
                      </a:cubicBezTo>
                      <a:cubicBezTo>
                        <a:pt x="276" y="450"/>
                        <a:pt x="318" y="440"/>
                        <a:pt x="354" y="421"/>
                      </a:cubicBezTo>
                      <a:cubicBezTo>
                        <a:pt x="391" y="402"/>
                        <a:pt x="422" y="374"/>
                        <a:pt x="443" y="340"/>
                      </a:cubicBezTo>
                      <a:cubicBezTo>
                        <a:pt x="465" y="307"/>
                        <a:pt x="476" y="268"/>
                        <a:pt x="477" y="229"/>
                      </a:cubicBezTo>
                      <a:lnTo>
                        <a:pt x="477" y="229"/>
                      </a:lnTo>
                      <a:lnTo>
                        <a:pt x="477" y="229"/>
                      </a:lnTo>
                      <a:cubicBezTo>
                        <a:pt x="478" y="189"/>
                        <a:pt x="467" y="150"/>
                        <a:pt x="447" y="116"/>
                      </a:cubicBezTo>
                      <a:cubicBezTo>
                        <a:pt x="427" y="81"/>
                        <a:pt x="397" y="52"/>
                        <a:pt x="361" y="32"/>
                      </a:cubicBezTo>
                      <a:cubicBezTo>
                        <a:pt x="325" y="12"/>
                        <a:pt x="284" y="1"/>
                        <a:pt x="242" y="0"/>
                      </a:cubicBezTo>
                      <a:cubicBezTo>
                        <a:pt x="201" y="-1"/>
                        <a:pt x="159" y="9"/>
                        <a:pt x="123" y="28"/>
                      </a:cubicBezTo>
                      <a:cubicBezTo>
                        <a:pt x="86" y="47"/>
                        <a:pt x="55" y="75"/>
                        <a:pt x="34" y="109"/>
                      </a:cubicBezTo>
                      <a:cubicBezTo>
                        <a:pt x="12" y="142"/>
                        <a:pt x="1" y="181"/>
                        <a:pt x="0" y="220"/>
                      </a:cubicBezTo>
                      <a:close/>
                    </a:path>
                  </a:pathLst>
                </a:custGeom>
                <a:solidFill>
                  <a:srgbClr val="f6ef0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27800" y="4151160"/>
                  <a:ext cx="162360" cy="151200"/>
                </a:xfrm>
                <a:custGeom>
                  <a:avLst/>
                  <a:gdLst/>
                  <a:ahLst/>
                  <a:rect l="0" t="0" r="r" b="b"/>
                  <a:pathLst>
                    <a:path w="451" h="420">
                      <a:moveTo>
                        <a:pt x="0" y="206"/>
                      </a:moveTo>
                      <a:lnTo>
                        <a:pt x="0" y="206"/>
                      </a:lnTo>
                      <a:lnTo>
                        <a:pt x="0" y="206"/>
                      </a:lnTo>
                      <a:cubicBezTo>
                        <a:pt x="-1" y="243"/>
                        <a:pt x="9" y="279"/>
                        <a:pt x="28" y="312"/>
                      </a:cubicBezTo>
                      <a:cubicBezTo>
                        <a:pt x="48" y="344"/>
                        <a:pt x="76" y="371"/>
                        <a:pt x="110" y="390"/>
                      </a:cubicBezTo>
                      <a:cubicBezTo>
                        <a:pt x="144" y="409"/>
                        <a:pt x="182" y="420"/>
                        <a:pt x="222" y="420"/>
                      </a:cubicBezTo>
                      <a:cubicBezTo>
                        <a:pt x="261" y="421"/>
                        <a:pt x="300" y="412"/>
                        <a:pt x="335" y="394"/>
                      </a:cubicBezTo>
                      <a:cubicBezTo>
                        <a:pt x="370" y="376"/>
                        <a:pt x="399" y="350"/>
                        <a:pt x="419" y="319"/>
                      </a:cubicBezTo>
                      <a:cubicBezTo>
                        <a:pt x="439" y="287"/>
                        <a:pt x="450" y="251"/>
                        <a:pt x="451" y="214"/>
                      </a:cubicBezTo>
                      <a:lnTo>
                        <a:pt x="451" y="214"/>
                      </a:lnTo>
                      <a:lnTo>
                        <a:pt x="451" y="214"/>
                      </a:lnTo>
                      <a:cubicBezTo>
                        <a:pt x="452" y="177"/>
                        <a:pt x="442" y="141"/>
                        <a:pt x="423" y="108"/>
                      </a:cubicBezTo>
                      <a:cubicBezTo>
                        <a:pt x="403" y="76"/>
                        <a:pt x="375" y="49"/>
                        <a:pt x="341" y="30"/>
                      </a:cubicBezTo>
                      <a:cubicBezTo>
                        <a:pt x="307" y="11"/>
                        <a:pt x="269" y="0"/>
                        <a:pt x="229" y="0"/>
                      </a:cubicBezTo>
                      <a:cubicBezTo>
                        <a:pt x="190" y="-1"/>
                        <a:pt x="151" y="8"/>
                        <a:pt x="116" y="26"/>
                      </a:cubicBezTo>
                      <a:cubicBezTo>
                        <a:pt x="81" y="44"/>
                        <a:pt x="52" y="70"/>
                        <a:pt x="32" y="101"/>
                      </a:cubicBezTo>
                      <a:cubicBezTo>
                        <a:pt x="12" y="133"/>
                        <a:pt x="1" y="169"/>
                        <a:pt x="0" y="206"/>
                      </a:cubicBezTo>
                      <a:close/>
                    </a:path>
                  </a:pathLst>
                </a:custGeom>
                <a:solidFill>
                  <a:srgbClr val="f9f202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437160" y="4167360"/>
                  <a:ext cx="135360" cy="126000"/>
                </a:xfrm>
                <a:custGeom>
                  <a:avLst/>
                  <a:gdLst/>
                  <a:ahLst/>
                  <a:rect l="0" t="0" r="r" b="b"/>
                  <a:pathLst>
                    <a:path w="376" h="350">
                      <a:moveTo>
                        <a:pt x="0" y="171"/>
                      </a:moveTo>
                      <a:lnTo>
                        <a:pt x="0" y="171"/>
                      </a:lnTo>
                      <a:cubicBezTo>
                        <a:pt x="0" y="172"/>
                        <a:pt x="0" y="172"/>
                        <a:pt x="0" y="172"/>
                      </a:cubicBezTo>
                      <a:cubicBezTo>
                        <a:pt x="-1" y="202"/>
                        <a:pt x="8" y="233"/>
                        <a:pt x="24" y="259"/>
                      </a:cubicBezTo>
                      <a:cubicBezTo>
                        <a:pt x="40" y="286"/>
                        <a:pt x="63" y="309"/>
                        <a:pt x="91" y="324"/>
                      </a:cubicBezTo>
                      <a:cubicBezTo>
                        <a:pt x="120" y="340"/>
                        <a:pt x="152" y="349"/>
                        <a:pt x="185" y="350"/>
                      </a:cubicBezTo>
                      <a:cubicBezTo>
                        <a:pt x="218" y="350"/>
                        <a:pt x="251" y="343"/>
                        <a:pt x="279" y="328"/>
                      </a:cubicBezTo>
                      <a:cubicBezTo>
                        <a:pt x="308" y="313"/>
                        <a:pt x="332" y="291"/>
                        <a:pt x="349" y="265"/>
                      </a:cubicBezTo>
                      <a:cubicBezTo>
                        <a:pt x="366" y="239"/>
                        <a:pt x="375" y="209"/>
                        <a:pt x="376" y="179"/>
                      </a:cubicBezTo>
                      <a:lnTo>
                        <a:pt x="376" y="179"/>
                      </a:lnTo>
                      <a:cubicBezTo>
                        <a:pt x="376" y="178"/>
                        <a:pt x="376" y="178"/>
                        <a:pt x="376" y="178"/>
                      </a:cubicBezTo>
                      <a:cubicBezTo>
                        <a:pt x="377" y="148"/>
                        <a:pt x="368" y="117"/>
                        <a:pt x="352" y="91"/>
                      </a:cubicBezTo>
                      <a:cubicBezTo>
                        <a:pt x="336" y="64"/>
                        <a:pt x="313" y="41"/>
                        <a:pt x="285" y="26"/>
                      </a:cubicBezTo>
                      <a:cubicBezTo>
                        <a:pt x="256" y="10"/>
                        <a:pt x="224" y="1"/>
                        <a:pt x="191" y="0"/>
                      </a:cubicBezTo>
                      <a:cubicBezTo>
                        <a:pt x="158" y="0"/>
                        <a:pt x="125" y="7"/>
                        <a:pt x="97" y="22"/>
                      </a:cubicBezTo>
                      <a:cubicBezTo>
                        <a:pt x="68" y="37"/>
                        <a:pt x="44" y="59"/>
                        <a:pt x="27" y="85"/>
                      </a:cubicBezTo>
                      <a:cubicBezTo>
                        <a:pt x="10" y="111"/>
                        <a:pt x="1" y="141"/>
                        <a:pt x="0" y="171"/>
                      </a:cubicBezTo>
                      <a:close/>
                    </a:path>
                  </a:pathLst>
                </a:custGeom>
                <a:solidFill>
                  <a:srgbClr val="fdf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451560" y="4178160"/>
                  <a:ext cx="114840" cy="108000"/>
                </a:xfrm>
                <a:custGeom>
                  <a:avLst/>
                  <a:gdLst/>
                  <a:ahLst/>
                  <a:rect l="0" t="0" r="r" b="b"/>
                  <a:pathLst>
                    <a:path w="319" h="300">
                      <a:moveTo>
                        <a:pt x="0" y="147"/>
                      </a:moveTo>
                      <a:lnTo>
                        <a:pt x="0" y="147"/>
                      </a:lnTo>
                      <a:cubicBezTo>
                        <a:pt x="0" y="174"/>
                        <a:pt x="7" y="200"/>
                        <a:pt x="20" y="223"/>
                      </a:cubicBezTo>
                      <a:cubicBezTo>
                        <a:pt x="34" y="246"/>
                        <a:pt x="53" y="265"/>
                        <a:pt x="77" y="278"/>
                      </a:cubicBezTo>
                      <a:cubicBezTo>
                        <a:pt x="101" y="292"/>
                        <a:pt x="129" y="299"/>
                        <a:pt x="157" y="300"/>
                      </a:cubicBezTo>
                      <a:cubicBezTo>
                        <a:pt x="185" y="300"/>
                        <a:pt x="212" y="294"/>
                        <a:pt x="237" y="281"/>
                      </a:cubicBezTo>
                      <a:cubicBezTo>
                        <a:pt x="261" y="269"/>
                        <a:pt x="282" y="250"/>
                        <a:pt x="296" y="227"/>
                      </a:cubicBezTo>
                      <a:cubicBezTo>
                        <a:pt x="311" y="205"/>
                        <a:pt x="319" y="179"/>
                        <a:pt x="319" y="153"/>
                      </a:cubicBezTo>
                      <a:lnTo>
                        <a:pt x="319" y="153"/>
                      </a:lnTo>
                      <a:lnTo>
                        <a:pt x="319" y="153"/>
                      </a:lnTo>
                      <a:cubicBezTo>
                        <a:pt x="319" y="126"/>
                        <a:pt x="312" y="100"/>
                        <a:pt x="299" y="77"/>
                      </a:cubicBezTo>
                      <a:cubicBezTo>
                        <a:pt x="285" y="54"/>
                        <a:pt x="266" y="35"/>
                        <a:pt x="242" y="22"/>
                      </a:cubicBezTo>
                      <a:cubicBezTo>
                        <a:pt x="218" y="8"/>
                        <a:pt x="190" y="1"/>
                        <a:pt x="162" y="0"/>
                      </a:cubicBezTo>
                      <a:cubicBezTo>
                        <a:pt x="134" y="0"/>
                        <a:pt x="107" y="6"/>
                        <a:pt x="82" y="19"/>
                      </a:cubicBezTo>
                      <a:cubicBezTo>
                        <a:pt x="58" y="31"/>
                        <a:pt x="37" y="50"/>
                        <a:pt x="23" y="73"/>
                      </a:cubicBezTo>
                      <a:cubicBezTo>
                        <a:pt x="8" y="95"/>
                        <a:pt x="0" y="121"/>
                        <a:pt x="0" y="147"/>
                      </a:cubicBezTo>
                      <a:close/>
                    </a:path>
                  </a:pathLst>
                </a:custGeom>
                <a:solidFill>
                  <a:srgbClr val="fdf83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464160" y="4182840"/>
                  <a:ext cx="95760" cy="99000"/>
                </a:xfrm>
                <a:custGeom>
                  <a:avLst/>
                  <a:gdLst/>
                  <a:ahLst/>
                  <a:rect l="0" t="0" r="r" b="b"/>
                  <a:pathLst>
                    <a:path w="266" h="275">
                      <a:moveTo>
                        <a:pt x="0" y="135"/>
                      </a:moveTo>
                      <a:lnTo>
                        <a:pt x="0" y="135"/>
                      </a:lnTo>
                      <a:lnTo>
                        <a:pt x="0" y="135"/>
                      </a:lnTo>
                      <a:cubicBezTo>
                        <a:pt x="0" y="159"/>
                        <a:pt x="5" y="183"/>
                        <a:pt x="17" y="204"/>
                      </a:cubicBezTo>
                      <a:cubicBezTo>
                        <a:pt x="28" y="225"/>
                        <a:pt x="44" y="243"/>
                        <a:pt x="64" y="255"/>
                      </a:cubicBezTo>
                      <a:cubicBezTo>
                        <a:pt x="84" y="267"/>
                        <a:pt x="107" y="274"/>
                        <a:pt x="131" y="275"/>
                      </a:cubicBezTo>
                      <a:cubicBezTo>
                        <a:pt x="154" y="275"/>
                        <a:pt x="177" y="269"/>
                        <a:pt x="197" y="257"/>
                      </a:cubicBezTo>
                      <a:cubicBezTo>
                        <a:pt x="218" y="246"/>
                        <a:pt x="235" y="229"/>
                        <a:pt x="247" y="208"/>
                      </a:cubicBezTo>
                      <a:cubicBezTo>
                        <a:pt x="259" y="187"/>
                        <a:pt x="266" y="164"/>
                        <a:pt x="266" y="140"/>
                      </a:cubicBezTo>
                      <a:lnTo>
                        <a:pt x="266" y="140"/>
                      </a:lnTo>
                      <a:lnTo>
                        <a:pt x="266" y="140"/>
                      </a:lnTo>
                      <a:cubicBezTo>
                        <a:pt x="266" y="116"/>
                        <a:pt x="261" y="92"/>
                        <a:pt x="249" y="71"/>
                      </a:cubicBezTo>
                      <a:cubicBezTo>
                        <a:pt x="238" y="50"/>
                        <a:pt x="222" y="32"/>
                        <a:pt x="202" y="20"/>
                      </a:cubicBezTo>
                      <a:cubicBezTo>
                        <a:pt x="182" y="8"/>
                        <a:pt x="159" y="1"/>
                        <a:pt x="135" y="0"/>
                      </a:cubicBezTo>
                      <a:cubicBezTo>
                        <a:pt x="112" y="0"/>
                        <a:pt x="89" y="6"/>
                        <a:pt x="69" y="18"/>
                      </a:cubicBezTo>
                      <a:cubicBezTo>
                        <a:pt x="48" y="29"/>
                        <a:pt x="31" y="46"/>
                        <a:pt x="19" y="67"/>
                      </a:cubicBezTo>
                      <a:cubicBezTo>
                        <a:pt x="7" y="88"/>
                        <a:pt x="0" y="111"/>
                        <a:pt x="0" y="135"/>
                      </a:cubicBezTo>
                      <a:close/>
                    </a:path>
                  </a:pathLst>
                </a:custGeom>
                <a:solidFill>
                  <a:srgbClr val="fefa6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470640" y="4191120"/>
                  <a:ext cx="82800" cy="81360"/>
                </a:xfrm>
                <a:custGeom>
                  <a:avLst/>
                  <a:gdLst/>
                  <a:ahLst/>
                  <a:rect l="0" t="0" r="r" b="b"/>
                  <a:pathLst>
                    <a:path w="230" h="226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0" y="111"/>
                      </a:lnTo>
                      <a:cubicBezTo>
                        <a:pt x="0" y="131"/>
                        <a:pt x="5" y="151"/>
                        <a:pt x="14" y="168"/>
                      </a:cubicBezTo>
                      <a:cubicBezTo>
                        <a:pt x="24" y="185"/>
                        <a:pt x="38" y="200"/>
                        <a:pt x="56" y="210"/>
                      </a:cubicBezTo>
                      <a:cubicBezTo>
                        <a:pt x="73" y="221"/>
                        <a:pt x="93" y="226"/>
                        <a:pt x="113" y="226"/>
                      </a:cubicBezTo>
                      <a:cubicBezTo>
                        <a:pt x="133" y="227"/>
                        <a:pt x="153" y="222"/>
                        <a:pt x="171" y="212"/>
                      </a:cubicBezTo>
                      <a:cubicBezTo>
                        <a:pt x="188" y="203"/>
                        <a:pt x="203" y="189"/>
                        <a:pt x="214" y="171"/>
                      </a:cubicBezTo>
                      <a:cubicBezTo>
                        <a:pt x="224" y="154"/>
                        <a:pt x="230" y="135"/>
                        <a:pt x="230" y="115"/>
                      </a:cubicBezTo>
                      <a:lnTo>
                        <a:pt x="230" y="115"/>
                      </a:lnTo>
                      <a:lnTo>
                        <a:pt x="230" y="115"/>
                      </a:lnTo>
                      <a:cubicBezTo>
                        <a:pt x="230" y="95"/>
                        <a:pt x="225" y="75"/>
                        <a:pt x="216" y="58"/>
                      </a:cubicBezTo>
                      <a:cubicBezTo>
                        <a:pt x="206" y="41"/>
                        <a:pt x="192" y="26"/>
                        <a:pt x="174" y="16"/>
                      </a:cubicBezTo>
                      <a:cubicBezTo>
                        <a:pt x="157" y="5"/>
                        <a:pt x="137" y="0"/>
                        <a:pt x="117" y="0"/>
                      </a:cubicBezTo>
                      <a:cubicBezTo>
                        <a:pt x="97" y="-1"/>
                        <a:pt x="77" y="4"/>
                        <a:pt x="59" y="14"/>
                      </a:cubicBezTo>
                      <a:cubicBezTo>
                        <a:pt x="42" y="23"/>
                        <a:pt x="27" y="37"/>
                        <a:pt x="16" y="55"/>
                      </a:cubicBezTo>
                      <a:cubicBezTo>
                        <a:pt x="6" y="72"/>
                        <a:pt x="0" y="91"/>
                        <a:pt x="0" y="111"/>
                      </a:cubicBezTo>
                      <a:close/>
                    </a:path>
                  </a:pathLst>
                </a:custGeom>
                <a:solidFill>
                  <a:srgbClr val="fefb95"/>
                </a:solidFill>
                <a:ln w="0">
                  <a:noFill/>
                </a:ln>
              </p:spPr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480000" y="4208400"/>
                  <a:ext cx="63720" cy="53280"/>
                </a:xfrm>
                <a:custGeom>
                  <a:avLst/>
                  <a:gdLst/>
                  <a:ahLst/>
                  <a:rect l="0" t="0" r="r" b="b"/>
                  <a:pathLst>
                    <a:path w="177" h="148">
                      <a:moveTo>
                        <a:pt x="0" y="72"/>
                      </a:moveTo>
                      <a:lnTo>
                        <a:pt x="0" y="72"/>
                      </a:lnTo>
                      <a:cubicBezTo>
                        <a:pt x="0" y="86"/>
                        <a:pt x="4" y="98"/>
                        <a:pt x="11" y="110"/>
                      </a:cubicBezTo>
                      <a:cubicBezTo>
                        <a:pt x="19" y="121"/>
                        <a:pt x="30" y="131"/>
                        <a:pt x="43" y="138"/>
                      </a:cubicBezTo>
                      <a:cubicBezTo>
                        <a:pt x="56" y="145"/>
                        <a:pt x="72" y="148"/>
                        <a:pt x="87" y="148"/>
                      </a:cubicBezTo>
                      <a:cubicBezTo>
                        <a:pt x="103" y="149"/>
                        <a:pt x="118" y="146"/>
                        <a:pt x="132" y="139"/>
                      </a:cubicBezTo>
                      <a:cubicBezTo>
                        <a:pt x="145" y="133"/>
                        <a:pt x="157" y="124"/>
                        <a:pt x="164" y="113"/>
                      </a:cubicBezTo>
                      <a:cubicBezTo>
                        <a:pt x="172" y="101"/>
                        <a:pt x="177" y="89"/>
                        <a:pt x="177" y="76"/>
                      </a:cubicBezTo>
                      <a:lnTo>
                        <a:pt x="177" y="76"/>
                      </a:lnTo>
                      <a:lnTo>
                        <a:pt x="177" y="76"/>
                      </a:lnTo>
                      <a:cubicBezTo>
                        <a:pt x="177" y="62"/>
                        <a:pt x="173" y="50"/>
                        <a:pt x="166" y="38"/>
                      </a:cubicBezTo>
                      <a:cubicBezTo>
                        <a:pt x="158" y="27"/>
                        <a:pt x="147" y="17"/>
                        <a:pt x="134" y="10"/>
                      </a:cubicBezTo>
                      <a:cubicBezTo>
                        <a:pt x="121" y="3"/>
                        <a:pt x="105" y="0"/>
                        <a:pt x="90" y="0"/>
                      </a:cubicBezTo>
                      <a:cubicBezTo>
                        <a:pt x="74" y="-1"/>
                        <a:pt x="59" y="2"/>
                        <a:pt x="45" y="9"/>
                      </a:cubicBezTo>
                      <a:cubicBezTo>
                        <a:pt x="32" y="15"/>
                        <a:pt x="20" y="24"/>
                        <a:pt x="13" y="35"/>
                      </a:cubicBezTo>
                      <a:cubicBezTo>
                        <a:pt x="5" y="47"/>
                        <a:pt x="0" y="59"/>
                        <a:pt x="0" y="72"/>
                      </a:cubicBezTo>
                      <a:close/>
                    </a:path>
                  </a:pathLst>
                </a:custGeom>
                <a:solidFill>
                  <a:srgbClr val="fffca2"/>
                </a:solidFill>
                <a:ln w="0">
                  <a:noFill/>
                </a:ln>
              </p:spPr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85040" y="4208400"/>
                  <a:ext cx="49680" cy="45720"/>
                </a:xfrm>
                <a:custGeom>
                  <a:avLst/>
                  <a:gdLst/>
                  <a:ahLst/>
                  <a:rect l="0" t="0" r="r" b="b"/>
                  <a:pathLst>
                    <a:path w="138" h="127">
                      <a:moveTo>
                        <a:pt x="0" y="62"/>
                      </a:moveTo>
                      <a:lnTo>
                        <a:pt x="0" y="62"/>
                      </a:lnTo>
                      <a:cubicBezTo>
                        <a:pt x="0" y="63"/>
                        <a:pt x="0" y="63"/>
                        <a:pt x="0" y="63"/>
                      </a:cubicBezTo>
                      <a:cubicBezTo>
                        <a:pt x="0" y="74"/>
                        <a:pt x="3" y="85"/>
                        <a:pt x="9" y="95"/>
                      </a:cubicBezTo>
                      <a:cubicBezTo>
                        <a:pt x="15" y="104"/>
                        <a:pt x="23" y="113"/>
                        <a:pt x="34" y="118"/>
                      </a:cubicBezTo>
                      <a:cubicBezTo>
                        <a:pt x="44" y="124"/>
                        <a:pt x="56" y="127"/>
                        <a:pt x="68" y="127"/>
                      </a:cubicBezTo>
                      <a:cubicBezTo>
                        <a:pt x="80" y="128"/>
                        <a:pt x="92" y="125"/>
                        <a:pt x="103" y="120"/>
                      </a:cubicBezTo>
                      <a:cubicBezTo>
                        <a:pt x="113" y="114"/>
                        <a:pt x="122" y="106"/>
                        <a:pt x="128" y="97"/>
                      </a:cubicBezTo>
                      <a:cubicBezTo>
                        <a:pt x="134" y="87"/>
                        <a:pt x="138" y="77"/>
                        <a:pt x="138" y="66"/>
                      </a:cubicBezTo>
                      <a:lnTo>
                        <a:pt x="138" y="66"/>
                      </a:lnTo>
                      <a:cubicBezTo>
                        <a:pt x="138" y="65"/>
                        <a:pt x="138" y="65"/>
                        <a:pt x="138" y="65"/>
                      </a:cubicBezTo>
                      <a:cubicBezTo>
                        <a:pt x="138" y="54"/>
                        <a:pt x="135" y="43"/>
                        <a:pt x="129" y="33"/>
                      </a:cubicBezTo>
                      <a:cubicBezTo>
                        <a:pt x="123" y="24"/>
                        <a:pt x="115" y="15"/>
                        <a:pt x="104" y="10"/>
                      </a:cubicBezTo>
                      <a:cubicBezTo>
                        <a:pt x="94" y="4"/>
                        <a:pt x="82" y="1"/>
                        <a:pt x="70" y="0"/>
                      </a:cubicBezTo>
                      <a:cubicBezTo>
                        <a:pt x="58" y="0"/>
                        <a:pt x="46" y="3"/>
                        <a:pt x="35" y="8"/>
                      </a:cubicBezTo>
                      <a:cubicBezTo>
                        <a:pt x="25" y="14"/>
                        <a:pt x="16" y="22"/>
                        <a:pt x="10" y="31"/>
                      </a:cubicBezTo>
                      <a:cubicBezTo>
                        <a:pt x="4" y="41"/>
                        <a:pt x="0" y="51"/>
                        <a:pt x="0" y="62"/>
                      </a:cubicBezTo>
                      <a:close/>
                    </a:path>
                  </a:pathLst>
                </a:custGeom>
                <a:solidFill>
                  <a:srgbClr val="fffed9"/>
                </a:solidFill>
                <a:ln w="0">
                  <a:noFill/>
                </a:ln>
              </p:spPr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6518160" y="4249800"/>
                <a:ext cx="295560" cy="275040"/>
              </a:xfrm>
              <a:custGeom>
                <a:avLst/>
                <a:gdLst/>
                <a:ahLst/>
                <a:rect l="0" t="0" r="r" b="b"/>
                <a:pathLst>
                  <a:path w="821" h="764">
                    <a:moveTo>
                      <a:pt x="170" y="156"/>
                    </a:moveTo>
                    <a:lnTo>
                      <a:pt x="144" y="112"/>
                    </a:lnTo>
                    <a:lnTo>
                      <a:pt x="0" y="0"/>
                    </a:lnTo>
                    <a:lnTo>
                      <a:pt x="223" y="123"/>
                    </a:lnTo>
                    <a:lnTo>
                      <a:pt x="610" y="267"/>
                    </a:lnTo>
                    <a:lnTo>
                      <a:pt x="592" y="288"/>
                    </a:lnTo>
                    <a:lnTo>
                      <a:pt x="578" y="324"/>
                    </a:lnTo>
                    <a:lnTo>
                      <a:pt x="277" y="257"/>
                    </a:lnTo>
                    <a:lnTo>
                      <a:pt x="352" y="291"/>
                    </a:lnTo>
                    <a:lnTo>
                      <a:pt x="458" y="333"/>
                    </a:lnTo>
                    <a:lnTo>
                      <a:pt x="578" y="405"/>
                    </a:lnTo>
                    <a:lnTo>
                      <a:pt x="560" y="402"/>
                    </a:lnTo>
                    <a:lnTo>
                      <a:pt x="554" y="431"/>
                    </a:lnTo>
                    <a:lnTo>
                      <a:pt x="546" y="450"/>
                    </a:lnTo>
                    <a:lnTo>
                      <a:pt x="742" y="589"/>
                    </a:lnTo>
                    <a:lnTo>
                      <a:pt x="801" y="700"/>
                    </a:lnTo>
                    <a:lnTo>
                      <a:pt x="821" y="764"/>
                    </a:lnTo>
                    <a:lnTo>
                      <a:pt x="716" y="615"/>
                    </a:lnTo>
                    <a:lnTo>
                      <a:pt x="566" y="514"/>
                    </a:lnTo>
                    <a:lnTo>
                      <a:pt x="423" y="428"/>
                    </a:lnTo>
                    <a:lnTo>
                      <a:pt x="426" y="400"/>
                    </a:lnTo>
                    <a:lnTo>
                      <a:pt x="446" y="393"/>
                    </a:lnTo>
                    <a:lnTo>
                      <a:pt x="470" y="388"/>
                    </a:lnTo>
                    <a:lnTo>
                      <a:pt x="256" y="296"/>
                    </a:lnTo>
                    <a:lnTo>
                      <a:pt x="186" y="259"/>
                    </a:lnTo>
                    <a:lnTo>
                      <a:pt x="162" y="233"/>
                    </a:lnTo>
                    <a:lnTo>
                      <a:pt x="166" y="212"/>
                    </a:lnTo>
                    <a:lnTo>
                      <a:pt x="196" y="210"/>
                    </a:lnTo>
                    <a:lnTo>
                      <a:pt x="226" y="217"/>
                    </a:lnTo>
                    <a:lnTo>
                      <a:pt x="461" y="245"/>
                    </a:lnTo>
                    <a:lnTo>
                      <a:pt x="170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3480" y="4238640"/>
                <a:ext cx="329040" cy="267120"/>
              </a:xfrm>
              <a:custGeom>
                <a:avLst/>
                <a:gdLst/>
                <a:ahLst/>
                <a:rect l="0" t="0" r="r" b="b"/>
                <a:pathLst>
                  <a:path w="914" h="742">
                    <a:moveTo>
                      <a:pt x="6" y="47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293" y="120"/>
                    </a:lnTo>
                    <a:lnTo>
                      <a:pt x="633" y="285"/>
                    </a:lnTo>
                    <a:lnTo>
                      <a:pt x="616" y="306"/>
                    </a:lnTo>
                    <a:lnTo>
                      <a:pt x="601" y="342"/>
                    </a:lnTo>
                    <a:lnTo>
                      <a:pt x="296" y="274"/>
                    </a:lnTo>
                    <a:lnTo>
                      <a:pt x="374" y="308"/>
                    </a:lnTo>
                    <a:lnTo>
                      <a:pt x="479" y="351"/>
                    </a:lnTo>
                    <a:lnTo>
                      <a:pt x="601" y="423"/>
                    </a:lnTo>
                    <a:lnTo>
                      <a:pt x="583" y="422"/>
                    </a:lnTo>
                    <a:lnTo>
                      <a:pt x="576" y="451"/>
                    </a:lnTo>
                    <a:lnTo>
                      <a:pt x="569" y="469"/>
                    </a:lnTo>
                    <a:lnTo>
                      <a:pt x="880" y="690"/>
                    </a:lnTo>
                    <a:lnTo>
                      <a:pt x="909" y="728"/>
                    </a:lnTo>
                    <a:lnTo>
                      <a:pt x="914" y="742"/>
                    </a:lnTo>
                    <a:lnTo>
                      <a:pt x="766" y="651"/>
                    </a:lnTo>
                    <a:lnTo>
                      <a:pt x="588" y="534"/>
                    </a:lnTo>
                    <a:lnTo>
                      <a:pt x="445" y="448"/>
                    </a:lnTo>
                    <a:lnTo>
                      <a:pt x="447" y="419"/>
                    </a:lnTo>
                    <a:lnTo>
                      <a:pt x="467" y="412"/>
                    </a:lnTo>
                    <a:lnTo>
                      <a:pt x="491" y="407"/>
                    </a:lnTo>
                    <a:lnTo>
                      <a:pt x="277" y="313"/>
                    </a:lnTo>
                    <a:lnTo>
                      <a:pt x="205" y="277"/>
                    </a:lnTo>
                    <a:lnTo>
                      <a:pt x="180" y="251"/>
                    </a:lnTo>
                    <a:lnTo>
                      <a:pt x="184" y="229"/>
                    </a:lnTo>
                    <a:lnTo>
                      <a:pt x="215" y="227"/>
                    </a:lnTo>
                    <a:lnTo>
                      <a:pt x="246" y="234"/>
                    </a:lnTo>
                    <a:lnTo>
                      <a:pt x="484" y="263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b760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 txBox="1"/>
          <p:nvPr/>
        </p:nvSpPr>
        <p:spPr>
          <a:xfrm>
            <a:off x="898560" y="6005520"/>
            <a:ext cx="3740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tt.com/unix_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ff.donnelly@at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ally Slow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specializes in a wide array of device support that look like 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devices are REALLY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block for a really really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the disk I/O is always q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 reads into smaller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on blocking I/O and poll/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dows File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den, system, archive, read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oad UNIX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dow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support to UNIX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File Name Space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280" y="2000160"/>
            <a:ext cx="8989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ame Space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35000" y="1676520"/>
            <a:ext cx="7728120" cy="44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ed for legacy work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ed for legacy apps on NT, Win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dow file per system, file system,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to 8.3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 NT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xed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ame Space Mapping: On the 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35000" y="1676520"/>
            <a:ext cx="7728120" cy="42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U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ss invalid characters, keep firs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 “~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atenate with munged i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mod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^3)  represent by 0-9, a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ds of a collision ar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U un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“~” i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ents() and check i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35000" y="1676520"/>
            <a:ext cx="77281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time is 32 bits (n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seconds from 1 Jan 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time is 64 bits (little en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nano seconds since 16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time is 32 bits (little en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/ time bit encoding &amp;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yte[0]: yyyy yyy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yte[1]: mmmd dd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yte[2]: hhhh hm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yte[3]: mmms s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ime - Qui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wants time rounded to 2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wants time in G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tuff wants time in loc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forget daylight savings time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0 - 20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70 - 21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01 - 308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File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5000" y="1676520"/>
            <a:ext cx="7728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NIX lock in addition to CIFS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‘mandatory’ rather than ‘advisory’ 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uses 64 bit 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 clients use 32 bit unsigned 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uses off_t locks (typically signed lo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 bit UNIX uses 64 bit off_t 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lock vs. UNIX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retain complete lock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 size, don’t mas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pportunistic 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easy to im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 to coordinate with UNIX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file 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llow oplock on files/dirs that will be shared with UNIX users/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API to the application to break oplocks / register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llow oplocks on files with UNIX 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35000" y="1676520"/>
            <a:ext cx="772812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scales really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your CIF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your NetBIOS &amp;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/processes aren’t free; strike a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your cue from paging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fast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fas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your per system / blocking 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3500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: What it IS and what it 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for a UNIX CIFS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ng to the protoco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ing client / redirector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ing up with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ing domains, trusts, N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an administrativ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ing portability across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with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35000" y="1676520"/>
            <a:ext cx="772812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cally every string from NT is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 uses Unicode for CIFS &amp;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it Windows uses no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RPC API’s are the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order vs. Wi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Conversion on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v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859-1 mapp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PC437 conversi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rtability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35000" y="1676520"/>
            <a:ext cx="772812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e world is not I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EA’s and Event Records in Inte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unctions/macros for byte trans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to wire, wire t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careful of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will be unhappy if you’re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packs unaligned.  Especially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de-reference null po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ument order evaluation IS un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64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portab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correc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_t is better than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store pointers in an 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won’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at the maximum warn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programmers pay attention to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UNIX Integration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 and UNIX UID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s and ACL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/ NT Password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Quotas, and Slow 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Spac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35000" y="1676520"/>
            <a:ext cx="7728120" cy="44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thing is in a domain or work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NT servers, UNIX servers,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validated via sess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ty is User\Domain with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der clients submit just User with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e a CIFS user identity and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Us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 a PDC or B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Workgroup Users to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Domain Users/Groups to local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ld use /etc/passwd for CIFS user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user names limited to UNIX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a separate password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UID Mapping is not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-style CIFS users and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identities not limited, more seam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the door to better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s a UNIX UID Mapp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UID Mapping -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o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o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b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for trust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o UID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 NT Identities and Security Descriptors / Access Contro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layer of file access control is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Open objects as root or &lt;no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but weak UNIX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 to share access with UNIX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ownership is difficult to view from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ID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new or re-use existing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a hash with reasonable uniq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D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nt same uid for user on all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able to change th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s Group</dc:creator>
  <dc:description/>
  <dc:language>en-US</dc:language>
  <cp:lastModifiedBy>Presentations Group</cp:lastModifiedBy>
  <cp:revision>0</cp:revision>
  <dc:subject>Template</dc:subject>
  <dc:title>Royal Blue PowerPoint Template</dc:title>
</cp:coreProperties>
</file>