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6800" cy="6846840"/>
          </a:xfrm>
          <a:prstGeom prst="rect">
            <a:avLst/>
          </a:prstGeom>
          <a:gradFill rotWithShape="0">
            <a:gsLst>
              <a:gs pos="0">
                <a:srgbClr val="00387d"/>
              </a:gs>
              <a:gs pos="100000">
                <a:srgbClr val="001632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28520" y="6303960"/>
            <a:ext cx="539640" cy="277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6784920" y="6566040"/>
            <a:ext cx="2279520" cy="31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mputer Telephony 1994 page </a:t>
            </a:r>
            <a:fld id="{673127FF-79DD-42B7-9EC2-E7B747414C2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735880" y="2514600"/>
            <a:ext cx="3124440" cy="1171440"/>
            <a:chOff x="5735880" y="2514600"/>
            <a:chExt cx="3124440" cy="1171440"/>
          </a:xfrm>
        </p:grpSpPr>
        <p:grpSp>
          <p:nvGrpSpPr>
            <p:cNvPr id="42" name=""/>
            <p:cNvGrpSpPr/>
            <p:nvPr/>
          </p:nvGrpSpPr>
          <p:grpSpPr>
            <a:xfrm>
              <a:off x="7178760" y="2514600"/>
              <a:ext cx="1681560" cy="1171440"/>
              <a:chOff x="7178760" y="2514600"/>
              <a:chExt cx="1681560" cy="11714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8678880" y="2514600"/>
                <a:ext cx="181440" cy="596880"/>
                <a:chOff x="8678880" y="2514600"/>
                <a:chExt cx="181440" cy="59688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8748720" y="2514600"/>
                  <a:ext cx="15840" cy="596880"/>
                  <a:chOff x="8748720" y="2514600"/>
                  <a:chExt cx="15840" cy="59688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8748720" y="2514600"/>
                    <a:ext cx="1584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8748720" y="2521080"/>
                    <a:ext cx="15840" cy="5904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" name=""/>
                <p:cNvSpPr/>
                <p:nvPr/>
              </p:nvSpPr>
              <p:spPr>
                <a:xfrm>
                  <a:off x="8678880" y="2549520"/>
                  <a:ext cx="181440" cy="9720"/>
                </a:xfrm>
                <a:custGeom>
                  <a:avLst/>
                  <a:gdLst/>
                  <a:ahLst/>
                  <a:rect l="0" t="0" r="r" b="b"/>
                  <a:pathLst>
                    <a:path w="504" h="27">
                      <a:moveTo>
                        <a:pt x="504" y="0"/>
                      </a:move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504" y="27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8032680" y="2532240"/>
                <a:ext cx="238320" cy="855360"/>
                <a:chOff x="8032680" y="2532240"/>
                <a:chExt cx="238320" cy="85536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8131320" y="2532240"/>
                  <a:ext cx="20520" cy="855360"/>
                  <a:chOff x="8131320" y="2532240"/>
                  <a:chExt cx="20520" cy="85536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8131320" y="2532240"/>
                    <a:ext cx="20520" cy="1584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8131320" y="2541600"/>
                    <a:ext cx="20520" cy="846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" name=""/>
                <p:cNvSpPr/>
                <p:nvPr/>
              </p:nvSpPr>
              <p:spPr>
                <a:xfrm>
                  <a:off x="8032680" y="2570040"/>
                  <a:ext cx="238320" cy="19440"/>
                </a:xfrm>
                <a:custGeom>
                  <a:avLst/>
                  <a:gdLst/>
                  <a:ahLst/>
                  <a:rect l="0" t="0" r="r" b="b"/>
                  <a:pathLst>
                    <a:path w="662" h="54">
                      <a:moveTo>
                        <a:pt x="662" y="0"/>
                      </a:moveTo>
                      <a:lnTo>
                        <a:pt x="0" y="4"/>
                      </a:lnTo>
                      <a:lnTo>
                        <a:pt x="0" y="54"/>
                      </a:lnTo>
                      <a:lnTo>
                        <a:pt x="662" y="43"/>
                      </a:lnTo>
                      <a:lnTo>
                        <a:pt x="662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7178760" y="2538360"/>
                <a:ext cx="349560" cy="1147680"/>
                <a:chOff x="7178760" y="2538360"/>
                <a:chExt cx="349560" cy="114768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7316640" y="2538360"/>
                  <a:ext cx="34920" cy="1147680"/>
                  <a:chOff x="7316640" y="2538360"/>
                  <a:chExt cx="34920" cy="11476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>
                    <a:off x="7316640" y="2538360"/>
                    <a:ext cx="34920" cy="2052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7316640" y="2549520"/>
                    <a:ext cx="34920" cy="113652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" name=""/>
                <p:cNvSpPr/>
                <p:nvPr/>
              </p:nvSpPr>
              <p:spPr>
                <a:xfrm>
                  <a:off x="7178760" y="2602080"/>
                  <a:ext cx="349560" cy="22680"/>
                </a:xfrm>
                <a:custGeom>
                  <a:avLst/>
                  <a:gdLst/>
                  <a:ahLst/>
                  <a:rect l="0" t="0" r="r" b="b"/>
                  <a:pathLst>
                    <a:path w="971" h="63">
                      <a:moveTo>
                        <a:pt x="971" y="6"/>
                      </a:moveTo>
                      <a:lnTo>
                        <a:pt x="0" y="0"/>
                      </a:lnTo>
                      <a:lnTo>
                        <a:pt x="0" y="54"/>
                      </a:lnTo>
                      <a:lnTo>
                        <a:pt x="971" y="63"/>
                      </a:lnTo>
                      <a:lnTo>
                        <a:pt x="971" y="6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5735880" y="2550240"/>
              <a:ext cx="3106080" cy="338040"/>
              <a:chOff x="5735880" y="2550240"/>
              <a:chExt cx="3106080" cy="3380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7202880" y="2550240"/>
                <a:ext cx="1639080" cy="171000"/>
                <a:chOff x="7202880" y="2550240"/>
                <a:chExt cx="1639080" cy="1710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7455240" y="2581560"/>
                  <a:ext cx="760320" cy="127440"/>
                </a:xfrm>
                <a:custGeom>
                  <a:avLst/>
                  <a:gdLst/>
                  <a:ahLst/>
                  <a:rect l="0" t="0" r="r" b="b"/>
                  <a:pathLst>
                    <a:path fill="none" w="2112" h="354">
                      <a:moveTo>
                        <a:pt x="0" y="85"/>
                      </a:moveTo>
                      <a:lnTo>
                        <a:pt x="0" y="85"/>
                      </a:lnTo>
                      <a:cubicBezTo>
                        <a:pt x="24" y="115"/>
                        <a:pt x="59" y="144"/>
                        <a:pt x="105" y="170"/>
                      </a:cubicBezTo>
                      <a:cubicBezTo>
                        <a:pt x="199" y="226"/>
                        <a:pt x="335" y="273"/>
                        <a:pt x="499" y="305"/>
                      </a:cubicBezTo>
                      <a:cubicBezTo>
                        <a:pt x="662" y="337"/>
                        <a:pt x="848" y="354"/>
                        <a:pt x="1037" y="354"/>
                      </a:cubicBezTo>
                      <a:cubicBezTo>
                        <a:pt x="1226" y="354"/>
                        <a:pt x="1411" y="337"/>
                        <a:pt x="1575" y="305"/>
                      </a:cubicBezTo>
                      <a:cubicBezTo>
                        <a:pt x="1738" y="273"/>
                        <a:pt x="1874" y="226"/>
                        <a:pt x="1969" y="170"/>
                      </a:cubicBezTo>
                      <a:cubicBezTo>
                        <a:pt x="2056" y="118"/>
                        <a:pt x="2106" y="60"/>
                        <a:pt x="2112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212680" y="2551320"/>
                  <a:ext cx="629280" cy="117720"/>
                </a:xfrm>
                <a:custGeom>
                  <a:avLst/>
                  <a:gdLst/>
                  <a:ahLst/>
                  <a:rect l="0" t="0" r="r" b="b"/>
                  <a:pathLst>
                    <a:path fill="none" w="1748" h="327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14" y="94"/>
                        <a:pt x="30" y="107"/>
                        <a:pt x="47" y="121"/>
                      </a:cubicBezTo>
                      <a:cubicBezTo>
                        <a:pt x="128" y="184"/>
                        <a:pt x="244" y="235"/>
                        <a:pt x="385" y="272"/>
                      </a:cubicBezTo>
                      <a:cubicBezTo>
                        <a:pt x="525" y="308"/>
                        <a:pt x="684" y="327"/>
                        <a:pt x="846" y="327"/>
                      </a:cubicBezTo>
                      <a:cubicBezTo>
                        <a:pt x="1008" y="327"/>
                        <a:pt x="1167" y="308"/>
                        <a:pt x="1307" y="272"/>
                      </a:cubicBezTo>
                      <a:cubicBezTo>
                        <a:pt x="1447" y="235"/>
                        <a:pt x="1563" y="184"/>
                        <a:pt x="1644" y="121"/>
                      </a:cubicBezTo>
                      <a:cubicBezTo>
                        <a:pt x="1693" y="83"/>
                        <a:pt x="1728" y="43"/>
                        <a:pt x="1748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202880" y="2582280"/>
                  <a:ext cx="866520" cy="138960"/>
                </a:xfrm>
                <a:custGeom>
                  <a:avLst/>
                  <a:gdLst/>
                  <a:ahLst/>
                  <a:rect l="0" t="0" r="r" b="b"/>
                  <a:pathLst>
                    <a:path fill="none" w="2407" h="386">
                      <a:moveTo>
                        <a:pt x="0" y="57"/>
                      </a:moveTo>
                      <a:lnTo>
                        <a:pt x="0" y="57"/>
                      </a:lnTo>
                      <a:cubicBezTo>
                        <a:pt x="25" y="103"/>
                        <a:pt x="73" y="147"/>
                        <a:pt x="144" y="187"/>
                      </a:cubicBezTo>
                      <a:cubicBezTo>
                        <a:pt x="251" y="248"/>
                        <a:pt x="404" y="298"/>
                        <a:pt x="588" y="333"/>
                      </a:cubicBezTo>
                      <a:cubicBezTo>
                        <a:pt x="772" y="368"/>
                        <a:pt x="982" y="386"/>
                        <a:pt x="1195" y="386"/>
                      </a:cubicBezTo>
                      <a:cubicBezTo>
                        <a:pt x="1407" y="386"/>
                        <a:pt x="1617" y="368"/>
                        <a:pt x="1801" y="333"/>
                      </a:cubicBezTo>
                      <a:cubicBezTo>
                        <a:pt x="1985" y="298"/>
                        <a:pt x="2139" y="248"/>
                        <a:pt x="2245" y="187"/>
                      </a:cubicBezTo>
                      <a:cubicBezTo>
                        <a:pt x="2345" y="130"/>
                        <a:pt x="2401" y="66"/>
                        <a:pt x="2407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068680" y="2550240"/>
                  <a:ext cx="639720" cy="115920"/>
                </a:xfrm>
                <a:custGeom>
                  <a:avLst/>
                  <a:gdLst/>
                  <a:ahLst/>
                  <a:rect l="0" t="0" r="r" b="b"/>
                  <a:pathLst>
                    <a:path fill="none" w="1777" h="322">
                      <a:moveTo>
                        <a:pt x="0" y="90"/>
                      </a:moveTo>
                      <a:lnTo>
                        <a:pt x="0" y="90"/>
                      </a:lnTo>
                      <a:cubicBezTo>
                        <a:pt x="11" y="100"/>
                        <a:pt x="23" y="110"/>
                        <a:pt x="36" y="120"/>
                      </a:cubicBezTo>
                      <a:cubicBezTo>
                        <a:pt x="119" y="181"/>
                        <a:pt x="238" y="232"/>
                        <a:pt x="382" y="268"/>
                      </a:cubicBezTo>
                      <a:cubicBezTo>
                        <a:pt x="525" y="304"/>
                        <a:pt x="688" y="322"/>
                        <a:pt x="854" y="322"/>
                      </a:cubicBezTo>
                      <a:cubicBezTo>
                        <a:pt x="1019" y="322"/>
                        <a:pt x="1182" y="304"/>
                        <a:pt x="1325" y="268"/>
                      </a:cubicBezTo>
                      <a:cubicBezTo>
                        <a:pt x="1469" y="232"/>
                        <a:pt x="1588" y="181"/>
                        <a:pt x="1671" y="120"/>
                      </a:cubicBezTo>
                      <a:cubicBezTo>
                        <a:pt x="1721" y="82"/>
                        <a:pt x="1756" y="42"/>
                        <a:pt x="177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735880" y="2614320"/>
                <a:ext cx="1715760" cy="273960"/>
                <a:chOff x="5735880" y="2614320"/>
                <a:chExt cx="1715760" cy="2739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162120" y="2614320"/>
                  <a:ext cx="1289520" cy="248760"/>
                </a:xfrm>
                <a:custGeom>
                  <a:avLst/>
                  <a:gdLst/>
                  <a:ahLst/>
                  <a:rect l="0" t="0" r="r" b="b"/>
                  <a:pathLst>
                    <a:path fill="none" w="3582" h="691">
                      <a:moveTo>
                        <a:pt x="0" y="167"/>
                      </a:moveTo>
                      <a:lnTo>
                        <a:pt x="0" y="167"/>
                      </a:lnTo>
                      <a:cubicBezTo>
                        <a:pt x="41" y="225"/>
                        <a:pt x="101" y="280"/>
                        <a:pt x="177" y="332"/>
                      </a:cubicBezTo>
                      <a:cubicBezTo>
                        <a:pt x="337" y="441"/>
                        <a:pt x="567" y="532"/>
                        <a:pt x="845" y="595"/>
                      </a:cubicBezTo>
                      <a:cubicBezTo>
                        <a:pt x="1122" y="658"/>
                        <a:pt x="1437" y="691"/>
                        <a:pt x="1758" y="691"/>
                      </a:cubicBezTo>
                      <a:cubicBezTo>
                        <a:pt x="2078" y="691"/>
                        <a:pt x="2393" y="658"/>
                        <a:pt x="2670" y="595"/>
                      </a:cubicBezTo>
                      <a:cubicBezTo>
                        <a:pt x="2948" y="532"/>
                        <a:pt x="3178" y="441"/>
                        <a:pt x="3339" y="332"/>
                      </a:cubicBezTo>
                      <a:cubicBezTo>
                        <a:pt x="3488" y="231"/>
                        <a:pt x="3571" y="117"/>
                        <a:pt x="3582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735880" y="2616840"/>
                  <a:ext cx="1464840" cy="271440"/>
                </a:xfrm>
                <a:custGeom>
                  <a:avLst/>
                  <a:gdLst/>
                  <a:ahLst/>
                  <a:rect l="0" t="0" r="r" b="b"/>
                  <a:pathLst>
                    <a:path fill="none" w="4069" h="754">
                      <a:moveTo>
                        <a:pt x="0" y="112"/>
                      </a:moveTo>
                      <a:lnTo>
                        <a:pt x="0" y="112"/>
                      </a:lnTo>
                      <a:cubicBezTo>
                        <a:pt x="42" y="201"/>
                        <a:pt x="124" y="287"/>
                        <a:pt x="244" y="366"/>
                      </a:cubicBezTo>
                      <a:cubicBezTo>
                        <a:pt x="424" y="484"/>
                        <a:pt x="682" y="582"/>
                        <a:pt x="994" y="650"/>
                      </a:cubicBezTo>
                      <a:cubicBezTo>
                        <a:pt x="1306" y="718"/>
                        <a:pt x="1659" y="754"/>
                        <a:pt x="2019" y="754"/>
                      </a:cubicBezTo>
                      <a:cubicBezTo>
                        <a:pt x="2379" y="754"/>
                        <a:pt x="2733" y="718"/>
                        <a:pt x="3045" y="650"/>
                      </a:cubicBezTo>
                      <a:cubicBezTo>
                        <a:pt x="3356" y="582"/>
                        <a:pt x="3615" y="484"/>
                        <a:pt x="3795" y="366"/>
                      </a:cubicBezTo>
                      <a:cubicBezTo>
                        <a:pt x="3965" y="254"/>
                        <a:pt x="4059" y="129"/>
                        <a:pt x="406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2152800" y="1743120"/>
            <a:ext cx="4686120" cy="2867040"/>
            <a:chOff x="2152800" y="1743120"/>
            <a:chExt cx="4686120" cy="2867040"/>
          </a:xfrm>
        </p:grpSpPr>
        <p:sp>
          <p:nvSpPr>
            <p:cNvPr id="68" name=""/>
            <p:cNvSpPr/>
            <p:nvPr/>
          </p:nvSpPr>
          <p:spPr>
            <a:xfrm>
              <a:off x="2152800" y="1743120"/>
              <a:ext cx="4686120" cy="2867040"/>
            </a:xfrm>
            <a:prstGeom prst="ellipse">
              <a:avLst/>
            </a:prstGeom>
            <a:solidFill>
              <a:srgbClr val="00387d"/>
            </a:solidFill>
            <a:ln w="25560">
              <a:solidFill>
                <a:srgbClr val="00387d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711520" y="2239920"/>
              <a:ext cx="3568680" cy="18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700" spc="-1" strike="noStrike">
                  <a:solidFill>
                    <a:srgbClr val="00387d"/>
                  </a:solidFill>
                  <a:latin typeface="Arial"/>
                  <a:ea typeface="Arial"/>
                </a:rPr>
                <a:t>TAPI</a:t>
              </a:r>
              <a:endParaRPr b="0" lang="en-US" sz="1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indows Telepho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65560" y="4805280"/>
            <a:ext cx="40179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ul Dr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nior Software Engine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chitecture Development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l Cor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93800" y="6605640"/>
            <a:ext cx="406872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$Header::   D:/ppt/vcs/comptele.ppv   1.6   04 Mar 1994 16:57:02   drewsxpa        $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8760" y="2257560"/>
            <a:ext cx="2533680" cy="201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338640" y="4264200"/>
            <a:ext cx="136692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Developer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01680" y="1461960"/>
            <a:ext cx="767556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Serve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xtensions Forum (GO WINEXT), Sec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mail telephon@microsoft.com for private issues (automated respon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x Windows Telephony coordinator at +1 (206) 936-73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README.TXT file in SDK for other support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ho’s involv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01680" y="1461960"/>
            <a:ext cx="7675560" cy="56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tly developed by Intel/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c support by over 40 telephony equipment and softwar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witch manufacturers, Voice processing, Telephone companies, Chip manufacturers, Computer manufacturers, Software compan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nounc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 42 Service Provider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e technical note SPIVEND.D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unction Catego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01680" y="1461960"/>
            <a:ext cx="7675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vial way to place a call “by prox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ic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Old Telephone Services (PO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g., dial and answer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X, contents of telephon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d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Service Provider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off request to Cal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Manager places call “by prox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01920" y="2743200"/>
            <a:ext cx="4479840" cy="3484440"/>
            <a:chOff x="2401920" y="2743200"/>
            <a:chExt cx="4479840" cy="3484440"/>
          </a:xfrm>
        </p:grpSpPr>
        <p:sp>
          <p:nvSpPr>
            <p:cNvPr id="153" name=""/>
            <p:cNvSpPr txBox="1"/>
            <p:nvPr/>
          </p:nvSpPr>
          <p:spPr>
            <a:xfrm>
              <a:off x="4967280" y="526896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22560" y="5038560"/>
              <a:ext cx="3063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406600" y="4890960"/>
              <a:ext cx="51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3786120" y="4167360"/>
              <a:ext cx="2808360" cy="665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30480" y="3963960"/>
              <a:ext cx="2923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401920" y="3814920"/>
              <a:ext cx="522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A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497400" y="3962520"/>
              <a:ext cx="3384360" cy="1076040"/>
              <a:chOff x="3497400" y="3962520"/>
              <a:chExt cx="3384360" cy="1076040"/>
            </a:xfrm>
          </p:grpSpPr>
          <p:sp>
            <p:nvSpPr>
              <p:cNvPr id="160" name=""/>
              <p:cNvSpPr/>
              <p:nvPr/>
            </p:nvSpPr>
            <p:spPr>
              <a:xfrm>
                <a:off x="3497400" y="3962520"/>
                <a:ext cx="3384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97400" y="5038560"/>
                <a:ext cx="3384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 txBox="1"/>
            <p:nvPr/>
          </p:nvSpPr>
          <p:spPr>
            <a:xfrm>
              <a:off x="3251160" y="274968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nab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967280" y="274320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22640" y="3600360"/>
              <a:ext cx="1233720" cy="646560"/>
            </a:xfrm>
            <a:custGeom>
              <a:avLst/>
              <a:gdLst/>
              <a:ahLst/>
              <a:rect l="0" t="0" r="r" b="b"/>
              <a:pathLst>
                <a:path fill="none" w="3427" h="1796">
                  <a:moveTo>
                    <a:pt x="0" y="0"/>
                  </a:moveTo>
                  <a:lnTo>
                    <a:pt x="0" y="1796"/>
                  </a:lnTo>
                  <a:lnTo>
                    <a:pt x="3427" y="1796"/>
                  </a:lnTo>
                  <a:lnTo>
                    <a:pt x="3427" y="0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4360" y="3600360"/>
              <a:ext cx="0" cy="1762200"/>
            </a:xfrm>
            <a:prstGeom prst="line">
              <a:avLst/>
            </a:prstGeom>
            <a:ln w="38160">
              <a:solidFill>
                <a:srgbClr val="ff34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01680" y="1461960"/>
            <a:ext cx="767556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of the time, you just want to place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Make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vial to use, even from a mac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other times, you just want to place a call, then proceed with media, e.g., fax, file transf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Media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back status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Drop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2.0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bound to menu, key, 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ce a call to selected phone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the whole th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3886200"/>
            <a:ext cx="7467480" cy="251460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 Function tapiRequestMakeCall Lib "TAPI.DLL"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Address$, AppName$, CalledParty$, Comment$) As Lo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ub 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lResult = tapiRequestMakeCall(Selection$(), "", "", "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f lResult &lt;&gt; 0 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sgBox "Sorry, Call Manager unavailabl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flipH="1" flipV="1">
            <a:off x="5715000" y="5334120"/>
            <a:ext cx="1600200" cy="60948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ull Telephony: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 models a connection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s one or more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dynamic) call object represents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models a telephone hand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11240" y="5334120"/>
            <a:ext cx="3124080" cy="1171440"/>
            <a:chOff x="1011240" y="5334120"/>
            <a:chExt cx="3124080" cy="1171440"/>
          </a:xfrm>
        </p:grpSpPr>
        <p:grpSp>
          <p:nvGrpSpPr>
            <p:cNvPr id="175" name=""/>
            <p:cNvGrpSpPr/>
            <p:nvPr/>
          </p:nvGrpSpPr>
          <p:grpSpPr>
            <a:xfrm>
              <a:off x="1011240" y="5334120"/>
              <a:ext cx="1681560" cy="1171440"/>
              <a:chOff x="1011240" y="5334120"/>
              <a:chExt cx="1681560" cy="11714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011240" y="5334120"/>
                <a:ext cx="181440" cy="596520"/>
                <a:chOff x="1011240" y="5334120"/>
                <a:chExt cx="181440" cy="59652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1106640" y="5334120"/>
                  <a:ext cx="15840" cy="596520"/>
                  <a:chOff x="1106640" y="5334120"/>
                  <a:chExt cx="15840" cy="5965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106640" y="5334120"/>
                    <a:ext cx="1584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106640" y="5340240"/>
                    <a:ext cx="15840" cy="5904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1011240" y="5369040"/>
                  <a:ext cx="181440" cy="9720"/>
                </a:xfrm>
                <a:custGeom>
                  <a:avLst/>
                  <a:gdLst/>
                  <a:ahLst/>
                  <a:rect l="0" t="0" r="r" b="b"/>
                  <a:pathLst>
                    <a:path w="504" h="27">
                      <a:moveTo>
                        <a:pt x="0" y="0"/>
                      </a:moveTo>
                      <a:lnTo>
                        <a:pt x="504" y="0"/>
                      </a:lnTo>
                      <a:lnTo>
                        <a:pt x="504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00200" y="5351400"/>
                <a:ext cx="238320" cy="855720"/>
                <a:chOff x="1600200" y="5351400"/>
                <a:chExt cx="238320" cy="85572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1719360" y="5351400"/>
                  <a:ext cx="20520" cy="855720"/>
                  <a:chOff x="1719360" y="5351400"/>
                  <a:chExt cx="20520" cy="8557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1719360" y="5351400"/>
                    <a:ext cx="20520" cy="1584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719360" y="5361120"/>
                    <a:ext cx="20520" cy="846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1600200" y="5389560"/>
                  <a:ext cx="238320" cy="19440"/>
                </a:xfrm>
                <a:custGeom>
                  <a:avLst/>
                  <a:gdLst/>
                  <a:ahLst/>
                  <a:rect l="0" t="0" r="r" b="b"/>
                  <a:pathLst>
                    <a:path w="662" h="54">
                      <a:moveTo>
                        <a:pt x="0" y="0"/>
                      </a:moveTo>
                      <a:lnTo>
                        <a:pt x="662" y="4"/>
                      </a:lnTo>
                      <a:lnTo>
                        <a:pt x="662" y="54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343240" y="5357880"/>
                <a:ext cx="349560" cy="1147680"/>
                <a:chOff x="2343240" y="5357880"/>
                <a:chExt cx="349560" cy="114768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519280" y="5357880"/>
                  <a:ext cx="34920" cy="1147680"/>
                  <a:chOff x="2519280" y="5357880"/>
                  <a:chExt cx="34920" cy="11476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2519280" y="5357880"/>
                    <a:ext cx="34920" cy="2052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519280" y="5369040"/>
                    <a:ext cx="34920" cy="113652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2343240" y="5421240"/>
                  <a:ext cx="349560" cy="22680"/>
                </a:xfrm>
                <a:custGeom>
                  <a:avLst/>
                  <a:gdLst/>
                  <a:ahLst/>
                  <a:rect l="0" t="0" r="r" b="b"/>
                  <a:pathLst>
                    <a:path w="971" h="63">
                      <a:moveTo>
                        <a:pt x="0" y="6"/>
                      </a:moveTo>
                      <a:lnTo>
                        <a:pt x="971" y="0"/>
                      </a:lnTo>
                      <a:lnTo>
                        <a:pt x="971" y="54"/>
                      </a:lnTo>
                      <a:lnTo>
                        <a:pt x="0" y="6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029240" y="5369400"/>
              <a:ext cx="3106080" cy="338400"/>
              <a:chOff x="1029240" y="5369400"/>
              <a:chExt cx="3106080" cy="3384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029240" y="5369400"/>
                <a:ext cx="1639440" cy="171360"/>
                <a:chOff x="1029240" y="5369400"/>
                <a:chExt cx="1639440" cy="1713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656000" y="5401080"/>
                  <a:ext cx="760320" cy="127440"/>
                </a:xfrm>
                <a:custGeom>
                  <a:avLst/>
                  <a:gdLst/>
                  <a:ahLst/>
                  <a:rect l="0" t="0" r="r" b="b"/>
                  <a:pathLst>
                    <a:path fill="none" w="2112" h="354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6" y="60"/>
                        <a:pt x="56" y="118"/>
                        <a:pt x="143" y="170"/>
                      </a:cubicBezTo>
                      <a:cubicBezTo>
                        <a:pt x="238" y="226"/>
                        <a:pt x="374" y="273"/>
                        <a:pt x="537" y="305"/>
                      </a:cubicBezTo>
                      <a:cubicBezTo>
                        <a:pt x="701" y="337"/>
                        <a:pt x="886" y="354"/>
                        <a:pt x="1075" y="354"/>
                      </a:cubicBezTo>
                      <a:cubicBezTo>
                        <a:pt x="1264" y="354"/>
                        <a:pt x="1450" y="337"/>
                        <a:pt x="1613" y="305"/>
                      </a:cubicBezTo>
                      <a:cubicBezTo>
                        <a:pt x="1777" y="273"/>
                        <a:pt x="1913" y="226"/>
                        <a:pt x="2007" y="170"/>
                      </a:cubicBezTo>
                      <a:cubicBezTo>
                        <a:pt x="2053" y="144"/>
                        <a:pt x="2088" y="115"/>
                        <a:pt x="2112" y="85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029240" y="5370480"/>
                  <a:ext cx="629280" cy="117720"/>
                </a:xfrm>
                <a:custGeom>
                  <a:avLst/>
                  <a:gdLst/>
                  <a:ahLst/>
                  <a:rect l="0" t="0" r="r" b="b"/>
                  <a:pathLst>
                    <a:path fill="none" w="1748" h="32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20" y="43"/>
                        <a:pt x="55" y="83"/>
                        <a:pt x="104" y="121"/>
                      </a:cubicBezTo>
                      <a:cubicBezTo>
                        <a:pt x="185" y="184"/>
                        <a:pt x="301" y="235"/>
                        <a:pt x="441" y="272"/>
                      </a:cubicBezTo>
                      <a:cubicBezTo>
                        <a:pt x="581" y="308"/>
                        <a:pt x="740" y="327"/>
                        <a:pt x="902" y="327"/>
                      </a:cubicBezTo>
                      <a:cubicBezTo>
                        <a:pt x="1064" y="327"/>
                        <a:pt x="1223" y="308"/>
                        <a:pt x="1363" y="272"/>
                      </a:cubicBezTo>
                      <a:cubicBezTo>
                        <a:pt x="1504" y="235"/>
                        <a:pt x="1620" y="184"/>
                        <a:pt x="1701" y="121"/>
                      </a:cubicBezTo>
                      <a:cubicBezTo>
                        <a:pt x="1718" y="107"/>
                        <a:pt x="1734" y="94"/>
                        <a:pt x="1748" y="79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802160" y="5401800"/>
                  <a:ext cx="866520" cy="138960"/>
                </a:xfrm>
                <a:custGeom>
                  <a:avLst/>
                  <a:gdLst/>
                  <a:ahLst/>
                  <a:rect l="0" t="0" r="r" b="b"/>
                  <a:pathLst>
                    <a:path fill="none" w="2407" h="38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6" y="66"/>
                        <a:pt x="62" y="130"/>
                        <a:pt x="162" y="187"/>
                      </a:cubicBezTo>
                      <a:cubicBezTo>
                        <a:pt x="268" y="248"/>
                        <a:pt x="422" y="298"/>
                        <a:pt x="606" y="333"/>
                      </a:cubicBezTo>
                      <a:cubicBezTo>
                        <a:pt x="790" y="368"/>
                        <a:pt x="1000" y="386"/>
                        <a:pt x="1212" y="386"/>
                      </a:cubicBezTo>
                      <a:cubicBezTo>
                        <a:pt x="1425" y="386"/>
                        <a:pt x="1635" y="368"/>
                        <a:pt x="1819" y="333"/>
                      </a:cubicBezTo>
                      <a:cubicBezTo>
                        <a:pt x="2003" y="298"/>
                        <a:pt x="2156" y="248"/>
                        <a:pt x="2263" y="187"/>
                      </a:cubicBezTo>
                      <a:cubicBezTo>
                        <a:pt x="2334" y="147"/>
                        <a:pt x="2382" y="103"/>
                        <a:pt x="2407" y="57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62800" y="5369400"/>
                  <a:ext cx="639720" cy="115920"/>
                </a:xfrm>
                <a:custGeom>
                  <a:avLst/>
                  <a:gdLst/>
                  <a:ahLst/>
                  <a:rect l="0" t="0" r="r" b="b"/>
                  <a:pathLst>
                    <a:path fill="none" w="1777" h="322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21" y="42"/>
                        <a:pt x="56" y="82"/>
                        <a:pt x="106" y="120"/>
                      </a:cubicBezTo>
                      <a:cubicBezTo>
                        <a:pt x="189" y="181"/>
                        <a:pt x="308" y="232"/>
                        <a:pt x="452" y="268"/>
                      </a:cubicBezTo>
                      <a:cubicBezTo>
                        <a:pt x="595" y="304"/>
                        <a:pt x="758" y="322"/>
                        <a:pt x="923" y="322"/>
                      </a:cubicBezTo>
                      <a:cubicBezTo>
                        <a:pt x="1089" y="322"/>
                        <a:pt x="1252" y="304"/>
                        <a:pt x="1395" y="268"/>
                      </a:cubicBezTo>
                      <a:cubicBezTo>
                        <a:pt x="1539" y="232"/>
                        <a:pt x="1658" y="181"/>
                        <a:pt x="1741" y="120"/>
                      </a:cubicBezTo>
                      <a:cubicBezTo>
                        <a:pt x="1754" y="110"/>
                        <a:pt x="1766" y="100"/>
                        <a:pt x="1777" y="9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419920" y="5433480"/>
                <a:ext cx="1715400" cy="274320"/>
                <a:chOff x="2419920" y="5433480"/>
                <a:chExt cx="1715400" cy="274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419920" y="5433480"/>
                  <a:ext cx="1289520" cy="248760"/>
                </a:xfrm>
                <a:custGeom>
                  <a:avLst/>
                  <a:gdLst/>
                  <a:ahLst/>
                  <a:rect l="0" t="0" r="r" b="b"/>
                  <a:pathLst>
                    <a:path fill="none" w="3582" h="691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11" y="117"/>
                        <a:pt x="94" y="231"/>
                        <a:pt x="243" y="332"/>
                      </a:cubicBezTo>
                      <a:cubicBezTo>
                        <a:pt x="404" y="441"/>
                        <a:pt x="634" y="532"/>
                        <a:pt x="912" y="595"/>
                      </a:cubicBezTo>
                      <a:cubicBezTo>
                        <a:pt x="1189" y="658"/>
                        <a:pt x="1504" y="691"/>
                        <a:pt x="1824" y="691"/>
                      </a:cubicBezTo>
                      <a:cubicBezTo>
                        <a:pt x="2145" y="691"/>
                        <a:pt x="2460" y="658"/>
                        <a:pt x="2737" y="595"/>
                      </a:cubicBezTo>
                      <a:cubicBezTo>
                        <a:pt x="3015" y="532"/>
                        <a:pt x="3245" y="441"/>
                        <a:pt x="3405" y="332"/>
                      </a:cubicBezTo>
                      <a:cubicBezTo>
                        <a:pt x="3481" y="280"/>
                        <a:pt x="3541" y="225"/>
                        <a:pt x="3582" y="167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670480" y="5436360"/>
                  <a:ext cx="1464840" cy="271440"/>
                </a:xfrm>
                <a:custGeom>
                  <a:avLst/>
                  <a:gdLst/>
                  <a:ahLst/>
                  <a:rect l="0" t="0" r="r" b="b"/>
                  <a:pathLst>
                    <a:path fill="none" w="4069" h="754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10" y="129"/>
                        <a:pt x="104" y="254"/>
                        <a:pt x="274" y="366"/>
                      </a:cubicBezTo>
                      <a:cubicBezTo>
                        <a:pt x="454" y="484"/>
                        <a:pt x="713" y="582"/>
                        <a:pt x="1024" y="650"/>
                      </a:cubicBezTo>
                      <a:cubicBezTo>
                        <a:pt x="1336" y="718"/>
                        <a:pt x="1690" y="754"/>
                        <a:pt x="2050" y="754"/>
                      </a:cubicBezTo>
                      <a:cubicBezTo>
                        <a:pt x="2410" y="754"/>
                        <a:pt x="2763" y="718"/>
                        <a:pt x="3075" y="650"/>
                      </a:cubicBezTo>
                      <a:cubicBezTo>
                        <a:pt x="3387" y="582"/>
                        <a:pt x="3645" y="484"/>
                        <a:pt x="3825" y="366"/>
                      </a:cubicBezTo>
                      <a:cubicBezTo>
                        <a:pt x="3945" y="287"/>
                        <a:pt x="4027" y="201"/>
                        <a:pt x="4069" y="112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148520" y="5483160"/>
            <a:ext cx="1366920" cy="917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632040" y="4114800"/>
            <a:ext cx="2158920" cy="1422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22480" y="577548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208480" y="577548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Line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01680" y="1461960"/>
            <a:ext cx="7675560" cy="49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igured statically at installation of Service Provider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“connection” to the telephon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ually on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have many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/Cl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 to start outbound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t notification of inbound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al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01680" y="1461960"/>
            <a:ext cx="767556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e into existence dynam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telephone call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eate, destroy, dial, hangup, hold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media stream of the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progress, status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01680" y="1461960"/>
            <a:ext cx="767556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igured statically at installation of Service Provider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telephone hand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/Cl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 to access lamps, displa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media stream (vo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tons, status, hookswitch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terface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01680" y="1461960"/>
            <a:ext cx="767556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ion negot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c device, capability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back procedur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witch-related functions return immediately, proceed in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r “reply” message on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ontaneous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call progress, inbound call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damental API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lization and shutdown of the telephony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gotiation of API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ltering of status messages to be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ing and closing lin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01680" y="1461960"/>
            <a:ext cx="7675560" cy="38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abilities an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line device and address capabilities, associated media stream devices, ic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line device, address, and cal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and setting media device configu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lating addresses and setting associated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ing and answer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p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rolling call privileges and handing off call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71600" y="1219320"/>
            <a:ext cx="28386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nfigDia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ealloca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i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allInf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all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Dev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LineDev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New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219320"/>
            <a:ext cx="31338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Translate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Hand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AppSpe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allPrivi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urrent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Dev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Num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Toll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mess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71600" y="1219320"/>
            <a:ext cx="29782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ADDRESS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ALL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ALL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LINEDEV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RE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ample - place a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ts up callback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s number of lin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forward-and-back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46280" y="4221000"/>
            <a:ext cx="8386560" cy="2530440"/>
            <a:chOff x="746280" y="4221000"/>
            <a:chExt cx="8386560" cy="2530440"/>
          </a:xfrm>
        </p:grpSpPr>
        <p:sp>
          <p:nvSpPr>
            <p:cNvPr id="226" name=""/>
            <p:cNvSpPr txBox="1"/>
            <p:nvPr/>
          </p:nvSpPr>
          <p:spPr>
            <a:xfrm>
              <a:off x="2743200" y="63547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429000" y="4419720"/>
              <a:ext cx="2032560" cy="2133720"/>
              <a:chOff x="3429000" y="4419720"/>
              <a:chExt cx="2032560" cy="2133720"/>
            </a:xfrm>
          </p:grpSpPr>
          <p:sp>
            <p:nvSpPr>
              <p:cNvPr id="228" name=""/>
              <p:cNvSpPr txBox="1"/>
              <p:nvPr/>
            </p:nvSpPr>
            <p:spPr>
              <a:xfrm>
                <a:off x="3527280" y="5097600"/>
                <a:ext cx="1835280" cy="8762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0" dir="0" blurRad="0" rotWithShape="0">
                  <a:srgbClr val="919191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feasib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vers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29000" y="4998960"/>
                <a:ext cx="483120" cy="1554480"/>
              </a:xfrm>
              <a:custGeom>
                <a:avLst/>
                <a:gdLst/>
                <a:ahLst/>
                <a:rect l="0" t="0" r="r" b="b"/>
                <a:pathLst>
                  <a:path fill="none" w="1342" h="4318">
                    <a:moveTo>
                      <a:pt x="1342" y="0"/>
                    </a:moveTo>
                    <a:lnTo>
                      <a:pt x="0" y="0"/>
                    </a:lnTo>
                    <a:lnTo>
                      <a:pt x="0" y="4318"/>
                    </a:lnTo>
                    <a:lnTo>
                      <a:pt x="1342" y="4318"/>
                    </a:lnTo>
                  </a:path>
                </a:pathLst>
              </a:custGeom>
              <a:ln w="25560">
                <a:solidFill>
                  <a:srgbClr val="fafd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8440" y="4419720"/>
                <a:ext cx="483120" cy="1648080"/>
              </a:xfrm>
              <a:custGeom>
                <a:avLst/>
                <a:gdLst/>
                <a:ahLst/>
                <a:rect l="0" t="0" r="r" b="b"/>
                <a:pathLst>
                  <a:path fill="none" w="1342" h="4578">
                    <a:moveTo>
                      <a:pt x="0" y="0"/>
                    </a:moveTo>
                    <a:lnTo>
                      <a:pt x="1342" y="0"/>
                    </a:lnTo>
                    <a:lnTo>
                      <a:pt x="1342" y="4578"/>
                    </a:lnTo>
                    <a:lnTo>
                      <a:pt x="0" y="4578"/>
                    </a:lnTo>
                  </a:path>
                </a:pathLst>
              </a:custGeom>
              <a:ln w="25560">
                <a:solidFill>
                  <a:srgbClr val="fafd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H="1">
              <a:off x="2514600" y="5105520"/>
              <a:ext cx="762120" cy="4572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746280" y="5059440"/>
              <a:ext cx="18493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sion r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pported b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308640" y="4221000"/>
              <a:ext cx="18493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sion r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pported b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P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62720" y="4495680"/>
              <a:ext cx="761760" cy="228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308640" y="5440320"/>
              <a:ext cx="28242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ing version (1.3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720" y="5105520"/>
              <a:ext cx="762480" cy="533880"/>
            </a:xfrm>
            <a:custGeom>
              <a:avLst/>
              <a:gdLst/>
              <a:ahLst/>
              <a:rect l="0" t="0" r="r" b="b"/>
              <a:pathLst>
                <a:path fill="none" w="2118" h="1483">
                  <a:moveTo>
                    <a:pt x="0" y="0"/>
                  </a:moveTo>
                  <a:lnTo>
                    <a:pt x="1059" y="0"/>
                  </a:lnTo>
                  <a:lnTo>
                    <a:pt x="1695" y="1483"/>
                  </a:lnTo>
                  <a:lnTo>
                    <a:pt x="2118" y="1483"/>
                  </a:lnTo>
                </a:path>
              </a:pathLst>
            </a:custGeom>
            <a:ln w="25560">
              <a:solidFill>
                <a:srgbClr val="ff3434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2743200" y="47545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5715000" y="58975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5715000" y="422100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2514600" y="5562720"/>
              <a:ext cx="762120" cy="8380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62720" y="4724280"/>
              <a:ext cx="761760" cy="1219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01680" y="1461960"/>
            <a:ext cx="7675560" cy="47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tional, gets capabilities of th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vilege” indicates usage, e.g., inbound, outbound, monitor-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media typ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apts phone number to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rt calling car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01680" y="1461960"/>
            <a:ext cx="767556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tionally include originating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 address now or in line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 - remaining parts of the activity will be event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line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 format dialabl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ntry code for progress de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in a nut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ephon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plicati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gramm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” softwa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writing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installing telephony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1680" y="1461960"/>
            <a:ext cx="767556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we’re “d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track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ing, proceeding, ringback, conn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 states may be skip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outcomes possible, e.g.,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connected, information is able to flow over the c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hang up a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01680" y="1461960"/>
            <a:ext cx="7675560" cy="511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nnects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not disconnect in bridged or party-line configu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pically transitions to “idle”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 handle still exists, for status queri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lineDeallocat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etes saved statu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alidates call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hutting d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t using th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t using T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41560" y="4191120"/>
            <a:ext cx="611172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good programming practice to call these functions to shut down gracefully, so that resources are released to other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ample - incoming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01680" y="1461960"/>
            <a:ext cx="767556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” privilege to accept incom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media mod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we have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call handle is unique, it is “ne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se it is a state change on an old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d in some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ck LINEADDRESSC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coming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01680" y="1461960"/>
            <a:ext cx="7675560" cy="5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app, cooperative “toll sa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“ringing”, line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quivalent of picking up the 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eck media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off if it is not the desire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on thi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track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connected, information is able to flow over the c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201680" y="1461960"/>
            <a:ext cx="767556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oal - use the right API for the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API to manage the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media stream-specific Windows API to manage information stream on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dows Wave API to access voice on calls and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 API to access fax information stream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API to find the correct media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open the device through the media 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06640" y="2438280"/>
            <a:ext cx="7123320" cy="3962520"/>
            <a:chOff x="1106640" y="2438280"/>
            <a:chExt cx="7123320" cy="3962520"/>
          </a:xfrm>
        </p:grpSpPr>
        <p:sp>
          <p:nvSpPr>
            <p:cNvPr id="262" name=""/>
            <p:cNvSpPr/>
            <p:nvPr/>
          </p:nvSpPr>
          <p:spPr>
            <a:xfrm>
              <a:off x="1955880" y="4734000"/>
              <a:ext cx="3063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187280" y="4586400"/>
              <a:ext cx="63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S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338560" y="3862440"/>
              <a:ext cx="2808360" cy="665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63800" y="3659040"/>
              <a:ext cx="2919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1106640" y="3510000"/>
              <a:ext cx="6476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A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430360" y="3657600"/>
              <a:ext cx="2751120" cy="1066680"/>
              <a:chOff x="2430360" y="3657600"/>
              <a:chExt cx="2751120" cy="1066680"/>
            </a:xfrm>
          </p:grpSpPr>
          <p:sp>
            <p:nvSpPr>
              <p:cNvPr id="268" name=""/>
              <p:cNvSpPr/>
              <p:nvPr/>
            </p:nvSpPr>
            <p:spPr>
              <a:xfrm>
                <a:off x="2430360" y="3657600"/>
                <a:ext cx="2751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30360" y="4724280"/>
                <a:ext cx="2751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 txBox="1"/>
            <p:nvPr/>
          </p:nvSpPr>
          <p:spPr>
            <a:xfrm>
              <a:off x="3900600" y="2438280"/>
              <a:ext cx="364320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and Wave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52880"/>
              <a:ext cx="5486760" cy="1219680"/>
            </a:xfrm>
            <a:custGeom>
              <a:avLst/>
              <a:gdLst/>
              <a:ahLst/>
              <a:rect l="0" t="0" r="r" b="b"/>
              <a:pathLst>
                <a:path w="15241" h="3388">
                  <a:moveTo>
                    <a:pt x="0" y="0"/>
                  </a:moveTo>
                  <a:lnTo>
                    <a:pt x="0" y="3388"/>
                  </a:lnTo>
                  <a:lnTo>
                    <a:pt x="15241" y="3388"/>
                  </a:lnTo>
                  <a:lnTo>
                    <a:pt x="15241" y="0"/>
                  </a:lnTo>
                  <a:lnTo>
                    <a:pt x="10161" y="0"/>
                  </a:lnTo>
                  <a:lnTo>
                    <a:pt x="10161" y="635"/>
                  </a:lnTo>
                  <a:lnTo>
                    <a:pt x="6138" y="635"/>
                  </a:lnTo>
                  <a:lnTo>
                    <a:pt x="6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032280" y="5180040"/>
              <a:ext cx="150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uppor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..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537240" y="5180040"/>
              <a:ext cx="1434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.. and mciWa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00800" y="4734000"/>
              <a:ext cx="1828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724280" y="5638680"/>
              <a:ext cx="1905120" cy="76212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4280" y="3276720"/>
              <a:ext cx="609840" cy="2514960"/>
            </a:xfrm>
            <a:custGeom>
              <a:avLst/>
              <a:gdLst/>
              <a:ahLst/>
              <a:rect l="0" t="0" r="r" b="b"/>
              <a:pathLst>
                <a:path fill="none" w="1694" h="6986">
                  <a:moveTo>
                    <a:pt x="0" y="0"/>
                  </a:moveTo>
                  <a:lnTo>
                    <a:pt x="0" y="5293"/>
                  </a:lnTo>
                  <a:lnTo>
                    <a:pt x="1694" y="6986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3276720"/>
              <a:ext cx="609840" cy="2514960"/>
            </a:xfrm>
            <a:custGeom>
              <a:avLst/>
              <a:gdLst/>
              <a:ahLst/>
              <a:rect l="0" t="0" r="r" b="b"/>
              <a:pathLst>
                <a:path fill="none" w="1694" h="6986">
                  <a:moveTo>
                    <a:pt x="1694" y="0"/>
                  </a:moveTo>
                  <a:lnTo>
                    <a:pt x="1694" y="5293"/>
                  </a:lnTo>
                  <a:lnTo>
                    <a:pt x="0" y="6986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191120" y="3048120"/>
              <a:ext cx="457200" cy="45720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705720" y="3048120"/>
              <a:ext cx="457200" cy="45720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7772400" y="1371600"/>
            <a:ext cx="457200" cy="457200"/>
          </a:xfrm>
          <a:prstGeom prst="rect">
            <a:avLst/>
          </a:prstGeom>
          <a:solidFill>
            <a:srgbClr val="689bc3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29600" y="1828800"/>
            <a:ext cx="457200" cy="457200"/>
          </a:xfrm>
          <a:prstGeom prst="rect">
            <a:avLst/>
          </a:prstGeom>
          <a:solidFill>
            <a:srgbClr val="689bc3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01680" y="1461960"/>
            <a:ext cx="7675560" cy="54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which call has been se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rieve the “wave” device name corresponding to that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maintains this correspo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us to view the same “call” device as a “wave”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 or waveIn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 up “wave” operations on the wave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acces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01680" y="1461960"/>
            <a:ext cx="7675560" cy="51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-ended to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support is “pass-throug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peration between app and service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atible with future media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ect to see peer-to-peer data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s up an entire family of layered domain-specific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where the exciting applications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uti-applica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01680" y="1461960"/>
            <a:ext cx="767556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 and Phones are Sharable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can make outbound calls while others listen for inbound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ve Sharing of Calls among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 voice call in one app, receive fax over same call using other a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uting inbound calls to an 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ed on call type (voice, data, fax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 Programming Interface (A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Interface (S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-time software (TAPI.D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rd-party Applications and Servi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838160" y="3321000"/>
            <a:ext cx="5818320" cy="3195720"/>
            <a:chOff x="1838160" y="3321000"/>
            <a:chExt cx="5818320" cy="3195720"/>
          </a:xfrm>
        </p:grpSpPr>
        <p:sp>
          <p:nvSpPr>
            <p:cNvPr id="82" name=""/>
            <p:cNvSpPr/>
            <p:nvPr/>
          </p:nvSpPr>
          <p:spPr>
            <a:xfrm>
              <a:off x="2496960" y="5486400"/>
              <a:ext cx="3272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1844640" y="530532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313080" y="4554360"/>
              <a:ext cx="3003480" cy="7113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05240" y="4335480"/>
              <a:ext cx="3124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838160" y="415296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A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087640" y="3321000"/>
              <a:ext cx="5311440" cy="803520"/>
              <a:chOff x="2087640" y="3321000"/>
              <a:chExt cx="5311440" cy="803520"/>
            </a:xfrm>
          </p:grpSpPr>
          <p:pic>
            <p:nvPicPr>
              <p:cNvPr id="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87640" y="3330720"/>
                <a:ext cx="930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2192400" y="3355920"/>
                <a:ext cx="708120" cy="40644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2222640" y="3403440"/>
                <a:ext cx="677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PIM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Rolode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95720" y="3330720"/>
                <a:ext cx="91440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3297240" y="3355920"/>
                <a:ext cx="698400" cy="407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3213000" y="3519360"/>
                <a:ext cx="892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all Contro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7960" y="3322800"/>
                <a:ext cx="92376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397400" y="3349800"/>
                <a:ext cx="709560" cy="41112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4340160" y="3403440"/>
                <a:ext cx="8301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Integrated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Messag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73720" y="3321000"/>
                <a:ext cx="930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478480" y="3346560"/>
                <a:ext cx="708120" cy="40644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5381640" y="3392640"/>
                <a:ext cx="8715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Desktop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onferenc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81800" y="3321000"/>
                <a:ext cx="91584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6585120" y="3346560"/>
                <a:ext cx="696960" cy="407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534000" y="3510000"/>
                <a:ext cx="865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lic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028960" y="5686560"/>
              <a:ext cx="5627520" cy="830160"/>
              <a:chOff x="2028960" y="5686560"/>
              <a:chExt cx="5627520" cy="830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028960" y="5710320"/>
                <a:ext cx="981000" cy="71928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76480" y="5749920"/>
                <a:ext cx="44784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2130480" y="5772240"/>
                <a:ext cx="331920" cy="1872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127240" y="57643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435400" y="6259680"/>
                <a:ext cx="5302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OT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64040" y="5702400"/>
                <a:ext cx="1076400" cy="7239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30640" y="5721480"/>
                <a:ext cx="442800" cy="4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3287880" y="5743440"/>
                <a:ext cx="343080" cy="189000"/>
              </a:xfrm>
              <a:prstGeom prst="rect">
                <a:avLst/>
              </a:prstGeom>
              <a:solidFill>
                <a:srgbClr val="006b6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3287880" y="57355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666960" y="6272280"/>
                <a:ext cx="5223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BX</a:t>
                </a:r>
                <a:r>
                  <a:rPr b="1" i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54560" y="5702400"/>
                <a:ext cx="1035000" cy="716040"/>
              </a:xfrm>
              <a:prstGeom prst="rect">
                <a:avLst/>
              </a:prstGeom>
              <a:solidFill>
                <a:srgbClr val="f57b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2600" y="5721480"/>
                <a:ext cx="442800" cy="4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78400" y="5743440"/>
                <a:ext cx="344520" cy="1890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4479840" y="57355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4859280" y="6253200"/>
                <a:ext cx="487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SD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00800" y="5692680"/>
                <a:ext cx="981000" cy="71928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48320" y="5732640"/>
                <a:ext cx="449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5603760" y="5754600"/>
                <a:ext cx="331920" cy="1872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5599080" y="574668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5761080" y="6235560"/>
                <a:ext cx="649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ellul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80080" y="5686560"/>
                <a:ext cx="1076400" cy="7239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47040" y="5703840"/>
                <a:ext cx="442800" cy="4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6703920" y="5727600"/>
                <a:ext cx="343080" cy="189000"/>
              </a:xfrm>
              <a:prstGeom prst="rect">
                <a:avLst/>
              </a:prstGeom>
              <a:solidFill>
                <a:srgbClr val="006b6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6703920" y="571968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6945480" y="6242040"/>
                <a:ext cx="6573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entrex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05280" y="4334040"/>
              <a:ext cx="3619440" cy="1152360"/>
              <a:chOff x="3005280" y="4334040"/>
              <a:chExt cx="3619440" cy="1152360"/>
            </a:xfrm>
          </p:grpSpPr>
          <p:sp>
            <p:nvSpPr>
              <p:cNvPr id="130" name=""/>
              <p:cNvSpPr/>
              <p:nvPr/>
            </p:nvSpPr>
            <p:spPr>
              <a:xfrm>
                <a:off x="3005280" y="4334040"/>
                <a:ext cx="3619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05280" y="5486400"/>
                <a:ext cx="3619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operation: lineHand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01680" y="1461960"/>
            <a:ext cx="7675560" cy="47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” ownership of a call to another 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by applicatio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by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bound cal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” to see if call is my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not, reset that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n lineHandoff to “unknow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sends it to the “next”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bound call ro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2360" y="4165560"/>
            <a:ext cx="2720880" cy="8953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919240" y="4538520"/>
            <a:ext cx="2384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a = 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one of: Voice, fax, or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6240" y="3940200"/>
            <a:ext cx="276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71680" y="379872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67000" y="3503520"/>
            <a:ext cx="3365640" cy="447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8840" y="3503520"/>
            <a:ext cx="263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55840" y="338148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543040" y="2400480"/>
            <a:ext cx="1011240" cy="855720"/>
            <a:chOff x="2543040" y="2400480"/>
            <a:chExt cx="1011240" cy="85572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2543040" y="2400480"/>
              <a:ext cx="1011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657520" y="2427120"/>
              <a:ext cx="770040" cy="44136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762280" y="2533680"/>
              <a:ext cx="56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79840" y="2422440"/>
            <a:ext cx="1006560" cy="871560"/>
            <a:chOff x="4479840" y="2422440"/>
            <a:chExt cx="1006560" cy="87156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4479840" y="2422440"/>
              <a:ext cx="1006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94320" y="2444760"/>
              <a:ext cx="773280" cy="44928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532400" y="2513160"/>
              <a:ext cx="930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 flipV="1">
            <a:off x="2790720" y="3857760"/>
            <a:ext cx="15840" cy="14302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313000" y="5376960"/>
            <a:ext cx="323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incoming call (actually mod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789280" y="3071880"/>
            <a:ext cx="7920" cy="5047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282760" y="3581280"/>
            <a:ext cx="16160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voice, fax,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4760" y="3106800"/>
            <a:ext cx="614520" cy="5158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234120" y="2417760"/>
            <a:ext cx="995400" cy="860400"/>
            <a:chOff x="6234120" y="2417760"/>
            <a:chExt cx="995400" cy="86040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6234120" y="2417760"/>
              <a:ext cx="9954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346800" y="2444760"/>
              <a:ext cx="758880" cy="44460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278400" y="2500200"/>
              <a:ext cx="930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 txBox="1"/>
          <p:nvPr/>
        </p:nvSpPr>
        <p:spPr>
          <a:xfrm>
            <a:off x="5113440" y="3027240"/>
            <a:ext cx="109368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732200" y="3127320"/>
            <a:ext cx="362160" cy="5479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14640" y="3583080"/>
            <a:ext cx="1138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fax,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516480" y="2914560"/>
            <a:ext cx="8604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919191"/>
                </a:solidFill>
                <a:latin typeface="Arial"/>
                <a:ea typeface="Arial"/>
              </a:rPr>
              <a:t>not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01680" y="1461960"/>
            <a:ext cx="7675560" cy="53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 object models a connection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pically a singl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represent many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object represents a call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ynchronous functions,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ter participates in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atures associated with PBX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ference, Transfer, Forward, Hold, Park, Pickup, Re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-band sign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git and tone generation an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dia monitor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01680" y="1461960"/>
            <a:ext cx="7675560" cy="47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riations for different telephon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sive queries, events for status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bility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ellular, battery statu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r-user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paramet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termina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1219320"/>
            <a:ext cx="2838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23880" y="1371600"/>
            <a:ext cx="31478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ddTo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Blind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mple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mplete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For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athe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nerate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nerate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onfRelated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i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13360" y="1371600"/>
            <a:ext cx="37828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repareAddTo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gisterRequestRecip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moveFrom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cur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ndUserUser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allPa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Media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Media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Term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up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up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wap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comple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4280" y="276120"/>
            <a:ext cx="78534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mess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23880" y="1371600"/>
            <a:ext cx="29494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GATHE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GEN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MED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REQU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functions &amp; ms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23880" y="1279440"/>
            <a:ext cx="345924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Initi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hut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NegotiateAPI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ev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Butt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Butt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013360" y="1371600"/>
            <a:ext cx="28224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Hook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Hook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BUT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RE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01680" y="1461960"/>
            <a:ext cx="7675560" cy="38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“advanced” functions are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llow the Basic Service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discussed fur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erence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r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terminal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nference ca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14600" y="1447920"/>
            <a:ext cx="6362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ference call handle represents the bri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f call handle “controls” the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mber call handles represent other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43240" y="4175280"/>
            <a:ext cx="2192760" cy="1838520"/>
          </a:xfrm>
          <a:custGeom>
            <a:avLst/>
            <a:gdLst/>
            <a:ahLst/>
            <a:rect l="0" t="0" r="r" b="b"/>
            <a:pathLst>
              <a:path w="6091" h="5107">
                <a:moveTo>
                  <a:pt x="3077" y="257"/>
                </a:moveTo>
                <a:lnTo>
                  <a:pt x="3077" y="214"/>
                </a:lnTo>
                <a:lnTo>
                  <a:pt x="3014" y="271"/>
                </a:lnTo>
                <a:lnTo>
                  <a:pt x="2966" y="300"/>
                </a:lnTo>
                <a:lnTo>
                  <a:pt x="2886" y="386"/>
                </a:lnTo>
                <a:lnTo>
                  <a:pt x="2822" y="457"/>
                </a:lnTo>
                <a:lnTo>
                  <a:pt x="2743" y="500"/>
                </a:lnTo>
                <a:lnTo>
                  <a:pt x="2647" y="557"/>
                </a:lnTo>
                <a:lnTo>
                  <a:pt x="2551" y="600"/>
                </a:lnTo>
                <a:lnTo>
                  <a:pt x="2376" y="672"/>
                </a:lnTo>
                <a:lnTo>
                  <a:pt x="2248" y="700"/>
                </a:lnTo>
                <a:lnTo>
                  <a:pt x="2041" y="715"/>
                </a:lnTo>
                <a:lnTo>
                  <a:pt x="1834" y="686"/>
                </a:lnTo>
                <a:lnTo>
                  <a:pt x="1674" y="657"/>
                </a:lnTo>
                <a:lnTo>
                  <a:pt x="1450" y="615"/>
                </a:lnTo>
                <a:lnTo>
                  <a:pt x="1307" y="615"/>
                </a:lnTo>
                <a:lnTo>
                  <a:pt x="1147" y="615"/>
                </a:lnTo>
                <a:lnTo>
                  <a:pt x="1036" y="715"/>
                </a:lnTo>
                <a:lnTo>
                  <a:pt x="972" y="786"/>
                </a:lnTo>
                <a:lnTo>
                  <a:pt x="892" y="972"/>
                </a:lnTo>
                <a:lnTo>
                  <a:pt x="876" y="1130"/>
                </a:lnTo>
                <a:lnTo>
                  <a:pt x="876" y="1416"/>
                </a:lnTo>
                <a:lnTo>
                  <a:pt x="908" y="1630"/>
                </a:lnTo>
                <a:lnTo>
                  <a:pt x="988" y="1873"/>
                </a:lnTo>
                <a:lnTo>
                  <a:pt x="1099" y="2088"/>
                </a:lnTo>
                <a:lnTo>
                  <a:pt x="1179" y="2260"/>
                </a:lnTo>
                <a:lnTo>
                  <a:pt x="1275" y="2503"/>
                </a:lnTo>
                <a:lnTo>
                  <a:pt x="1291" y="2661"/>
                </a:lnTo>
                <a:lnTo>
                  <a:pt x="1243" y="2890"/>
                </a:lnTo>
                <a:lnTo>
                  <a:pt x="1163" y="3033"/>
                </a:lnTo>
                <a:lnTo>
                  <a:pt x="988" y="3205"/>
                </a:lnTo>
                <a:lnTo>
                  <a:pt x="876" y="3276"/>
                </a:lnTo>
                <a:lnTo>
                  <a:pt x="717" y="3391"/>
                </a:lnTo>
                <a:lnTo>
                  <a:pt x="446" y="3476"/>
                </a:lnTo>
                <a:lnTo>
                  <a:pt x="286" y="3534"/>
                </a:lnTo>
                <a:lnTo>
                  <a:pt x="63" y="3634"/>
                </a:lnTo>
                <a:lnTo>
                  <a:pt x="0" y="3705"/>
                </a:lnTo>
                <a:lnTo>
                  <a:pt x="31" y="3805"/>
                </a:lnTo>
                <a:lnTo>
                  <a:pt x="255" y="3920"/>
                </a:lnTo>
                <a:lnTo>
                  <a:pt x="462" y="4020"/>
                </a:lnTo>
                <a:lnTo>
                  <a:pt x="653" y="4106"/>
                </a:lnTo>
                <a:lnTo>
                  <a:pt x="860" y="4277"/>
                </a:lnTo>
                <a:lnTo>
                  <a:pt x="1036" y="4492"/>
                </a:lnTo>
                <a:lnTo>
                  <a:pt x="1099" y="4635"/>
                </a:lnTo>
                <a:lnTo>
                  <a:pt x="1243" y="4778"/>
                </a:lnTo>
                <a:lnTo>
                  <a:pt x="1339" y="4864"/>
                </a:lnTo>
                <a:lnTo>
                  <a:pt x="1579" y="4964"/>
                </a:lnTo>
                <a:lnTo>
                  <a:pt x="1802" y="5035"/>
                </a:lnTo>
                <a:lnTo>
                  <a:pt x="2200" y="5093"/>
                </a:lnTo>
                <a:lnTo>
                  <a:pt x="2440" y="5107"/>
                </a:lnTo>
                <a:lnTo>
                  <a:pt x="2758" y="5107"/>
                </a:lnTo>
                <a:lnTo>
                  <a:pt x="2966" y="5078"/>
                </a:lnTo>
                <a:lnTo>
                  <a:pt x="3269" y="5007"/>
                </a:lnTo>
                <a:lnTo>
                  <a:pt x="3556" y="4921"/>
                </a:lnTo>
                <a:lnTo>
                  <a:pt x="3715" y="4849"/>
                </a:lnTo>
                <a:lnTo>
                  <a:pt x="3874" y="4764"/>
                </a:lnTo>
                <a:lnTo>
                  <a:pt x="3938" y="4706"/>
                </a:lnTo>
                <a:lnTo>
                  <a:pt x="4002" y="4692"/>
                </a:lnTo>
                <a:lnTo>
                  <a:pt x="4161" y="4706"/>
                </a:lnTo>
                <a:lnTo>
                  <a:pt x="4353" y="4735"/>
                </a:lnTo>
                <a:lnTo>
                  <a:pt x="4544" y="4735"/>
                </a:lnTo>
                <a:lnTo>
                  <a:pt x="4800" y="4706"/>
                </a:lnTo>
                <a:lnTo>
                  <a:pt x="4959" y="4664"/>
                </a:lnTo>
                <a:lnTo>
                  <a:pt x="5167" y="4563"/>
                </a:lnTo>
                <a:lnTo>
                  <a:pt x="5278" y="4420"/>
                </a:lnTo>
                <a:lnTo>
                  <a:pt x="5390" y="4206"/>
                </a:lnTo>
                <a:lnTo>
                  <a:pt x="5438" y="3948"/>
                </a:lnTo>
                <a:lnTo>
                  <a:pt x="5438" y="3777"/>
                </a:lnTo>
                <a:lnTo>
                  <a:pt x="5406" y="3534"/>
                </a:lnTo>
                <a:lnTo>
                  <a:pt x="5358" y="3391"/>
                </a:lnTo>
                <a:lnTo>
                  <a:pt x="5326" y="3147"/>
                </a:lnTo>
                <a:lnTo>
                  <a:pt x="5310" y="2847"/>
                </a:lnTo>
                <a:lnTo>
                  <a:pt x="5342" y="2690"/>
                </a:lnTo>
                <a:lnTo>
                  <a:pt x="5454" y="2474"/>
                </a:lnTo>
                <a:lnTo>
                  <a:pt x="5549" y="2331"/>
                </a:lnTo>
                <a:lnTo>
                  <a:pt x="5693" y="2131"/>
                </a:lnTo>
                <a:lnTo>
                  <a:pt x="5820" y="2016"/>
                </a:lnTo>
                <a:lnTo>
                  <a:pt x="5964" y="1859"/>
                </a:lnTo>
                <a:lnTo>
                  <a:pt x="6059" y="1730"/>
                </a:lnTo>
                <a:lnTo>
                  <a:pt x="6091" y="1444"/>
                </a:lnTo>
                <a:lnTo>
                  <a:pt x="6028" y="1158"/>
                </a:lnTo>
                <a:lnTo>
                  <a:pt x="5948" y="1001"/>
                </a:lnTo>
                <a:lnTo>
                  <a:pt x="5804" y="772"/>
                </a:lnTo>
                <a:lnTo>
                  <a:pt x="5677" y="672"/>
                </a:lnTo>
                <a:lnTo>
                  <a:pt x="5517" y="514"/>
                </a:lnTo>
                <a:lnTo>
                  <a:pt x="5358" y="371"/>
                </a:lnTo>
                <a:lnTo>
                  <a:pt x="5262" y="286"/>
                </a:lnTo>
                <a:lnTo>
                  <a:pt x="5119" y="157"/>
                </a:lnTo>
                <a:lnTo>
                  <a:pt x="4991" y="71"/>
                </a:lnTo>
                <a:lnTo>
                  <a:pt x="4768" y="0"/>
                </a:lnTo>
                <a:lnTo>
                  <a:pt x="4609" y="0"/>
                </a:lnTo>
                <a:lnTo>
                  <a:pt x="4416" y="71"/>
                </a:lnTo>
                <a:lnTo>
                  <a:pt x="4273" y="171"/>
                </a:lnTo>
                <a:lnTo>
                  <a:pt x="4145" y="214"/>
                </a:lnTo>
                <a:lnTo>
                  <a:pt x="3986" y="271"/>
                </a:lnTo>
                <a:lnTo>
                  <a:pt x="3922" y="300"/>
                </a:lnTo>
                <a:lnTo>
                  <a:pt x="3858" y="300"/>
                </a:lnTo>
                <a:lnTo>
                  <a:pt x="3795" y="271"/>
                </a:lnTo>
                <a:lnTo>
                  <a:pt x="3747" y="243"/>
                </a:lnTo>
                <a:lnTo>
                  <a:pt x="3715" y="157"/>
                </a:lnTo>
                <a:lnTo>
                  <a:pt x="3667" y="128"/>
                </a:lnTo>
                <a:lnTo>
                  <a:pt x="3571" y="114"/>
                </a:lnTo>
                <a:lnTo>
                  <a:pt x="3508" y="100"/>
                </a:lnTo>
                <a:lnTo>
                  <a:pt x="3460" y="85"/>
                </a:lnTo>
                <a:lnTo>
                  <a:pt x="3412" y="85"/>
                </a:lnTo>
                <a:lnTo>
                  <a:pt x="3332" y="85"/>
                </a:lnTo>
                <a:lnTo>
                  <a:pt x="3285" y="85"/>
                </a:lnTo>
                <a:lnTo>
                  <a:pt x="3237" y="85"/>
                </a:lnTo>
                <a:lnTo>
                  <a:pt x="3189" y="85"/>
                </a:lnTo>
                <a:lnTo>
                  <a:pt x="3141" y="100"/>
                </a:lnTo>
                <a:lnTo>
                  <a:pt x="3093" y="143"/>
                </a:lnTo>
                <a:lnTo>
                  <a:pt x="3077" y="200"/>
                </a:lnTo>
                <a:lnTo>
                  <a:pt x="3029" y="228"/>
                </a:lnTo>
                <a:lnTo>
                  <a:pt x="3077" y="257"/>
                </a:lnTo>
                <a:close/>
              </a:path>
            </a:pathLst>
          </a:custGeom>
          <a:solidFill>
            <a:srgbClr val="689bc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54280" y="2516040"/>
            <a:ext cx="1461960" cy="2305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44560" y="4957920"/>
            <a:ext cx="5759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27080" y="6167520"/>
            <a:ext cx="430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408480" y="4330800"/>
            <a:ext cx="84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PB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981000" y="4243320"/>
            <a:ext cx="849600" cy="1835640"/>
            <a:chOff x="981000" y="4243320"/>
            <a:chExt cx="849600" cy="1835640"/>
          </a:xfrm>
        </p:grpSpPr>
        <p:grpSp>
          <p:nvGrpSpPr>
            <p:cNvPr id="345" name=""/>
            <p:cNvGrpSpPr/>
            <p:nvPr/>
          </p:nvGrpSpPr>
          <p:grpSpPr>
            <a:xfrm>
              <a:off x="1208160" y="4243320"/>
              <a:ext cx="213120" cy="333720"/>
              <a:chOff x="1208160" y="4243320"/>
              <a:chExt cx="213120" cy="33372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212840" y="4260960"/>
                <a:ext cx="203400" cy="316080"/>
                <a:chOff x="1212840" y="4260960"/>
                <a:chExt cx="203400" cy="3160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212840" y="4260960"/>
                  <a:ext cx="203400" cy="313200"/>
                </a:xfrm>
                <a:custGeom>
                  <a:avLst/>
                  <a:gdLst/>
                  <a:ahLst/>
                  <a:rect l="0" t="0" r="r" b="b"/>
                  <a:pathLst>
                    <a:path w="565" h="870">
                      <a:moveTo>
                        <a:pt x="486" y="63"/>
                      </a:moveTo>
                      <a:lnTo>
                        <a:pt x="444" y="32"/>
                      </a:lnTo>
                      <a:lnTo>
                        <a:pt x="389" y="11"/>
                      </a:lnTo>
                      <a:lnTo>
                        <a:pt x="326" y="0"/>
                      </a:lnTo>
                      <a:lnTo>
                        <a:pt x="269" y="0"/>
                      </a:lnTo>
                      <a:lnTo>
                        <a:pt x="204" y="5"/>
                      </a:lnTo>
                      <a:lnTo>
                        <a:pt x="147" y="19"/>
                      </a:lnTo>
                      <a:lnTo>
                        <a:pt x="102" y="44"/>
                      </a:lnTo>
                      <a:lnTo>
                        <a:pt x="74" y="74"/>
                      </a:lnTo>
                      <a:lnTo>
                        <a:pt x="57" y="105"/>
                      </a:lnTo>
                      <a:lnTo>
                        <a:pt x="44" y="134"/>
                      </a:lnTo>
                      <a:lnTo>
                        <a:pt x="35" y="180"/>
                      </a:lnTo>
                      <a:lnTo>
                        <a:pt x="32" y="228"/>
                      </a:lnTo>
                      <a:lnTo>
                        <a:pt x="32" y="263"/>
                      </a:lnTo>
                      <a:lnTo>
                        <a:pt x="32" y="296"/>
                      </a:lnTo>
                      <a:lnTo>
                        <a:pt x="32" y="342"/>
                      </a:lnTo>
                      <a:lnTo>
                        <a:pt x="15" y="333"/>
                      </a:lnTo>
                      <a:lnTo>
                        <a:pt x="0" y="347"/>
                      </a:lnTo>
                      <a:lnTo>
                        <a:pt x="0" y="399"/>
                      </a:lnTo>
                      <a:lnTo>
                        <a:pt x="14" y="453"/>
                      </a:lnTo>
                      <a:lnTo>
                        <a:pt x="23" y="504"/>
                      </a:lnTo>
                      <a:lnTo>
                        <a:pt x="27" y="528"/>
                      </a:lnTo>
                      <a:lnTo>
                        <a:pt x="45" y="537"/>
                      </a:lnTo>
                      <a:lnTo>
                        <a:pt x="60" y="520"/>
                      </a:lnTo>
                      <a:lnTo>
                        <a:pt x="63" y="572"/>
                      </a:lnTo>
                      <a:lnTo>
                        <a:pt x="69" y="627"/>
                      </a:lnTo>
                      <a:lnTo>
                        <a:pt x="76" y="664"/>
                      </a:lnTo>
                      <a:lnTo>
                        <a:pt x="87" y="762"/>
                      </a:lnTo>
                      <a:lnTo>
                        <a:pt x="238" y="870"/>
                      </a:lnTo>
                      <a:lnTo>
                        <a:pt x="456" y="764"/>
                      </a:lnTo>
                      <a:lnTo>
                        <a:pt x="460" y="680"/>
                      </a:lnTo>
                      <a:lnTo>
                        <a:pt x="480" y="579"/>
                      </a:lnTo>
                      <a:lnTo>
                        <a:pt x="486" y="525"/>
                      </a:lnTo>
                      <a:lnTo>
                        <a:pt x="498" y="537"/>
                      </a:lnTo>
                      <a:lnTo>
                        <a:pt x="522" y="537"/>
                      </a:lnTo>
                      <a:lnTo>
                        <a:pt x="544" y="441"/>
                      </a:lnTo>
                      <a:lnTo>
                        <a:pt x="565" y="368"/>
                      </a:lnTo>
                      <a:lnTo>
                        <a:pt x="561" y="354"/>
                      </a:lnTo>
                      <a:lnTo>
                        <a:pt x="537" y="350"/>
                      </a:lnTo>
                      <a:lnTo>
                        <a:pt x="540" y="312"/>
                      </a:lnTo>
                      <a:lnTo>
                        <a:pt x="541" y="252"/>
                      </a:lnTo>
                      <a:lnTo>
                        <a:pt x="540" y="208"/>
                      </a:lnTo>
                      <a:lnTo>
                        <a:pt x="531" y="159"/>
                      </a:lnTo>
                      <a:lnTo>
                        <a:pt x="510" y="98"/>
                      </a:lnTo>
                      <a:lnTo>
                        <a:pt x="486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290600" y="4265640"/>
                  <a:ext cx="125640" cy="311400"/>
                </a:xfrm>
                <a:custGeom>
                  <a:avLst/>
                  <a:gdLst/>
                  <a:ahLst/>
                  <a:rect l="0" t="0" r="r" b="b"/>
                  <a:pathLst>
                    <a:path w="349" h="865">
                      <a:moveTo>
                        <a:pt x="125" y="105"/>
                      </a:moveTo>
                      <a:lnTo>
                        <a:pt x="163" y="302"/>
                      </a:lnTo>
                      <a:lnTo>
                        <a:pt x="177" y="315"/>
                      </a:lnTo>
                      <a:lnTo>
                        <a:pt x="125" y="317"/>
                      </a:lnTo>
                      <a:lnTo>
                        <a:pt x="77" y="338"/>
                      </a:lnTo>
                      <a:lnTo>
                        <a:pt x="47" y="341"/>
                      </a:lnTo>
                      <a:lnTo>
                        <a:pt x="56" y="519"/>
                      </a:lnTo>
                      <a:lnTo>
                        <a:pt x="0" y="515"/>
                      </a:lnTo>
                      <a:lnTo>
                        <a:pt x="47" y="564"/>
                      </a:lnTo>
                      <a:lnTo>
                        <a:pt x="89" y="529"/>
                      </a:lnTo>
                      <a:lnTo>
                        <a:pt x="115" y="529"/>
                      </a:lnTo>
                      <a:lnTo>
                        <a:pt x="89" y="496"/>
                      </a:lnTo>
                      <a:lnTo>
                        <a:pt x="89" y="401"/>
                      </a:lnTo>
                      <a:lnTo>
                        <a:pt x="205" y="416"/>
                      </a:lnTo>
                      <a:lnTo>
                        <a:pt x="218" y="515"/>
                      </a:lnTo>
                      <a:lnTo>
                        <a:pt x="197" y="580"/>
                      </a:lnTo>
                      <a:lnTo>
                        <a:pt x="124" y="747"/>
                      </a:lnTo>
                      <a:lnTo>
                        <a:pt x="5" y="730"/>
                      </a:lnTo>
                      <a:lnTo>
                        <a:pt x="44" y="865"/>
                      </a:lnTo>
                      <a:lnTo>
                        <a:pt x="241" y="751"/>
                      </a:lnTo>
                      <a:lnTo>
                        <a:pt x="253" y="642"/>
                      </a:lnTo>
                      <a:lnTo>
                        <a:pt x="274" y="510"/>
                      </a:lnTo>
                      <a:lnTo>
                        <a:pt x="287" y="522"/>
                      </a:lnTo>
                      <a:lnTo>
                        <a:pt x="306" y="519"/>
                      </a:lnTo>
                      <a:lnTo>
                        <a:pt x="349" y="353"/>
                      </a:lnTo>
                      <a:lnTo>
                        <a:pt x="345" y="336"/>
                      </a:lnTo>
                      <a:lnTo>
                        <a:pt x="324" y="332"/>
                      </a:lnTo>
                      <a:lnTo>
                        <a:pt x="324" y="278"/>
                      </a:lnTo>
                      <a:lnTo>
                        <a:pt x="328" y="239"/>
                      </a:lnTo>
                      <a:lnTo>
                        <a:pt x="324" y="203"/>
                      </a:lnTo>
                      <a:lnTo>
                        <a:pt x="319" y="164"/>
                      </a:lnTo>
                      <a:lnTo>
                        <a:pt x="307" y="119"/>
                      </a:lnTo>
                      <a:lnTo>
                        <a:pt x="294" y="84"/>
                      </a:lnTo>
                      <a:lnTo>
                        <a:pt x="271" y="48"/>
                      </a:lnTo>
                      <a:lnTo>
                        <a:pt x="230" y="18"/>
                      </a:lnTo>
                      <a:lnTo>
                        <a:pt x="184" y="0"/>
                      </a:lnTo>
                      <a:lnTo>
                        <a:pt x="193" y="26"/>
                      </a:lnTo>
                      <a:lnTo>
                        <a:pt x="203" y="53"/>
                      </a:lnTo>
                      <a:lnTo>
                        <a:pt x="200" y="68"/>
                      </a:lnTo>
                      <a:lnTo>
                        <a:pt x="186" y="81"/>
                      </a:lnTo>
                      <a:lnTo>
                        <a:pt x="172" y="93"/>
                      </a:lnTo>
                      <a:lnTo>
                        <a:pt x="151" y="102"/>
                      </a:lnTo>
                      <a:lnTo>
                        <a:pt x="125" y="105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1208160" y="424332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550" y="517"/>
                    </a:moveTo>
                    <a:lnTo>
                      <a:pt x="592" y="392"/>
                    </a:lnTo>
                    <a:lnTo>
                      <a:pt x="587" y="251"/>
                    </a:lnTo>
                    <a:lnTo>
                      <a:pt x="574" y="161"/>
                    </a:lnTo>
                    <a:lnTo>
                      <a:pt x="550" y="116"/>
                    </a:lnTo>
                    <a:lnTo>
                      <a:pt x="522" y="80"/>
                    </a:lnTo>
                    <a:lnTo>
                      <a:pt x="474" y="41"/>
                    </a:lnTo>
                    <a:lnTo>
                      <a:pt x="398" y="20"/>
                    </a:lnTo>
                    <a:lnTo>
                      <a:pt x="312" y="0"/>
                    </a:lnTo>
                    <a:lnTo>
                      <a:pt x="222" y="13"/>
                    </a:lnTo>
                    <a:lnTo>
                      <a:pt x="152" y="33"/>
                    </a:lnTo>
                    <a:lnTo>
                      <a:pt x="112" y="50"/>
                    </a:lnTo>
                    <a:lnTo>
                      <a:pt x="65" y="71"/>
                    </a:lnTo>
                    <a:lnTo>
                      <a:pt x="48" y="99"/>
                    </a:lnTo>
                    <a:lnTo>
                      <a:pt x="27" y="147"/>
                    </a:lnTo>
                    <a:lnTo>
                      <a:pt x="5" y="233"/>
                    </a:lnTo>
                    <a:lnTo>
                      <a:pt x="0" y="309"/>
                    </a:lnTo>
                    <a:lnTo>
                      <a:pt x="0" y="377"/>
                    </a:lnTo>
                    <a:lnTo>
                      <a:pt x="0" y="408"/>
                    </a:lnTo>
                    <a:lnTo>
                      <a:pt x="21" y="476"/>
                    </a:lnTo>
                    <a:lnTo>
                      <a:pt x="11" y="395"/>
                    </a:lnTo>
                    <a:lnTo>
                      <a:pt x="51" y="413"/>
                    </a:lnTo>
                    <a:lnTo>
                      <a:pt x="65" y="459"/>
                    </a:lnTo>
                    <a:lnTo>
                      <a:pt x="75" y="416"/>
                    </a:lnTo>
                    <a:lnTo>
                      <a:pt x="65" y="356"/>
                    </a:lnTo>
                    <a:lnTo>
                      <a:pt x="105" y="272"/>
                    </a:lnTo>
                    <a:lnTo>
                      <a:pt x="88" y="228"/>
                    </a:lnTo>
                    <a:lnTo>
                      <a:pt x="142" y="245"/>
                    </a:lnTo>
                    <a:lnTo>
                      <a:pt x="194" y="263"/>
                    </a:lnTo>
                    <a:lnTo>
                      <a:pt x="246" y="257"/>
                    </a:lnTo>
                    <a:lnTo>
                      <a:pt x="291" y="245"/>
                    </a:lnTo>
                    <a:lnTo>
                      <a:pt x="328" y="240"/>
                    </a:lnTo>
                    <a:lnTo>
                      <a:pt x="297" y="263"/>
                    </a:lnTo>
                    <a:lnTo>
                      <a:pt x="321" y="263"/>
                    </a:lnTo>
                    <a:lnTo>
                      <a:pt x="388" y="258"/>
                    </a:lnTo>
                    <a:lnTo>
                      <a:pt x="437" y="236"/>
                    </a:lnTo>
                    <a:lnTo>
                      <a:pt x="475" y="221"/>
                    </a:lnTo>
                    <a:lnTo>
                      <a:pt x="471" y="251"/>
                    </a:lnTo>
                    <a:lnTo>
                      <a:pt x="483" y="302"/>
                    </a:lnTo>
                    <a:lnTo>
                      <a:pt x="499" y="344"/>
                    </a:lnTo>
                    <a:lnTo>
                      <a:pt x="505" y="377"/>
                    </a:lnTo>
                    <a:lnTo>
                      <a:pt x="508" y="416"/>
                    </a:lnTo>
                    <a:lnTo>
                      <a:pt x="508" y="450"/>
                    </a:lnTo>
                    <a:lnTo>
                      <a:pt x="529" y="416"/>
                    </a:lnTo>
                    <a:lnTo>
                      <a:pt x="553" y="410"/>
                    </a:lnTo>
                    <a:lnTo>
                      <a:pt x="571" y="436"/>
                    </a:lnTo>
                    <a:lnTo>
                      <a:pt x="550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992160" y="5919840"/>
              <a:ext cx="583200" cy="159120"/>
              <a:chOff x="992160" y="5919840"/>
              <a:chExt cx="583200" cy="159120"/>
            </a:xfrm>
          </p:grpSpPr>
          <p:sp>
            <p:nvSpPr>
              <p:cNvPr id="351" name=""/>
              <p:cNvSpPr/>
              <p:nvPr/>
            </p:nvSpPr>
            <p:spPr>
              <a:xfrm>
                <a:off x="1332000" y="591984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54" y="97"/>
                    </a:moveTo>
                    <a:lnTo>
                      <a:pt x="466" y="210"/>
                    </a:lnTo>
                    <a:lnTo>
                      <a:pt x="548" y="270"/>
                    </a:lnTo>
                    <a:lnTo>
                      <a:pt x="676" y="320"/>
                    </a:lnTo>
                    <a:lnTo>
                      <a:pt x="676" y="402"/>
                    </a:lnTo>
                    <a:lnTo>
                      <a:pt x="563" y="442"/>
                    </a:lnTo>
                    <a:lnTo>
                      <a:pt x="384" y="442"/>
                    </a:lnTo>
                    <a:lnTo>
                      <a:pt x="250" y="375"/>
                    </a:lnTo>
                    <a:lnTo>
                      <a:pt x="183" y="314"/>
                    </a:lnTo>
                    <a:lnTo>
                      <a:pt x="0" y="261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35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92160" y="5925960"/>
                <a:ext cx="263880" cy="141480"/>
              </a:xfrm>
              <a:custGeom>
                <a:avLst/>
                <a:gdLst/>
                <a:ahLst/>
                <a:rect l="0" t="0" r="r" b="b"/>
                <a:pathLst>
                  <a:path w="733" h="393">
                    <a:moveTo>
                      <a:pt x="726" y="17"/>
                    </a:moveTo>
                    <a:lnTo>
                      <a:pt x="733" y="234"/>
                    </a:lnTo>
                    <a:lnTo>
                      <a:pt x="563" y="272"/>
                    </a:lnTo>
                    <a:lnTo>
                      <a:pt x="465" y="317"/>
                    </a:lnTo>
                    <a:lnTo>
                      <a:pt x="292" y="363"/>
                    </a:lnTo>
                    <a:lnTo>
                      <a:pt x="165" y="393"/>
                    </a:lnTo>
                    <a:lnTo>
                      <a:pt x="23" y="371"/>
                    </a:lnTo>
                    <a:lnTo>
                      <a:pt x="0" y="272"/>
                    </a:lnTo>
                    <a:lnTo>
                      <a:pt x="202" y="158"/>
                    </a:lnTo>
                    <a:lnTo>
                      <a:pt x="351" y="68"/>
                    </a:lnTo>
                    <a:lnTo>
                      <a:pt x="428" y="0"/>
                    </a:lnTo>
                    <a:lnTo>
                      <a:pt x="7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225440" y="4527720"/>
              <a:ext cx="170280" cy="481320"/>
            </a:xfrm>
            <a:custGeom>
              <a:avLst/>
              <a:gdLst/>
              <a:ahLst/>
              <a:rect l="0" t="0" r="r" b="b"/>
              <a:pathLst>
                <a:path w="473" h="1337">
                  <a:moveTo>
                    <a:pt x="194" y="1337"/>
                  </a:moveTo>
                  <a:lnTo>
                    <a:pt x="473" y="84"/>
                  </a:lnTo>
                  <a:lnTo>
                    <a:pt x="420" y="11"/>
                  </a:lnTo>
                  <a:lnTo>
                    <a:pt x="234" y="113"/>
                  </a:lnTo>
                  <a:lnTo>
                    <a:pt x="54" y="0"/>
                  </a:lnTo>
                  <a:lnTo>
                    <a:pt x="0" y="69"/>
                  </a:lnTo>
                  <a:lnTo>
                    <a:pt x="194" y="1337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68280" y="4567320"/>
              <a:ext cx="63720" cy="430560"/>
            </a:xfrm>
            <a:custGeom>
              <a:avLst/>
              <a:gdLst/>
              <a:ahLst/>
              <a:rect l="0" t="0" r="r" b="b"/>
              <a:pathLst>
                <a:path w="177" h="1196">
                  <a:moveTo>
                    <a:pt x="124" y="0"/>
                  </a:moveTo>
                  <a:lnTo>
                    <a:pt x="106" y="0"/>
                  </a:lnTo>
                  <a:lnTo>
                    <a:pt x="45" y="86"/>
                  </a:lnTo>
                  <a:lnTo>
                    <a:pt x="80" y="150"/>
                  </a:lnTo>
                  <a:lnTo>
                    <a:pt x="33" y="306"/>
                  </a:lnTo>
                  <a:lnTo>
                    <a:pt x="3" y="450"/>
                  </a:lnTo>
                  <a:lnTo>
                    <a:pt x="0" y="622"/>
                  </a:lnTo>
                  <a:lnTo>
                    <a:pt x="18" y="978"/>
                  </a:lnTo>
                  <a:lnTo>
                    <a:pt x="24" y="1192"/>
                  </a:lnTo>
                  <a:lnTo>
                    <a:pt x="124" y="1196"/>
                  </a:lnTo>
                  <a:lnTo>
                    <a:pt x="143" y="973"/>
                  </a:lnTo>
                  <a:lnTo>
                    <a:pt x="173" y="622"/>
                  </a:lnTo>
                  <a:lnTo>
                    <a:pt x="173" y="454"/>
                  </a:lnTo>
                  <a:lnTo>
                    <a:pt x="159" y="309"/>
                  </a:lnTo>
                  <a:lnTo>
                    <a:pt x="131" y="154"/>
                  </a:lnTo>
                  <a:lnTo>
                    <a:pt x="177" y="10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81000" y="447192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146" y="230"/>
                  </a:moveTo>
                  <a:lnTo>
                    <a:pt x="1532" y="381"/>
                  </a:lnTo>
                  <a:lnTo>
                    <a:pt x="1978" y="574"/>
                  </a:lnTo>
                  <a:lnTo>
                    <a:pt x="1532" y="127"/>
                  </a:lnTo>
                  <a:lnTo>
                    <a:pt x="1723" y="0"/>
                  </a:lnTo>
                  <a:lnTo>
                    <a:pt x="2297" y="574"/>
                  </a:lnTo>
                  <a:lnTo>
                    <a:pt x="2360" y="828"/>
                  </a:lnTo>
                  <a:lnTo>
                    <a:pt x="2169" y="893"/>
                  </a:lnTo>
                  <a:lnTo>
                    <a:pt x="1404" y="765"/>
                  </a:lnTo>
                  <a:lnTo>
                    <a:pt x="1359" y="1548"/>
                  </a:lnTo>
                  <a:lnTo>
                    <a:pt x="1388" y="2173"/>
                  </a:lnTo>
                  <a:lnTo>
                    <a:pt x="1284" y="2187"/>
                  </a:lnTo>
                  <a:lnTo>
                    <a:pt x="1300" y="2992"/>
                  </a:lnTo>
                  <a:lnTo>
                    <a:pt x="1330" y="4127"/>
                  </a:lnTo>
                  <a:lnTo>
                    <a:pt x="1177" y="4159"/>
                  </a:lnTo>
                  <a:lnTo>
                    <a:pt x="994" y="4084"/>
                  </a:lnTo>
                  <a:lnTo>
                    <a:pt x="851" y="2216"/>
                  </a:lnTo>
                  <a:lnTo>
                    <a:pt x="796" y="3277"/>
                  </a:lnTo>
                  <a:lnTo>
                    <a:pt x="760" y="4090"/>
                  </a:lnTo>
                  <a:lnTo>
                    <a:pt x="556" y="4159"/>
                  </a:lnTo>
                  <a:lnTo>
                    <a:pt x="393" y="4145"/>
                  </a:lnTo>
                  <a:lnTo>
                    <a:pt x="450" y="2655"/>
                  </a:lnTo>
                  <a:lnTo>
                    <a:pt x="424" y="2173"/>
                  </a:lnTo>
                  <a:lnTo>
                    <a:pt x="363" y="2142"/>
                  </a:lnTo>
                  <a:lnTo>
                    <a:pt x="318" y="1971"/>
                  </a:lnTo>
                  <a:lnTo>
                    <a:pt x="302" y="1832"/>
                  </a:lnTo>
                  <a:lnTo>
                    <a:pt x="0" y="1481"/>
                  </a:lnTo>
                  <a:lnTo>
                    <a:pt x="271" y="407"/>
                  </a:lnTo>
                  <a:lnTo>
                    <a:pt x="682" y="210"/>
                  </a:lnTo>
                  <a:lnTo>
                    <a:pt x="870" y="1456"/>
                  </a:lnTo>
                  <a:lnTo>
                    <a:pt x="1146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276200" y="5033880"/>
              <a:ext cx="22320" cy="74880"/>
              <a:chOff x="1276200" y="5033880"/>
              <a:chExt cx="22320" cy="74880"/>
            </a:xfrm>
          </p:grpSpPr>
          <p:sp>
            <p:nvSpPr>
              <p:cNvPr id="357" name=""/>
              <p:cNvSpPr/>
              <p:nvPr/>
            </p:nvSpPr>
            <p:spPr>
              <a:xfrm>
                <a:off x="1276200" y="5033880"/>
                <a:ext cx="22320" cy="2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76200" y="5083200"/>
                <a:ext cx="2232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436760" y="4311720"/>
              <a:ext cx="354240" cy="695880"/>
              <a:chOff x="1436760" y="4311720"/>
              <a:chExt cx="354240" cy="695880"/>
            </a:xfrm>
          </p:grpSpPr>
          <p:sp>
            <p:nvSpPr>
              <p:cNvPr id="360" name=""/>
              <p:cNvSpPr/>
              <p:nvPr/>
            </p:nvSpPr>
            <p:spPr>
              <a:xfrm>
                <a:off x="1467000" y="4578480"/>
                <a:ext cx="105120" cy="333720"/>
              </a:xfrm>
              <a:custGeom>
                <a:avLst/>
                <a:gdLst/>
                <a:ahLst/>
                <a:rect l="0" t="0" r="r" b="b"/>
                <a:pathLst>
                  <a:path w="292" h="927">
                    <a:moveTo>
                      <a:pt x="97" y="0"/>
                    </a:moveTo>
                    <a:lnTo>
                      <a:pt x="178" y="122"/>
                    </a:lnTo>
                    <a:lnTo>
                      <a:pt x="65" y="230"/>
                    </a:lnTo>
                    <a:lnTo>
                      <a:pt x="200" y="354"/>
                    </a:lnTo>
                    <a:lnTo>
                      <a:pt x="47" y="507"/>
                    </a:lnTo>
                    <a:lnTo>
                      <a:pt x="222" y="661"/>
                    </a:lnTo>
                    <a:lnTo>
                      <a:pt x="127" y="779"/>
                    </a:lnTo>
                    <a:lnTo>
                      <a:pt x="292" y="901"/>
                    </a:lnTo>
                    <a:lnTo>
                      <a:pt x="266" y="927"/>
                    </a:lnTo>
                    <a:lnTo>
                      <a:pt x="83" y="787"/>
                    </a:lnTo>
                    <a:lnTo>
                      <a:pt x="174" y="670"/>
                    </a:lnTo>
                    <a:lnTo>
                      <a:pt x="0" y="517"/>
                    </a:lnTo>
                    <a:lnTo>
                      <a:pt x="156" y="354"/>
                    </a:lnTo>
                    <a:lnTo>
                      <a:pt x="17" y="240"/>
                    </a:lnTo>
                    <a:lnTo>
                      <a:pt x="141" y="122"/>
                    </a:lnTo>
                    <a:lnTo>
                      <a:pt x="71" y="1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36760" y="4311720"/>
                <a:ext cx="78120" cy="294120"/>
              </a:xfrm>
              <a:custGeom>
                <a:avLst/>
                <a:gdLst/>
                <a:ahLst/>
                <a:rect l="0" t="0" r="r" b="b"/>
                <a:pathLst>
                  <a:path w="217" h="817">
                    <a:moveTo>
                      <a:pt x="0" y="631"/>
                    </a:moveTo>
                    <a:lnTo>
                      <a:pt x="0" y="817"/>
                    </a:lnTo>
                    <a:lnTo>
                      <a:pt x="124" y="817"/>
                    </a:lnTo>
                    <a:lnTo>
                      <a:pt x="217" y="754"/>
                    </a:lnTo>
                    <a:lnTo>
                      <a:pt x="217" y="62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88"/>
                    </a:lnTo>
                    <a:lnTo>
                      <a:pt x="92" y="188"/>
                    </a:lnTo>
                    <a:lnTo>
                      <a:pt x="124" y="205"/>
                    </a:lnTo>
                    <a:lnTo>
                      <a:pt x="124" y="615"/>
                    </a:lnTo>
                    <a:lnTo>
                      <a:pt x="92" y="631"/>
                    </a:lnTo>
                    <a:lnTo>
                      <a:pt x="0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33600" y="4826160"/>
                <a:ext cx="257400" cy="176400"/>
              </a:xfrm>
              <a:custGeom>
                <a:avLst/>
                <a:gdLst/>
                <a:ahLst/>
                <a:rect l="0" t="0" r="r" b="b"/>
                <a:pathLst>
                  <a:path w="715" h="490">
                    <a:moveTo>
                      <a:pt x="571" y="0"/>
                    </a:moveTo>
                    <a:lnTo>
                      <a:pt x="571" y="139"/>
                    </a:lnTo>
                    <a:lnTo>
                      <a:pt x="573" y="139"/>
                    </a:lnTo>
                    <a:lnTo>
                      <a:pt x="573" y="141"/>
                    </a:lnTo>
                    <a:lnTo>
                      <a:pt x="575" y="141"/>
                    </a:lnTo>
                    <a:lnTo>
                      <a:pt x="575" y="143"/>
                    </a:lnTo>
                    <a:lnTo>
                      <a:pt x="577" y="143"/>
                    </a:lnTo>
                    <a:lnTo>
                      <a:pt x="577" y="145"/>
                    </a:lnTo>
                    <a:lnTo>
                      <a:pt x="579" y="145"/>
                    </a:lnTo>
                    <a:lnTo>
                      <a:pt x="579" y="147"/>
                    </a:lnTo>
                    <a:lnTo>
                      <a:pt x="581" y="147"/>
                    </a:lnTo>
                    <a:lnTo>
                      <a:pt x="581" y="149"/>
                    </a:lnTo>
                    <a:lnTo>
                      <a:pt x="583" y="151"/>
                    </a:lnTo>
                    <a:lnTo>
                      <a:pt x="584" y="151"/>
                    </a:lnTo>
                    <a:lnTo>
                      <a:pt x="584" y="152"/>
                    </a:lnTo>
                    <a:lnTo>
                      <a:pt x="586" y="152"/>
                    </a:lnTo>
                    <a:lnTo>
                      <a:pt x="586" y="154"/>
                    </a:lnTo>
                    <a:lnTo>
                      <a:pt x="588" y="154"/>
                    </a:lnTo>
                    <a:lnTo>
                      <a:pt x="588" y="156"/>
                    </a:lnTo>
                    <a:lnTo>
                      <a:pt x="590" y="156"/>
                    </a:lnTo>
                    <a:lnTo>
                      <a:pt x="590" y="158"/>
                    </a:lnTo>
                    <a:lnTo>
                      <a:pt x="592" y="160"/>
                    </a:lnTo>
                    <a:lnTo>
                      <a:pt x="594" y="160"/>
                    </a:lnTo>
                    <a:lnTo>
                      <a:pt x="594" y="162"/>
                    </a:lnTo>
                    <a:lnTo>
                      <a:pt x="596" y="162"/>
                    </a:lnTo>
                    <a:lnTo>
                      <a:pt x="596" y="164"/>
                    </a:lnTo>
                    <a:lnTo>
                      <a:pt x="598" y="164"/>
                    </a:lnTo>
                    <a:lnTo>
                      <a:pt x="598" y="166"/>
                    </a:lnTo>
                    <a:lnTo>
                      <a:pt x="600" y="166"/>
                    </a:lnTo>
                    <a:lnTo>
                      <a:pt x="600" y="168"/>
                    </a:lnTo>
                    <a:lnTo>
                      <a:pt x="602" y="168"/>
                    </a:lnTo>
                    <a:lnTo>
                      <a:pt x="602" y="170"/>
                    </a:lnTo>
                    <a:lnTo>
                      <a:pt x="604" y="170"/>
                    </a:lnTo>
                    <a:lnTo>
                      <a:pt x="604" y="172"/>
                    </a:lnTo>
                    <a:lnTo>
                      <a:pt x="606" y="172"/>
                    </a:lnTo>
                    <a:lnTo>
                      <a:pt x="606" y="173"/>
                    </a:lnTo>
                    <a:lnTo>
                      <a:pt x="608" y="173"/>
                    </a:lnTo>
                    <a:lnTo>
                      <a:pt x="608" y="175"/>
                    </a:lnTo>
                    <a:lnTo>
                      <a:pt x="610" y="175"/>
                    </a:lnTo>
                    <a:lnTo>
                      <a:pt x="610" y="177"/>
                    </a:lnTo>
                    <a:lnTo>
                      <a:pt x="612" y="177"/>
                    </a:lnTo>
                    <a:lnTo>
                      <a:pt x="612" y="179"/>
                    </a:lnTo>
                    <a:lnTo>
                      <a:pt x="614" y="179"/>
                    </a:lnTo>
                    <a:lnTo>
                      <a:pt x="614" y="181"/>
                    </a:lnTo>
                    <a:lnTo>
                      <a:pt x="616" y="181"/>
                    </a:lnTo>
                    <a:lnTo>
                      <a:pt x="616" y="183"/>
                    </a:lnTo>
                    <a:lnTo>
                      <a:pt x="618" y="185"/>
                    </a:lnTo>
                    <a:lnTo>
                      <a:pt x="619" y="185"/>
                    </a:lnTo>
                    <a:lnTo>
                      <a:pt x="619" y="187"/>
                    </a:lnTo>
                    <a:lnTo>
                      <a:pt x="621" y="187"/>
                    </a:lnTo>
                    <a:lnTo>
                      <a:pt x="621" y="189"/>
                    </a:lnTo>
                    <a:lnTo>
                      <a:pt x="623" y="189"/>
                    </a:lnTo>
                    <a:lnTo>
                      <a:pt x="623" y="191"/>
                    </a:lnTo>
                    <a:lnTo>
                      <a:pt x="625" y="191"/>
                    </a:lnTo>
                    <a:lnTo>
                      <a:pt x="627" y="193"/>
                    </a:lnTo>
                    <a:lnTo>
                      <a:pt x="627" y="195"/>
                    </a:lnTo>
                    <a:lnTo>
                      <a:pt x="629" y="195"/>
                    </a:lnTo>
                    <a:lnTo>
                      <a:pt x="629" y="196"/>
                    </a:lnTo>
                    <a:lnTo>
                      <a:pt x="631" y="196"/>
                    </a:lnTo>
                    <a:lnTo>
                      <a:pt x="631" y="198"/>
                    </a:lnTo>
                    <a:lnTo>
                      <a:pt x="633" y="198"/>
                    </a:lnTo>
                    <a:lnTo>
                      <a:pt x="633" y="200"/>
                    </a:lnTo>
                    <a:lnTo>
                      <a:pt x="635" y="200"/>
                    </a:lnTo>
                    <a:lnTo>
                      <a:pt x="635" y="202"/>
                    </a:lnTo>
                    <a:lnTo>
                      <a:pt x="637" y="202"/>
                    </a:lnTo>
                    <a:lnTo>
                      <a:pt x="637" y="204"/>
                    </a:lnTo>
                    <a:lnTo>
                      <a:pt x="639" y="204"/>
                    </a:lnTo>
                    <a:lnTo>
                      <a:pt x="639" y="206"/>
                    </a:lnTo>
                    <a:lnTo>
                      <a:pt x="641" y="206"/>
                    </a:lnTo>
                    <a:lnTo>
                      <a:pt x="641" y="208"/>
                    </a:lnTo>
                    <a:lnTo>
                      <a:pt x="643" y="208"/>
                    </a:lnTo>
                    <a:lnTo>
                      <a:pt x="643" y="210"/>
                    </a:lnTo>
                    <a:lnTo>
                      <a:pt x="645" y="210"/>
                    </a:lnTo>
                    <a:lnTo>
                      <a:pt x="645" y="212"/>
                    </a:lnTo>
                    <a:lnTo>
                      <a:pt x="647" y="212"/>
                    </a:lnTo>
                    <a:lnTo>
                      <a:pt x="647" y="214"/>
                    </a:lnTo>
                    <a:lnTo>
                      <a:pt x="649" y="214"/>
                    </a:lnTo>
                    <a:lnTo>
                      <a:pt x="649" y="216"/>
                    </a:lnTo>
                    <a:lnTo>
                      <a:pt x="651" y="216"/>
                    </a:lnTo>
                    <a:lnTo>
                      <a:pt x="653" y="217"/>
                    </a:lnTo>
                    <a:lnTo>
                      <a:pt x="653" y="219"/>
                    </a:lnTo>
                    <a:lnTo>
                      <a:pt x="655" y="219"/>
                    </a:lnTo>
                    <a:lnTo>
                      <a:pt x="655" y="221"/>
                    </a:lnTo>
                    <a:lnTo>
                      <a:pt x="656" y="221"/>
                    </a:lnTo>
                    <a:lnTo>
                      <a:pt x="656" y="223"/>
                    </a:lnTo>
                    <a:lnTo>
                      <a:pt x="658" y="223"/>
                    </a:lnTo>
                    <a:lnTo>
                      <a:pt x="658" y="225"/>
                    </a:lnTo>
                    <a:lnTo>
                      <a:pt x="660" y="225"/>
                    </a:lnTo>
                    <a:lnTo>
                      <a:pt x="662" y="227"/>
                    </a:lnTo>
                    <a:lnTo>
                      <a:pt x="662" y="229"/>
                    </a:lnTo>
                    <a:lnTo>
                      <a:pt x="664" y="229"/>
                    </a:lnTo>
                    <a:lnTo>
                      <a:pt x="664" y="231"/>
                    </a:lnTo>
                    <a:lnTo>
                      <a:pt x="666" y="231"/>
                    </a:lnTo>
                    <a:lnTo>
                      <a:pt x="666" y="233"/>
                    </a:lnTo>
                    <a:lnTo>
                      <a:pt x="668" y="233"/>
                    </a:lnTo>
                    <a:lnTo>
                      <a:pt x="668" y="235"/>
                    </a:lnTo>
                    <a:lnTo>
                      <a:pt x="670" y="235"/>
                    </a:lnTo>
                    <a:lnTo>
                      <a:pt x="672" y="237"/>
                    </a:lnTo>
                    <a:lnTo>
                      <a:pt x="672" y="239"/>
                    </a:lnTo>
                    <a:lnTo>
                      <a:pt x="674" y="239"/>
                    </a:lnTo>
                    <a:lnTo>
                      <a:pt x="674" y="240"/>
                    </a:lnTo>
                    <a:lnTo>
                      <a:pt x="676" y="240"/>
                    </a:lnTo>
                    <a:lnTo>
                      <a:pt x="678" y="242"/>
                    </a:lnTo>
                    <a:lnTo>
                      <a:pt x="678" y="244"/>
                    </a:lnTo>
                    <a:lnTo>
                      <a:pt x="680" y="244"/>
                    </a:lnTo>
                    <a:lnTo>
                      <a:pt x="680" y="247"/>
                    </a:lnTo>
                    <a:lnTo>
                      <a:pt x="682" y="247"/>
                    </a:lnTo>
                    <a:lnTo>
                      <a:pt x="682" y="249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6" y="251"/>
                    </a:lnTo>
                    <a:lnTo>
                      <a:pt x="688" y="253"/>
                    </a:lnTo>
                    <a:lnTo>
                      <a:pt x="688" y="255"/>
                    </a:lnTo>
                    <a:lnTo>
                      <a:pt x="690" y="255"/>
                    </a:lnTo>
                    <a:lnTo>
                      <a:pt x="690" y="257"/>
                    </a:lnTo>
                    <a:lnTo>
                      <a:pt x="692" y="257"/>
                    </a:lnTo>
                    <a:lnTo>
                      <a:pt x="692" y="259"/>
                    </a:lnTo>
                    <a:lnTo>
                      <a:pt x="693" y="259"/>
                    </a:lnTo>
                    <a:lnTo>
                      <a:pt x="693" y="261"/>
                    </a:lnTo>
                    <a:lnTo>
                      <a:pt x="695" y="261"/>
                    </a:lnTo>
                    <a:lnTo>
                      <a:pt x="697" y="262"/>
                    </a:lnTo>
                    <a:lnTo>
                      <a:pt x="697" y="264"/>
                    </a:lnTo>
                    <a:lnTo>
                      <a:pt x="699" y="264"/>
                    </a:lnTo>
                    <a:lnTo>
                      <a:pt x="699" y="266"/>
                    </a:lnTo>
                    <a:lnTo>
                      <a:pt x="701" y="266"/>
                    </a:lnTo>
                    <a:lnTo>
                      <a:pt x="703" y="268"/>
                    </a:lnTo>
                    <a:lnTo>
                      <a:pt x="703" y="270"/>
                    </a:lnTo>
                    <a:lnTo>
                      <a:pt x="705" y="270"/>
                    </a:lnTo>
                    <a:lnTo>
                      <a:pt x="707" y="272"/>
                    </a:lnTo>
                    <a:lnTo>
                      <a:pt x="707" y="274"/>
                    </a:lnTo>
                    <a:lnTo>
                      <a:pt x="709" y="274"/>
                    </a:lnTo>
                    <a:lnTo>
                      <a:pt x="709" y="276"/>
                    </a:lnTo>
                    <a:lnTo>
                      <a:pt x="711" y="276"/>
                    </a:lnTo>
                    <a:lnTo>
                      <a:pt x="713" y="278"/>
                    </a:lnTo>
                    <a:lnTo>
                      <a:pt x="713" y="280"/>
                    </a:lnTo>
                    <a:lnTo>
                      <a:pt x="715" y="280"/>
                    </a:lnTo>
                    <a:lnTo>
                      <a:pt x="715" y="490"/>
                    </a:lnTo>
                    <a:lnTo>
                      <a:pt x="0" y="490"/>
                    </a:lnTo>
                    <a:lnTo>
                      <a:pt x="0" y="392"/>
                    </a:lnTo>
                    <a:lnTo>
                      <a:pt x="392" y="392"/>
                    </a:lnTo>
                    <a:lnTo>
                      <a:pt x="392" y="324"/>
                    </a:lnTo>
                    <a:lnTo>
                      <a:pt x="464" y="324"/>
                    </a:lnTo>
                    <a:lnTo>
                      <a:pt x="464" y="392"/>
                    </a:lnTo>
                    <a:lnTo>
                      <a:pt x="249" y="392"/>
                    </a:lnTo>
                    <a:lnTo>
                      <a:pt x="249" y="324"/>
                    </a:lnTo>
                    <a:lnTo>
                      <a:pt x="321" y="324"/>
                    </a:lnTo>
                    <a:lnTo>
                      <a:pt x="321" y="392"/>
                    </a:lnTo>
                    <a:lnTo>
                      <a:pt x="0" y="392"/>
                    </a:lnTo>
                    <a:lnTo>
                      <a:pt x="0" y="324"/>
                    </a:lnTo>
                    <a:lnTo>
                      <a:pt x="177" y="324"/>
                    </a:lnTo>
                    <a:lnTo>
                      <a:pt x="177" y="392"/>
                    </a:lnTo>
                    <a:lnTo>
                      <a:pt x="536" y="392"/>
                    </a:lnTo>
                    <a:lnTo>
                      <a:pt x="536" y="324"/>
                    </a:lnTo>
                    <a:lnTo>
                      <a:pt x="0" y="324"/>
                    </a:lnTo>
                    <a:lnTo>
                      <a:pt x="0" y="280"/>
                    </a:lnTo>
                    <a:lnTo>
                      <a:pt x="249" y="280"/>
                    </a:lnTo>
                    <a:lnTo>
                      <a:pt x="249" y="210"/>
                    </a:lnTo>
                    <a:lnTo>
                      <a:pt x="321" y="210"/>
                    </a:lnTo>
                    <a:lnTo>
                      <a:pt x="321" y="280"/>
                    </a:lnTo>
                    <a:lnTo>
                      <a:pt x="392" y="280"/>
                    </a:lnTo>
                    <a:lnTo>
                      <a:pt x="392" y="210"/>
                    </a:lnTo>
                    <a:lnTo>
                      <a:pt x="464" y="210"/>
                    </a:lnTo>
                    <a:lnTo>
                      <a:pt x="464" y="280"/>
                    </a:lnTo>
                    <a:lnTo>
                      <a:pt x="0" y="280"/>
                    </a:lnTo>
                    <a:lnTo>
                      <a:pt x="0" y="278"/>
                    </a:lnTo>
                    <a:lnTo>
                      <a:pt x="1" y="278"/>
                    </a:lnTo>
                    <a:lnTo>
                      <a:pt x="1" y="276"/>
                    </a:lnTo>
                    <a:lnTo>
                      <a:pt x="3" y="276"/>
                    </a:lnTo>
                    <a:lnTo>
                      <a:pt x="3" y="274"/>
                    </a:lnTo>
                    <a:lnTo>
                      <a:pt x="5" y="274"/>
                    </a:lnTo>
                    <a:lnTo>
                      <a:pt x="5" y="272"/>
                    </a:lnTo>
                    <a:lnTo>
                      <a:pt x="7" y="272"/>
                    </a:lnTo>
                    <a:lnTo>
                      <a:pt x="7" y="270"/>
                    </a:lnTo>
                    <a:lnTo>
                      <a:pt x="9" y="270"/>
                    </a:lnTo>
                    <a:lnTo>
                      <a:pt x="9" y="268"/>
                    </a:lnTo>
                    <a:lnTo>
                      <a:pt x="11" y="268"/>
                    </a:lnTo>
                    <a:lnTo>
                      <a:pt x="11" y="266"/>
                    </a:lnTo>
                    <a:lnTo>
                      <a:pt x="13" y="266"/>
                    </a:lnTo>
                    <a:lnTo>
                      <a:pt x="15" y="264"/>
                    </a:lnTo>
                    <a:lnTo>
                      <a:pt x="15" y="262"/>
                    </a:lnTo>
                    <a:lnTo>
                      <a:pt x="17" y="262"/>
                    </a:lnTo>
                    <a:lnTo>
                      <a:pt x="17" y="261"/>
                    </a:lnTo>
                    <a:lnTo>
                      <a:pt x="19" y="261"/>
                    </a:lnTo>
                    <a:lnTo>
                      <a:pt x="19" y="259"/>
                    </a:lnTo>
                    <a:lnTo>
                      <a:pt x="21" y="259"/>
                    </a:lnTo>
                    <a:lnTo>
                      <a:pt x="21" y="257"/>
                    </a:lnTo>
                    <a:lnTo>
                      <a:pt x="23" y="257"/>
                    </a:lnTo>
                    <a:lnTo>
                      <a:pt x="25" y="255"/>
                    </a:lnTo>
                    <a:lnTo>
                      <a:pt x="25" y="253"/>
                    </a:lnTo>
                    <a:lnTo>
                      <a:pt x="27" y="253"/>
                    </a:lnTo>
                    <a:lnTo>
                      <a:pt x="27" y="251"/>
                    </a:lnTo>
                    <a:lnTo>
                      <a:pt x="29" y="251"/>
                    </a:lnTo>
                    <a:lnTo>
                      <a:pt x="29" y="249"/>
                    </a:lnTo>
                    <a:lnTo>
                      <a:pt x="31" y="249"/>
                    </a:lnTo>
                    <a:lnTo>
                      <a:pt x="31" y="247"/>
                    </a:lnTo>
                    <a:lnTo>
                      <a:pt x="33" y="247"/>
                    </a:lnTo>
                    <a:lnTo>
                      <a:pt x="35" y="244"/>
                    </a:lnTo>
                    <a:lnTo>
                      <a:pt x="35" y="242"/>
                    </a:lnTo>
                    <a:lnTo>
                      <a:pt x="36" y="242"/>
                    </a:lnTo>
                    <a:lnTo>
                      <a:pt x="36" y="240"/>
                    </a:lnTo>
                    <a:lnTo>
                      <a:pt x="38" y="240"/>
                    </a:lnTo>
                    <a:lnTo>
                      <a:pt x="40" y="239"/>
                    </a:lnTo>
                    <a:lnTo>
                      <a:pt x="40" y="237"/>
                    </a:lnTo>
                    <a:lnTo>
                      <a:pt x="42" y="237"/>
                    </a:lnTo>
                    <a:lnTo>
                      <a:pt x="42" y="235"/>
                    </a:lnTo>
                    <a:lnTo>
                      <a:pt x="44" y="235"/>
                    </a:lnTo>
                    <a:lnTo>
                      <a:pt x="44" y="233"/>
                    </a:lnTo>
                    <a:lnTo>
                      <a:pt x="46" y="233"/>
                    </a:lnTo>
                    <a:lnTo>
                      <a:pt x="46" y="231"/>
                    </a:lnTo>
                    <a:lnTo>
                      <a:pt x="48" y="231"/>
                    </a:lnTo>
                    <a:lnTo>
                      <a:pt x="50" y="229"/>
                    </a:lnTo>
                    <a:lnTo>
                      <a:pt x="50" y="227"/>
                    </a:lnTo>
                    <a:lnTo>
                      <a:pt x="52" y="227"/>
                    </a:lnTo>
                    <a:lnTo>
                      <a:pt x="52" y="225"/>
                    </a:lnTo>
                    <a:lnTo>
                      <a:pt x="54" y="225"/>
                    </a:lnTo>
                    <a:lnTo>
                      <a:pt x="54" y="223"/>
                    </a:lnTo>
                    <a:lnTo>
                      <a:pt x="56" y="223"/>
                    </a:lnTo>
                    <a:lnTo>
                      <a:pt x="56" y="221"/>
                    </a:lnTo>
                    <a:lnTo>
                      <a:pt x="58" y="221"/>
                    </a:lnTo>
                    <a:lnTo>
                      <a:pt x="60" y="219"/>
                    </a:lnTo>
                    <a:lnTo>
                      <a:pt x="60" y="217"/>
                    </a:lnTo>
                    <a:lnTo>
                      <a:pt x="62" y="217"/>
                    </a:lnTo>
                    <a:lnTo>
                      <a:pt x="62" y="216"/>
                    </a:lnTo>
                    <a:lnTo>
                      <a:pt x="64" y="216"/>
                    </a:lnTo>
                    <a:lnTo>
                      <a:pt x="66" y="214"/>
                    </a:lnTo>
                    <a:lnTo>
                      <a:pt x="66" y="212"/>
                    </a:lnTo>
                    <a:lnTo>
                      <a:pt x="68" y="212"/>
                    </a:lnTo>
                    <a:lnTo>
                      <a:pt x="70" y="210"/>
                    </a:lnTo>
                    <a:lnTo>
                      <a:pt x="177" y="210"/>
                    </a:lnTo>
                    <a:lnTo>
                      <a:pt x="177" y="280"/>
                    </a:lnTo>
                    <a:lnTo>
                      <a:pt x="536" y="280"/>
                    </a:lnTo>
                    <a:lnTo>
                      <a:pt x="536" y="210"/>
                    </a:lnTo>
                    <a:lnTo>
                      <a:pt x="70" y="210"/>
                    </a:lnTo>
                    <a:lnTo>
                      <a:pt x="70" y="208"/>
                    </a:lnTo>
                    <a:lnTo>
                      <a:pt x="72" y="208"/>
                    </a:lnTo>
                    <a:lnTo>
                      <a:pt x="72" y="206"/>
                    </a:lnTo>
                    <a:lnTo>
                      <a:pt x="73" y="206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7" y="202"/>
                    </a:lnTo>
                    <a:lnTo>
                      <a:pt x="79" y="200"/>
                    </a:lnTo>
                    <a:lnTo>
                      <a:pt x="79" y="198"/>
                    </a:lnTo>
                    <a:lnTo>
                      <a:pt x="81" y="198"/>
                    </a:lnTo>
                    <a:lnTo>
                      <a:pt x="81" y="196"/>
                    </a:lnTo>
                    <a:lnTo>
                      <a:pt x="83" y="196"/>
                    </a:lnTo>
                    <a:lnTo>
                      <a:pt x="85" y="195"/>
                    </a:lnTo>
                    <a:lnTo>
                      <a:pt x="85" y="193"/>
                    </a:lnTo>
                    <a:lnTo>
                      <a:pt x="87" y="193"/>
                    </a:lnTo>
                    <a:lnTo>
                      <a:pt x="87" y="191"/>
                    </a:lnTo>
                    <a:lnTo>
                      <a:pt x="89" y="191"/>
                    </a:lnTo>
                    <a:lnTo>
                      <a:pt x="91" y="189"/>
                    </a:lnTo>
                    <a:lnTo>
                      <a:pt x="91" y="187"/>
                    </a:lnTo>
                    <a:lnTo>
                      <a:pt x="93" y="187"/>
                    </a:lnTo>
                    <a:lnTo>
                      <a:pt x="95" y="185"/>
                    </a:lnTo>
                    <a:lnTo>
                      <a:pt x="95" y="183"/>
                    </a:lnTo>
                    <a:lnTo>
                      <a:pt x="97" y="183"/>
                    </a:lnTo>
                    <a:lnTo>
                      <a:pt x="97" y="181"/>
                    </a:lnTo>
                    <a:lnTo>
                      <a:pt x="99" y="181"/>
                    </a:lnTo>
                    <a:lnTo>
                      <a:pt x="101" y="179"/>
                    </a:lnTo>
                    <a:lnTo>
                      <a:pt x="101" y="177"/>
                    </a:lnTo>
                    <a:lnTo>
                      <a:pt x="103" y="177"/>
                    </a:lnTo>
                    <a:lnTo>
                      <a:pt x="105" y="175"/>
                    </a:lnTo>
                    <a:lnTo>
                      <a:pt x="105" y="173"/>
                    </a:lnTo>
                    <a:lnTo>
                      <a:pt x="107" y="173"/>
                    </a:lnTo>
                    <a:lnTo>
                      <a:pt x="107" y="172"/>
                    </a:lnTo>
                    <a:lnTo>
                      <a:pt x="109" y="172"/>
                    </a:lnTo>
                    <a:lnTo>
                      <a:pt x="110" y="170"/>
                    </a:lnTo>
                    <a:lnTo>
                      <a:pt x="110" y="168"/>
                    </a:lnTo>
                    <a:lnTo>
                      <a:pt x="112" y="168"/>
                    </a:lnTo>
                    <a:lnTo>
                      <a:pt x="114" y="166"/>
                    </a:lnTo>
                    <a:lnTo>
                      <a:pt x="116" y="164"/>
                    </a:lnTo>
                    <a:lnTo>
                      <a:pt x="116" y="162"/>
                    </a:lnTo>
                    <a:lnTo>
                      <a:pt x="118" y="162"/>
                    </a:lnTo>
                    <a:lnTo>
                      <a:pt x="120" y="160"/>
                    </a:lnTo>
                    <a:lnTo>
                      <a:pt x="120" y="158"/>
                    </a:lnTo>
                    <a:lnTo>
                      <a:pt x="122" y="158"/>
                    </a:lnTo>
                    <a:lnTo>
                      <a:pt x="122" y="156"/>
                    </a:lnTo>
                    <a:lnTo>
                      <a:pt x="124" y="156"/>
                    </a:lnTo>
                    <a:lnTo>
                      <a:pt x="126" y="154"/>
                    </a:lnTo>
                    <a:lnTo>
                      <a:pt x="126" y="152"/>
                    </a:lnTo>
                    <a:lnTo>
                      <a:pt x="128" y="152"/>
                    </a:lnTo>
                    <a:lnTo>
                      <a:pt x="130" y="151"/>
                    </a:lnTo>
                    <a:lnTo>
                      <a:pt x="130" y="149"/>
                    </a:lnTo>
                    <a:lnTo>
                      <a:pt x="132" y="149"/>
                    </a:lnTo>
                    <a:lnTo>
                      <a:pt x="132" y="147"/>
                    </a:lnTo>
                    <a:lnTo>
                      <a:pt x="134" y="147"/>
                    </a:lnTo>
                    <a:lnTo>
                      <a:pt x="136" y="145"/>
                    </a:lnTo>
                    <a:lnTo>
                      <a:pt x="136" y="143"/>
                    </a:lnTo>
                    <a:lnTo>
                      <a:pt x="138" y="143"/>
                    </a:lnTo>
                    <a:lnTo>
                      <a:pt x="140" y="141"/>
                    </a:lnTo>
                    <a:lnTo>
                      <a:pt x="142" y="139"/>
                    </a:lnTo>
                    <a:lnTo>
                      <a:pt x="142" y="0"/>
                    </a:lnTo>
                    <a:lnTo>
                      <a:pt x="214" y="0"/>
                    </a:lnTo>
                    <a:lnTo>
                      <a:pt x="214" y="78"/>
                    </a:lnTo>
                    <a:lnTo>
                      <a:pt x="501" y="78"/>
                    </a:lnTo>
                    <a:lnTo>
                      <a:pt x="501" y="0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31800" y="4826160"/>
                <a:ext cx="259200" cy="181440"/>
              </a:xfrm>
              <a:custGeom>
                <a:avLst/>
                <a:gdLst/>
                <a:ahLst/>
                <a:rect l="0" t="0" r="r" b="b"/>
                <a:pathLst>
                  <a:path fill="none" w="720" h="504">
                    <a:moveTo>
                      <a:pt x="575" y="0"/>
                    </a:moveTo>
                    <a:lnTo>
                      <a:pt x="504" y="0"/>
                    </a:lnTo>
                    <a:lnTo>
                      <a:pt x="504" y="80"/>
                    </a:lnTo>
                    <a:lnTo>
                      <a:pt x="216" y="80"/>
                    </a:lnTo>
                    <a:lnTo>
                      <a:pt x="216" y="0"/>
                    </a:lnTo>
                    <a:lnTo>
                      <a:pt x="142" y="0"/>
                    </a:lnTo>
                    <a:lnTo>
                      <a:pt x="142" y="144"/>
                    </a:lnTo>
                    <a:lnTo>
                      <a:pt x="0" y="287"/>
                    </a:lnTo>
                    <a:lnTo>
                      <a:pt x="0" y="504"/>
                    </a:lnTo>
                    <a:lnTo>
                      <a:pt x="720" y="504"/>
                    </a:lnTo>
                    <a:lnTo>
                      <a:pt x="720" y="287"/>
                    </a:lnTo>
                    <a:lnTo>
                      <a:pt x="575" y="144"/>
                    </a:lnTo>
                    <a:lnTo>
                      <a:pt x="57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9848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64772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9552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9848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4772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9552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61960" y="441000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110" y="266"/>
                    </a:moveTo>
                    <a:lnTo>
                      <a:pt x="29" y="195"/>
                    </a:lnTo>
                    <a:lnTo>
                      <a:pt x="0" y="103"/>
                    </a:lnTo>
                    <a:lnTo>
                      <a:pt x="81" y="16"/>
                    </a:lnTo>
                    <a:lnTo>
                      <a:pt x="162" y="0"/>
                    </a:lnTo>
                    <a:lnTo>
                      <a:pt x="222" y="23"/>
                    </a:lnTo>
                    <a:lnTo>
                      <a:pt x="280" y="9"/>
                    </a:lnTo>
                    <a:lnTo>
                      <a:pt x="347" y="90"/>
                    </a:lnTo>
                    <a:lnTo>
                      <a:pt x="376" y="187"/>
                    </a:lnTo>
                    <a:lnTo>
                      <a:pt x="303" y="296"/>
                    </a:lnTo>
                    <a:lnTo>
                      <a:pt x="110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7446960" y="4243320"/>
            <a:ext cx="849600" cy="1835640"/>
            <a:chOff x="7446960" y="4243320"/>
            <a:chExt cx="849600" cy="1835640"/>
          </a:xfrm>
        </p:grpSpPr>
        <p:grpSp>
          <p:nvGrpSpPr>
            <p:cNvPr id="372" name=""/>
            <p:cNvGrpSpPr/>
            <p:nvPr/>
          </p:nvGrpSpPr>
          <p:grpSpPr>
            <a:xfrm>
              <a:off x="7856640" y="4243320"/>
              <a:ext cx="213120" cy="333720"/>
              <a:chOff x="7856640" y="4243320"/>
              <a:chExt cx="213120" cy="3337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7861320" y="4260960"/>
                <a:ext cx="203400" cy="316080"/>
                <a:chOff x="7861320" y="4260960"/>
                <a:chExt cx="203400" cy="316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861320" y="4260960"/>
                  <a:ext cx="203400" cy="313200"/>
                </a:xfrm>
                <a:custGeom>
                  <a:avLst/>
                  <a:gdLst/>
                  <a:ahLst/>
                  <a:rect l="0" t="0" r="r" b="b"/>
                  <a:pathLst>
                    <a:path w="565" h="870">
                      <a:moveTo>
                        <a:pt x="78" y="63"/>
                      </a:moveTo>
                      <a:lnTo>
                        <a:pt x="120" y="32"/>
                      </a:lnTo>
                      <a:lnTo>
                        <a:pt x="175" y="11"/>
                      </a:lnTo>
                      <a:lnTo>
                        <a:pt x="238" y="0"/>
                      </a:lnTo>
                      <a:lnTo>
                        <a:pt x="296" y="0"/>
                      </a:lnTo>
                      <a:lnTo>
                        <a:pt x="360" y="5"/>
                      </a:lnTo>
                      <a:lnTo>
                        <a:pt x="418" y="19"/>
                      </a:lnTo>
                      <a:lnTo>
                        <a:pt x="463" y="44"/>
                      </a:lnTo>
                      <a:lnTo>
                        <a:pt x="490" y="74"/>
                      </a:lnTo>
                      <a:lnTo>
                        <a:pt x="507" y="105"/>
                      </a:lnTo>
                      <a:lnTo>
                        <a:pt x="520" y="134"/>
                      </a:lnTo>
                      <a:lnTo>
                        <a:pt x="530" y="180"/>
                      </a:lnTo>
                      <a:lnTo>
                        <a:pt x="532" y="228"/>
                      </a:lnTo>
                      <a:lnTo>
                        <a:pt x="532" y="263"/>
                      </a:lnTo>
                      <a:lnTo>
                        <a:pt x="532" y="296"/>
                      </a:lnTo>
                      <a:lnTo>
                        <a:pt x="532" y="342"/>
                      </a:lnTo>
                      <a:lnTo>
                        <a:pt x="549" y="333"/>
                      </a:lnTo>
                      <a:lnTo>
                        <a:pt x="565" y="347"/>
                      </a:lnTo>
                      <a:lnTo>
                        <a:pt x="565" y="399"/>
                      </a:lnTo>
                      <a:lnTo>
                        <a:pt x="551" y="453"/>
                      </a:lnTo>
                      <a:lnTo>
                        <a:pt x="541" y="504"/>
                      </a:lnTo>
                      <a:lnTo>
                        <a:pt x="537" y="528"/>
                      </a:lnTo>
                      <a:lnTo>
                        <a:pt x="519" y="537"/>
                      </a:lnTo>
                      <a:lnTo>
                        <a:pt x="505" y="520"/>
                      </a:lnTo>
                      <a:lnTo>
                        <a:pt x="502" y="572"/>
                      </a:lnTo>
                      <a:lnTo>
                        <a:pt x="495" y="627"/>
                      </a:lnTo>
                      <a:lnTo>
                        <a:pt x="489" y="664"/>
                      </a:lnTo>
                      <a:lnTo>
                        <a:pt x="477" y="762"/>
                      </a:lnTo>
                      <a:lnTo>
                        <a:pt x="326" y="870"/>
                      </a:lnTo>
                      <a:lnTo>
                        <a:pt x="108" y="764"/>
                      </a:lnTo>
                      <a:lnTo>
                        <a:pt x="105" y="680"/>
                      </a:lnTo>
                      <a:lnTo>
                        <a:pt x="85" y="579"/>
                      </a:lnTo>
                      <a:lnTo>
                        <a:pt x="78" y="525"/>
                      </a:lnTo>
                      <a:lnTo>
                        <a:pt x="66" y="537"/>
                      </a:lnTo>
                      <a:lnTo>
                        <a:pt x="43" y="537"/>
                      </a:lnTo>
                      <a:lnTo>
                        <a:pt x="21" y="441"/>
                      </a:lnTo>
                      <a:lnTo>
                        <a:pt x="0" y="368"/>
                      </a:lnTo>
                      <a:lnTo>
                        <a:pt x="3" y="354"/>
                      </a:lnTo>
                      <a:lnTo>
                        <a:pt x="27" y="350"/>
                      </a:lnTo>
                      <a:lnTo>
                        <a:pt x="24" y="312"/>
                      </a:lnTo>
                      <a:lnTo>
                        <a:pt x="23" y="252"/>
                      </a:lnTo>
                      <a:lnTo>
                        <a:pt x="24" y="208"/>
                      </a:lnTo>
                      <a:lnTo>
                        <a:pt x="34" y="159"/>
                      </a:lnTo>
                      <a:lnTo>
                        <a:pt x="55" y="98"/>
                      </a:lnTo>
                      <a:lnTo>
                        <a:pt x="78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61320" y="4265640"/>
                  <a:ext cx="127440" cy="311400"/>
                </a:xfrm>
                <a:custGeom>
                  <a:avLst/>
                  <a:gdLst/>
                  <a:ahLst/>
                  <a:rect l="0" t="0" r="r" b="b"/>
                  <a:pathLst>
                    <a:path w="354" h="865">
                      <a:moveTo>
                        <a:pt x="226" y="105"/>
                      </a:moveTo>
                      <a:lnTo>
                        <a:pt x="188" y="302"/>
                      </a:lnTo>
                      <a:lnTo>
                        <a:pt x="175" y="315"/>
                      </a:lnTo>
                      <a:lnTo>
                        <a:pt x="226" y="317"/>
                      </a:lnTo>
                      <a:lnTo>
                        <a:pt x="276" y="338"/>
                      </a:lnTo>
                      <a:lnTo>
                        <a:pt x="306" y="341"/>
                      </a:lnTo>
                      <a:lnTo>
                        <a:pt x="297" y="519"/>
                      </a:lnTo>
                      <a:lnTo>
                        <a:pt x="354" y="515"/>
                      </a:lnTo>
                      <a:lnTo>
                        <a:pt x="306" y="564"/>
                      </a:lnTo>
                      <a:lnTo>
                        <a:pt x="263" y="529"/>
                      </a:lnTo>
                      <a:lnTo>
                        <a:pt x="237" y="529"/>
                      </a:lnTo>
                      <a:lnTo>
                        <a:pt x="263" y="496"/>
                      </a:lnTo>
                      <a:lnTo>
                        <a:pt x="263" y="401"/>
                      </a:lnTo>
                      <a:lnTo>
                        <a:pt x="146" y="416"/>
                      </a:lnTo>
                      <a:lnTo>
                        <a:pt x="133" y="515"/>
                      </a:lnTo>
                      <a:lnTo>
                        <a:pt x="154" y="580"/>
                      </a:lnTo>
                      <a:lnTo>
                        <a:pt x="227" y="747"/>
                      </a:lnTo>
                      <a:lnTo>
                        <a:pt x="349" y="730"/>
                      </a:lnTo>
                      <a:lnTo>
                        <a:pt x="310" y="865"/>
                      </a:lnTo>
                      <a:lnTo>
                        <a:pt x="109" y="751"/>
                      </a:lnTo>
                      <a:lnTo>
                        <a:pt x="98" y="642"/>
                      </a:lnTo>
                      <a:lnTo>
                        <a:pt x="76" y="510"/>
                      </a:lnTo>
                      <a:lnTo>
                        <a:pt x="62" y="522"/>
                      </a:lnTo>
                      <a:lnTo>
                        <a:pt x="43" y="519"/>
                      </a:lnTo>
                      <a:lnTo>
                        <a:pt x="0" y="353"/>
                      </a:lnTo>
                      <a:lnTo>
                        <a:pt x="3" y="336"/>
                      </a:lnTo>
                      <a:lnTo>
                        <a:pt x="24" y="332"/>
                      </a:lnTo>
                      <a:lnTo>
                        <a:pt x="24" y="278"/>
                      </a:lnTo>
                      <a:lnTo>
                        <a:pt x="20" y="239"/>
                      </a:lnTo>
                      <a:lnTo>
                        <a:pt x="24" y="203"/>
                      </a:lnTo>
                      <a:lnTo>
                        <a:pt x="30" y="164"/>
                      </a:lnTo>
                      <a:lnTo>
                        <a:pt x="41" y="119"/>
                      </a:lnTo>
                      <a:lnTo>
                        <a:pt x="55" y="84"/>
                      </a:lnTo>
                      <a:lnTo>
                        <a:pt x="78" y="48"/>
                      </a:lnTo>
                      <a:lnTo>
                        <a:pt x="121" y="18"/>
                      </a:lnTo>
                      <a:lnTo>
                        <a:pt x="167" y="0"/>
                      </a:lnTo>
                      <a:lnTo>
                        <a:pt x="158" y="26"/>
                      </a:lnTo>
                      <a:lnTo>
                        <a:pt x="149" y="53"/>
                      </a:lnTo>
                      <a:lnTo>
                        <a:pt x="151" y="68"/>
                      </a:lnTo>
                      <a:lnTo>
                        <a:pt x="166" y="81"/>
                      </a:lnTo>
                      <a:lnTo>
                        <a:pt x="179" y="93"/>
                      </a:lnTo>
                      <a:lnTo>
                        <a:pt x="200" y="102"/>
                      </a:lnTo>
                      <a:lnTo>
                        <a:pt x="226" y="105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7856640" y="424332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42" y="517"/>
                    </a:moveTo>
                    <a:lnTo>
                      <a:pt x="0" y="392"/>
                    </a:lnTo>
                    <a:lnTo>
                      <a:pt x="5" y="251"/>
                    </a:lnTo>
                    <a:lnTo>
                      <a:pt x="18" y="161"/>
                    </a:lnTo>
                    <a:lnTo>
                      <a:pt x="42" y="116"/>
                    </a:lnTo>
                    <a:lnTo>
                      <a:pt x="69" y="80"/>
                    </a:lnTo>
                    <a:lnTo>
                      <a:pt x="118" y="41"/>
                    </a:lnTo>
                    <a:lnTo>
                      <a:pt x="194" y="20"/>
                    </a:lnTo>
                    <a:lnTo>
                      <a:pt x="280" y="0"/>
                    </a:lnTo>
                    <a:lnTo>
                      <a:pt x="370" y="13"/>
                    </a:lnTo>
                    <a:lnTo>
                      <a:pt x="440" y="33"/>
                    </a:lnTo>
                    <a:lnTo>
                      <a:pt x="480" y="50"/>
                    </a:lnTo>
                    <a:lnTo>
                      <a:pt x="526" y="71"/>
                    </a:lnTo>
                    <a:lnTo>
                      <a:pt x="544" y="99"/>
                    </a:lnTo>
                    <a:lnTo>
                      <a:pt x="565" y="147"/>
                    </a:lnTo>
                    <a:lnTo>
                      <a:pt x="587" y="233"/>
                    </a:lnTo>
                    <a:lnTo>
                      <a:pt x="592" y="309"/>
                    </a:lnTo>
                    <a:lnTo>
                      <a:pt x="592" y="377"/>
                    </a:lnTo>
                    <a:lnTo>
                      <a:pt x="592" y="408"/>
                    </a:lnTo>
                    <a:lnTo>
                      <a:pt x="571" y="476"/>
                    </a:lnTo>
                    <a:lnTo>
                      <a:pt x="581" y="395"/>
                    </a:lnTo>
                    <a:lnTo>
                      <a:pt x="541" y="413"/>
                    </a:lnTo>
                    <a:lnTo>
                      <a:pt x="526" y="459"/>
                    </a:lnTo>
                    <a:lnTo>
                      <a:pt x="517" y="416"/>
                    </a:lnTo>
                    <a:lnTo>
                      <a:pt x="526" y="356"/>
                    </a:lnTo>
                    <a:lnTo>
                      <a:pt x="487" y="272"/>
                    </a:lnTo>
                    <a:lnTo>
                      <a:pt x="504" y="228"/>
                    </a:lnTo>
                    <a:lnTo>
                      <a:pt x="450" y="245"/>
                    </a:lnTo>
                    <a:lnTo>
                      <a:pt x="398" y="263"/>
                    </a:lnTo>
                    <a:lnTo>
                      <a:pt x="346" y="257"/>
                    </a:lnTo>
                    <a:lnTo>
                      <a:pt x="301" y="245"/>
                    </a:lnTo>
                    <a:lnTo>
                      <a:pt x="264" y="240"/>
                    </a:lnTo>
                    <a:lnTo>
                      <a:pt x="295" y="263"/>
                    </a:lnTo>
                    <a:lnTo>
                      <a:pt x="271" y="263"/>
                    </a:lnTo>
                    <a:lnTo>
                      <a:pt x="204" y="258"/>
                    </a:lnTo>
                    <a:lnTo>
                      <a:pt x="155" y="236"/>
                    </a:lnTo>
                    <a:lnTo>
                      <a:pt x="117" y="221"/>
                    </a:lnTo>
                    <a:lnTo>
                      <a:pt x="121" y="251"/>
                    </a:lnTo>
                    <a:lnTo>
                      <a:pt x="109" y="302"/>
                    </a:lnTo>
                    <a:lnTo>
                      <a:pt x="93" y="344"/>
                    </a:lnTo>
                    <a:lnTo>
                      <a:pt x="87" y="377"/>
                    </a:lnTo>
                    <a:lnTo>
                      <a:pt x="84" y="416"/>
                    </a:lnTo>
                    <a:lnTo>
                      <a:pt x="84" y="450"/>
                    </a:lnTo>
                    <a:lnTo>
                      <a:pt x="63" y="416"/>
                    </a:lnTo>
                    <a:lnTo>
                      <a:pt x="39" y="410"/>
                    </a:lnTo>
                    <a:lnTo>
                      <a:pt x="21" y="436"/>
                    </a:lnTo>
                    <a:lnTo>
                      <a:pt x="42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702560" y="5919840"/>
              <a:ext cx="582840" cy="159120"/>
              <a:chOff x="7702560" y="5919840"/>
              <a:chExt cx="582840" cy="159120"/>
            </a:xfrm>
          </p:grpSpPr>
          <p:sp>
            <p:nvSpPr>
              <p:cNvPr id="378" name=""/>
              <p:cNvSpPr/>
              <p:nvPr/>
            </p:nvSpPr>
            <p:spPr>
              <a:xfrm>
                <a:off x="7702560" y="591984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22" y="97"/>
                    </a:moveTo>
                    <a:lnTo>
                      <a:pt x="209" y="210"/>
                    </a:lnTo>
                    <a:lnTo>
                      <a:pt x="127" y="270"/>
                    </a:lnTo>
                    <a:lnTo>
                      <a:pt x="0" y="320"/>
                    </a:lnTo>
                    <a:lnTo>
                      <a:pt x="0" y="402"/>
                    </a:lnTo>
                    <a:lnTo>
                      <a:pt x="113" y="442"/>
                    </a:lnTo>
                    <a:lnTo>
                      <a:pt x="292" y="442"/>
                    </a:lnTo>
                    <a:lnTo>
                      <a:pt x="426" y="375"/>
                    </a:lnTo>
                    <a:lnTo>
                      <a:pt x="492" y="314"/>
                    </a:lnTo>
                    <a:lnTo>
                      <a:pt x="676" y="261"/>
                    </a:lnTo>
                    <a:lnTo>
                      <a:pt x="676" y="105"/>
                    </a:lnTo>
                    <a:lnTo>
                      <a:pt x="653" y="0"/>
                    </a:lnTo>
                    <a:lnTo>
                      <a:pt x="32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021520" y="5925960"/>
                <a:ext cx="263880" cy="141480"/>
              </a:xfrm>
              <a:custGeom>
                <a:avLst/>
                <a:gdLst/>
                <a:ahLst/>
                <a:rect l="0" t="0" r="r" b="b"/>
                <a:pathLst>
                  <a:path w="733" h="393">
                    <a:moveTo>
                      <a:pt x="6" y="17"/>
                    </a:moveTo>
                    <a:lnTo>
                      <a:pt x="0" y="234"/>
                    </a:lnTo>
                    <a:lnTo>
                      <a:pt x="169" y="272"/>
                    </a:lnTo>
                    <a:lnTo>
                      <a:pt x="267" y="317"/>
                    </a:lnTo>
                    <a:lnTo>
                      <a:pt x="440" y="363"/>
                    </a:lnTo>
                    <a:lnTo>
                      <a:pt x="567" y="393"/>
                    </a:lnTo>
                    <a:lnTo>
                      <a:pt x="709" y="371"/>
                    </a:lnTo>
                    <a:lnTo>
                      <a:pt x="733" y="272"/>
                    </a:lnTo>
                    <a:lnTo>
                      <a:pt x="530" y="158"/>
                    </a:lnTo>
                    <a:lnTo>
                      <a:pt x="381" y="68"/>
                    </a:lnTo>
                    <a:lnTo>
                      <a:pt x="304" y="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881840" y="4527720"/>
              <a:ext cx="171720" cy="481320"/>
            </a:xfrm>
            <a:custGeom>
              <a:avLst/>
              <a:gdLst/>
              <a:ahLst/>
              <a:rect l="0" t="0" r="r" b="b"/>
              <a:pathLst>
                <a:path w="477" h="1337">
                  <a:moveTo>
                    <a:pt x="281" y="1337"/>
                  </a:moveTo>
                  <a:lnTo>
                    <a:pt x="0" y="84"/>
                  </a:lnTo>
                  <a:lnTo>
                    <a:pt x="53" y="11"/>
                  </a:lnTo>
                  <a:lnTo>
                    <a:pt x="241" y="113"/>
                  </a:lnTo>
                  <a:lnTo>
                    <a:pt x="422" y="0"/>
                  </a:lnTo>
                  <a:lnTo>
                    <a:pt x="477" y="69"/>
                  </a:lnTo>
                  <a:lnTo>
                    <a:pt x="281" y="1337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47000" y="4567320"/>
              <a:ext cx="62280" cy="430560"/>
            </a:xfrm>
            <a:custGeom>
              <a:avLst/>
              <a:gdLst/>
              <a:ahLst/>
              <a:rect l="0" t="0" r="r" b="b"/>
              <a:pathLst>
                <a:path w="173" h="1196">
                  <a:moveTo>
                    <a:pt x="52" y="0"/>
                  </a:moveTo>
                  <a:lnTo>
                    <a:pt x="70" y="0"/>
                  </a:lnTo>
                  <a:lnTo>
                    <a:pt x="128" y="86"/>
                  </a:lnTo>
                  <a:lnTo>
                    <a:pt x="94" y="150"/>
                  </a:lnTo>
                  <a:lnTo>
                    <a:pt x="141" y="306"/>
                  </a:lnTo>
                  <a:lnTo>
                    <a:pt x="170" y="450"/>
                  </a:lnTo>
                  <a:lnTo>
                    <a:pt x="173" y="622"/>
                  </a:lnTo>
                  <a:lnTo>
                    <a:pt x="156" y="978"/>
                  </a:lnTo>
                  <a:lnTo>
                    <a:pt x="149" y="1192"/>
                  </a:lnTo>
                  <a:lnTo>
                    <a:pt x="52" y="1196"/>
                  </a:lnTo>
                  <a:lnTo>
                    <a:pt x="32" y="973"/>
                  </a:lnTo>
                  <a:lnTo>
                    <a:pt x="3" y="622"/>
                  </a:lnTo>
                  <a:lnTo>
                    <a:pt x="3" y="454"/>
                  </a:lnTo>
                  <a:lnTo>
                    <a:pt x="17" y="309"/>
                  </a:lnTo>
                  <a:lnTo>
                    <a:pt x="45" y="154"/>
                  </a:lnTo>
                  <a:lnTo>
                    <a:pt x="0" y="10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46960" y="447192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214" y="230"/>
                  </a:moveTo>
                  <a:lnTo>
                    <a:pt x="827" y="381"/>
                  </a:lnTo>
                  <a:lnTo>
                    <a:pt x="381" y="574"/>
                  </a:lnTo>
                  <a:lnTo>
                    <a:pt x="827" y="127"/>
                  </a:lnTo>
                  <a:lnTo>
                    <a:pt x="636" y="0"/>
                  </a:lnTo>
                  <a:lnTo>
                    <a:pt x="62" y="574"/>
                  </a:lnTo>
                  <a:lnTo>
                    <a:pt x="0" y="828"/>
                  </a:lnTo>
                  <a:lnTo>
                    <a:pt x="190" y="893"/>
                  </a:lnTo>
                  <a:lnTo>
                    <a:pt x="955" y="765"/>
                  </a:lnTo>
                  <a:lnTo>
                    <a:pt x="1000" y="1548"/>
                  </a:lnTo>
                  <a:lnTo>
                    <a:pt x="971" y="2173"/>
                  </a:lnTo>
                  <a:lnTo>
                    <a:pt x="1075" y="2187"/>
                  </a:lnTo>
                  <a:lnTo>
                    <a:pt x="1059" y="2992"/>
                  </a:lnTo>
                  <a:lnTo>
                    <a:pt x="1030" y="4127"/>
                  </a:lnTo>
                  <a:lnTo>
                    <a:pt x="1182" y="4159"/>
                  </a:lnTo>
                  <a:lnTo>
                    <a:pt x="1365" y="4084"/>
                  </a:lnTo>
                  <a:lnTo>
                    <a:pt x="1508" y="2216"/>
                  </a:lnTo>
                  <a:lnTo>
                    <a:pt x="1563" y="3277"/>
                  </a:lnTo>
                  <a:lnTo>
                    <a:pt x="1599" y="4090"/>
                  </a:lnTo>
                  <a:lnTo>
                    <a:pt x="1803" y="4159"/>
                  </a:lnTo>
                  <a:lnTo>
                    <a:pt x="1967" y="4145"/>
                  </a:lnTo>
                  <a:lnTo>
                    <a:pt x="1909" y="2655"/>
                  </a:lnTo>
                  <a:lnTo>
                    <a:pt x="1935" y="2173"/>
                  </a:lnTo>
                  <a:lnTo>
                    <a:pt x="1996" y="2142"/>
                  </a:lnTo>
                  <a:lnTo>
                    <a:pt x="2041" y="1971"/>
                  </a:lnTo>
                  <a:lnTo>
                    <a:pt x="2057" y="1832"/>
                  </a:lnTo>
                  <a:lnTo>
                    <a:pt x="2360" y="1481"/>
                  </a:lnTo>
                  <a:lnTo>
                    <a:pt x="2088" y="407"/>
                  </a:lnTo>
                  <a:lnTo>
                    <a:pt x="1677" y="210"/>
                  </a:lnTo>
                  <a:lnTo>
                    <a:pt x="1489" y="1456"/>
                  </a:lnTo>
                  <a:lnTo>
                    <a:pt x="1214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978680" y="5033880"/>
              <a:ext cx="23760" cy="74880"/>
              <a:chOff x="7978680" y="5033880"/>
              <a:chExt cx="23760" cy="74880"/>
            </a:xfrm>
          </p:grpSpPr>
          <p:sp>
            <p:nvSpPr>
              <p:cNvPr id="384" name=""/>
              <p:cNvSpPr/>
              <p:nvPr/>
            </p:nvSpPr>
            <p:spPr>
              <a:xfrm>
                <a:off x="7978680" y="5033880"/>
                <a:ext cx="23760" cy="2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78680" y="5083200"/>
                <a:ext cx="2376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486560" y="4311720"/>
              <a:ext cx="356040" cy="695880"/>
              <a:chOff x="7486560" y="4311720"/>
              <a:chExt cx="356040" cy="695880"/>
            </a:xfrm>
          </p:grpSpPr>
          <p:sp>
            <p:nvSpPr>
              <p:cNvPr id="387" name=""/>
              <p:cNvSpPr/>
              <p:nvPr/>
            </p:nvSpPr>
            <p:spPr>
              <a:xfrm>
                <a:off x="7707240" y="4578480"/>
                <a:ext cx="103680" cy="333720"/>
              </a:xfrm>
              <a:custGeom>
                <a:avLst/>
                <a:gdLst/>
                <a:ahLst/>
                <a:rect l="0" t="0" r="r" b="b"/>
                <a:pathLst>
                  <a:path w="288" h="927">
                    <a:moveTo>
                      <a:pt x="191" y="0"/>
                    </a:moveTo>
                    <a:lnTo>
                      <a:pt x="112" y="122"/>
                    </a:lnTo>
                    <a:lnTo>
                      <a:pt x="223" y="230"/>
                    </a:lnTo>
                    <a:lnTo>
                      <a:pt x="91" y="354"/>
                    </a:lnTo>
                    <a:lnTo>
                      <a:pt x="241" y="507"/>
                    </a:lnTo>
                    <a:lnTo>
                      <a:pt x="68" y="661"/>
                    </a:lnTo>
                    <a:lnTo>
                      <a:pt x="161" y="779"/>
                    </a:lnTo>
                    <a:lnTo>
                      <a:pt x="0" y="901"/>
                    </a:lnTo>
                    <a:lnTo>
                      <a:pt x="25" y="927"/>
                    </a:lnTo>
                    <a:lnTo>
                      <a:pt x="205" y="787"/>
                    </a:lnTo>
                    <a:lnTo>
                      <a:pt x="116" y="670"/>
                    </a:lnTo>
                    <a:lnTo>
                      <a:pt x="288" y="517"/>
                    </a:lnTo>
                    <a:lnTo>
                      <a:pt x="134" y="354"/>
                    </a:lnTo>
                    <a:lnTo>
                      <a:pt x="270" y="240"/>
                    </a:lnTo>
                    <a:lnTo>
                      <a:pt x="148" y="122"/>
                    </a:lnTo>
                    <a:lnTo>
                      <a:pt x="217" y="1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63040" y="4311720"/>
                <a:ext cx="79560" cy="294120"/>
              </a:xfrm>
              <a:custGeom>
                <a:avLst/>
                <a:gdLst/>
                <a:ahLst/>
                <a:rect l="0" t="0" r="r" b="b"/>
                <a:pathLst>
                  <a:path w="221" h="817">
                    <a:moveTo>
                      <a:pt x="221" y="631"/>
                    </a:moveTo>
                    <a:lnTo>
                      <a:pt x="221" y="817"/>
                    </a:lnTo>
                    <a:lnTo>
                      <a:pt x="94" y="817"/>
                    </a:lnTo>
                    <a:lnTo>
                      <a:pt x="0" y="754"/>
                    </a:lnTo>
                    <a:lnTo>
                      <a:pt x="0" y="62"/>
                    </a:lnTo>
                    <a:lnTo>
                      <a:pt x="94" y="0"/>
                    </a:lnTo>
                    <a:lnTo>
                      <a:pt x="221" y="0"/>
                    </a:lnTo>
                    <a:lnTo>
                      <a:pt x="221" y="188"/>
                    </a:lnTo>
                    <a:lnTo>
                      <a:pt x="126" y="188"/>
                    </a:lnTo>
                    <a:lnTo>
                      <a:pt x="94" y="205"/>
                    </a:lnTo>
                    <a:lnTo>
                      <a:pt x="94" y="615"/>
                    </a:lnTo>
                    <a:lnTo>
                      <a:pt x="126" y="631"/>
                    </a:lnTo>
                    <a:lnTo>
                      <a:pt x="221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86560" y="4826160"/>
                <a:ext cx="257400" cy="176400"/>
              </a:xfrm>
              <a:custGeom>
                <a:avLst/>
                <a:gdLst/>
                <a:ahLst/>
                <a:rect l="0" t="0" r="r" b="b"/>
                <a:pathLst>
                  <a:path w="715" h="490">
                    <a:moveTo>
                      <a:pt x="144" y="0"/>
                    </a:moveTo>
                    <a:lnTo>
                      <a:pt x="144" y="139"/>
                    </a:lnTo>
                    <a:lnTo>
                      <a:pt x="142" y="139"/>
                    </a:lnTo>
                    <a:lnTo>
                      <a:pt x="142" y="141"/>
                    </a:lnTo>
                    <a:lnTo>
                      <a:pt x="140" y="141"/>
                    </a:lnTo>
                    <a:lnTo>
                      <a:pt x="140" y="143"/>
                    </a:lnTo>
                    <a:lnTo>
                      <a:pt x="138" y="143"/>
                    </a:lnTo>
                    <a:lnTo>
                      <a:pt x="138" y="145"/>
                    </a:lnTo>
                    <a:lnTo>
                      <a:pt x="136" y="145"/>
                    </a:lnTo>
                    <a:lnTo>
                      <a:pt x="136" y="147"/>
                    </a:lnTo>
                    <a:lnTo>
                      <a:pt x="134" y="147"/>
                    </a:lnTo>
                    <a:lnTo>
                      <a:pt x="134" y="149"/>
                    </a:lnTo>
                    <a:lnTo>
                      <a:pt x="132" y="151"/>
                    </a:lnTo>
                    <a:lnTo>
                      <a:pt x="130" y="151"/>
                    </a:lnTo>
                    <a:lnTo>
                      <a:pt x="130" y="152"/>
                    </a:lnTo>
                    <a:lnTo>
                      <a:pt x="128" y="152"/>
                    </a:lnTo>
                    <a:lnTo>
                      <a:pt x="128" y="154"/>
                    </a:lnTo>
                    <a:lnTo>
                      <a:pt x="126" y="154"/>
                    </a:lnTo>
                    <a:lnTo>
                      <a:pt x="126" y="156"/>
                    </a:lnTo>
                    <a:lnTo>
                      <a:pt x="124" y="156"/>
                    </a:lnTo>
                    <a:lnTo>
                      <a:pt x="124" y="158"/>
                    </a:lnTo>
                    <a:lnTo>
                      <a:pt x="122" y="160"/>
                    </a:lnTo>
                    <a:lnTo>
                      <a:pt x="120" y="160"/>
                    </a:lnTo>
                    <a:lnTo>
                      <a:pt x="120" y="162"/>
                    </a:lnTo>
                    <a:lnTo>
                      <a:pt x="118" y="162"/>
                    </a:lnTo>
                    <a:lnTo>
                      <a:pt x="118" y="164"/>
                    </a:lnTo>
                    <a:lnTo>
                      <a:pt x="116" y="164"/>
                    </a:lnTo>
                    <a:lnTo>
                      <a:pt x="116" y="166"/>
                    </a:lnTo>
                    <a:lnTo>
                      <a:pt x="114" y="166"/>
                    </a:lnTo>
                    <a:lnTo>
                      <a:pt x="114" y="168"/>
                    </a:lnTo>
                    <a:lnTo>
                      <a:pt x="112" y="168"/>
                    </a:lnTo>
                    <a:lnTo>
                      <a:pt x="112" y="170"/>
                    </a:lnTo>
                    <a:lnTo>
                      <a:pt x="110" y="170"/>
                    </a:lnTo>
                    <a:lnTo>
                      <a:pt x="110" y="172"/>
                    </a:lnTo>
                    <a:lnTo>
                      <a:pt x="109" y="172"/>
                    </a:lnTo>
                    <a:lnTo>
                      <a:pt x="109" y="173"/>
                    </a:lnTo>
                    <a:lnTo>
                      <a:pt x="107" y="173"/>
                    </a:lnTo>
                    <a:lnTo>
                      <a:pt x="107" y="175"/>
                    </a:lnTo>
                    <a:lnTo>
                      <a:pt x="105" y="175"/>
                    </a:lnTo>
                    <a:lnTo>
                      <a:pt x="105" y="177"/>
                    </a:lnTo>
                    <a:lnTo>
                      <a:pt x="103" y="177"/>
                    </a:lnTo>
                    <a:lnTo>
                      <a:pt x="103" y="179"/>
                    </a:lnTo>
                    <a:lnTo>
                      <a:pt x="101" y="179"/>
                    </a:lnTo>
                    <a:lnTo>
                      <a:pt x="101" y="181"/>
                    </a:lnTo>
                    <a:lnTo>
                      <a:pt x="99" y="181"/>
                    </a:lnTo>
                    <a:lnTo>
                      <a:pt x="99" y="183"/>
                    </a:lnTo>
                    <a:lnTo>
                      <a:pt x="97" y="185"/>
                    </a:lnTo>
                    <a:lnTo>
                      <a:pt x="95" y="185"/>
                    </a:lnTo>
                    <a:lnTo>
                      <a:pt x="95" y="187"/>
                    </a:lnTo>
                    <a:lnTo>
                      <a:pt x="93" y="187"/>
                    </a:lnTo>
                    <a:lnTo>
                      <a:pt x="93" y="189"/>
                    </a:lnTo>
                    <a:lnTo>
                      <a:pt x="91" y="189"/>
                    </a:lnTo>
                    <a:lnTo>
                      <a:pt x="91" y="191"/>
                    </a:lnTo>
                    <a:lnTo>
                      <a:pt x="89" y="191"/>
                    </a:lnTo>
                    <a:lnTo>
                      <a:pt x="87" y="193"/>
                    </a:lnTo>
                    <a:lnTo>
                      <a:pt x="87" y="195"/>
                    </a:lnTo>
                    <a:lnTo>
                      <a:pt x="85" y="195"/>
                    </a:lnTo>
                    <a:lnTo>
                      <a:pt x="85" y="196"/>
                    </a:lnTo>
                    <a:lnTo>
                      <a:pt x="83" y="196"/>
                    </a:lnTo>
                    <a:lnTo>
                      <a:pt x="83" y="198"/>
                    </a:lnTo>
                    <a:lnTo>
                      <a:pt x="81" y="198"/>
                    </a:lnTo>
                    <a:lnTo>
                      <a:pt x="81" y="200"/>
                    </a:lnTo>
                    <a:lnTo>
                      <a:pt x="79" y="200"/>
                    </a:lnTo>
                    <a:lnTo>
                      <a:pt x="79" y="202"/>
                    </a:lnTo>
                    <a:lnTo>
                      <a:pt x="77" y="202"/>
                    </a:lnTo>
                    <a:lnTo>
                      <a:pt x="77" y="204"/>
                    </a:lnTo>
                    <a:lnTo>
                      <a:pt x="75" y="204"/>
                    </a:lnTo>
                    <a:lnTo>
                      <a:pt x="75" y="206"/>
                    </a:lnTo>
                    <a:lnTo>
                      <a:pt x="73" y="206"/>
                    </a:lnTo>
                    <a:lnTo>
                      <a:pt x="73" y="208"/>
                    </a:lnTo>
                    <a:lnTo>
                      <a:pt x="72" y="208"/>
                    </a:lnTo>
                    <a:lnTo>
                      <a:pt x="72" y="210"/>
                    </a:lnTo>
                    <a:lnTo>
                      <a:pt x="70" y="210"/>
                    </a:lnTo>
                    <a:lnTo>
                      <a:pt x="70" y="212"/>
                    </a:lnTo>
                    <a:lnTo>
                      <a:pt x="68" y="212"/>
                    </a:lnTo>
                    <a:lnTo>
                      <a:pt x="68" y="214"/>
                    </a:lnTo>
                    <a:lnTo>
                      <a:pt x="66" y="214"/>
                    </a:lnTo>
                    <a:lnTo>
                      <a:pt x="66" y="216"/>
                    </a:lnTo>
                    <a:lnTo>
                      <a:pt x="64" y="216"/>
                    </a:lnTo>
                    <a:lnTo>
                      <a:pt x="62" y="217"/>
                    </a:lnTo>
                    <a:lnTo>
                      <a:pt x="62" y="219"/>
                    </a:lnTo>
                    <a:lnTo>
                      <a:pt x="60" y="219"/>
                    </a:lnTo>
                    <a:lnTo>
                      <a:pt x="60" y="221"/>
                    </a:lnTo>
                    <a:lnTo>
                      <a:pt x="58" y="221"/>
                    </a:lnTo>
                    <a:lnTo>
                      <a:pt x="58" y="223"/>
                    </a:lnTo>
                    <a:lnTo>
                      <a:pt x="56" y="223"/>
                    </a:lnTo>
                    <a:lnTo>
                      <a:pt x="56" y="225"/>
                    </a:lnTo>
                    <a:lnTo>
                      <a:pt x="54" y="225"/>
                    </a:lnTo>
                    <a:lnTo>
                      <a:pt x="52" y="227"/>
                    </a:lnTo>
                    <a:lnTo>
                      <a:pt x="52" y="229"/>
                    </a:lnTo>
                    <a:lnTo>
                      <a:pt x="50" y="229"/>
                    </a:lnTo>
                    <a:lnTo>
                      <a:pt x="50" y="231"/>
                    </a:lnTo>
                    <a:lnTo>
                      <a:pt x="48" y="231"/>
                    </a:lnTo>
                    <a:lnTo>
                      <a:pt x="48" y="233"/>
                    </a:lnTo>
                    <a:lnTo>
                      <a:pt x="46" y="233"/>
                    </a:lnTo>
                    <a:lnTo>
                      <a:pt x="46" y="235"/>
                    </a:lnTo>
                    <a:lnTo>
                      <a:pt x="44" y="235"/>
                    </a:lnTo>
                    <a:lnTo>
                      <a:pt x="42" y="237"/>
                    </a:lnTo>
                    <a:lnTo>
                      <a:pt x="42" y="239"/>
                    </a:lnTo>
                    <a:lnTo>
                      <a:pt x="40" y="239"/>
                    </a:lnTo>
                    <a:lnTo>
                      <a:pt x="40" y="240"/>
                    </a:lnTo>
                    <a:lnTo>
                      <a:pt x="38" y="240"/>
                    </a:lnTo>
                    <a:lnTo>
                      <a:pt x="36" y="242"/>
                    </a:lnTo>
                    <a:lnTo>
                      <a:pt x="36" y="244"/>
                    </a:lnTo>
                    <a:lnTo>
                      <a:pt x="35" y="244"/>
                    </a:lnTo>
                    <a:lnTo>
                      <a:pt x="35" y="247"/>
                    </a:lnTo>
                    <a:lnTo>
                      <a:pt x="33" y="247"/>
                    </a:lnTo>
                    <a:lnTo>
                      <a:pt x="33" y="249"/>
                    </a:lnTo>
                    <a:lnTo>
                      <a:pt x="31" y="249"/>
                    </a:lnTo>
                    <a:lnTo>
                      <a:pt x="31" y="251"/>
                    </a:lnTo>
                    <a:lnTo>
                      <a:pt x="29" y="251"/>
                    </a:lnTo>
                    <a:lnTo>
                      <a:pt x="27" y="253"/>
                    </a:lnTo>
                    <a:lnTo>
                      <a:pt x="27" y="255"/>
                    </a:lnTo>
                    <a:lnTo>
                      <a:pt x="25" y="255"/>
                    </a:lnTo>
                    <a:lnTo>
                      <a:pt x="25" y="257"/>
                    </a:lnTo>
                    <a:lnTo>
                      <a:pt x="23" y="257"/>
                    </a:lnTo>
                    <a:lnTo>
                      <a:pt x="23" y="259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19" y="261"/>
                    </a:lnTo>
                    <a:lnTo>
                      <a:pt x="17" y="262"/>
                    </a:lnTo>
                    <a:lnTo>
                      <a:pt x="17" y="264"/>
                    </a:lnTo>
                    <a:lnTo>
                      <a:pt x="15" y="264"/>
                    </a:lnTo>
                    <a:lnTo>
                      <a:pt x="15" y="266"/>
                    </a:lnTo>
                    <a:lnTo>
                      <a:pt x="13" y="266"/>
                    </a:lnTo>
                    <a:lnTo>
                      <a:pt x="11" y="268"/>
                    </a:lnTo>
                    <a:lnTo>
                      <a:pt x="11" y="270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4"/>
                    </a:lnTo>
                    <a:lnTo>
                      <a:pt x="5" y="276"/>
                    </a:lnTo>
                    <a:lnTo>
                      <a:pt x="3" y="276"/>
                    </a:lnTo>
                    <a:lnTo>
                      <a:pt x="1" y="278"/>
                    </a:lnTo>
                    <a:lnTo>
                      <a:pt x="1" y="280"/>
                    </a:lnTo>
                    <a:lnTo>
                      <a:pt x="0" y="280"/>
                    </a:lnTo>
                    <a:lnTo>
                      <a:pt x="0" y="490"/>
                    </a:lnTo>
                    <a:lnTo>
                      <a:pt x="715" y="490"/>
                    </a:lnTo>
                    <a:lnTo>
                      <a:pt x="715" y="392"/>
                    </a:lnTo>
                    <a:lnTo>
                      <a:pt x="323" y="392"/>
                    </a:lnTo>
                    <a:lnTo>
                      <a:pt x="323" y="324"/>
                    </a:lnTo>
                    <a:lnTo>
                      <a:pt x="251" y="324"/>
                    </a:lnTo>
                    <a:lnTo>
                      <a:pt x="251" y="392"/>
                    </a:lnTo>
                    <a:lnTo>
                      <a:pt x="466" y="392"/>
                    </a:lnTo>
                    <a:lnTo>
                      <a:pt x="466" y="324"/>
                    </a:lnTo>
                    <a:lnTo>
                      <a:pt x="394" y="324"/>
                    </a:lnTo>
                    <a:lnTo>
                      <a:pt x="394" y="392"/>
                    </a:lnTo>
                    <a:lnTo>
                      <a:pt x="715" y="392"/>
                    </a:lnTo>
                    <a:lnTo>
                      <a:pt x="715" y="324"/>
                    </a:lnTo>
                    <a:lnTo>
                      <a:pt x="538" y="324"/>
                    </a:lnTo>
                    <a:lnTo>
                      <a:pt x="538" y="392"/>
                    </a:lnTo>
                    <a:lnTo>
                      <a:pt x="179" y="392"/>
                    </a:lnTo>
                    <a:lnTo>
                      <a:pt x="179" y="324"/>
                    </a:lnTo>
                    <a:lnTo>
                      <a:pt x="715" y="324"/>
                    </a:lnTo>
                    <a:lnTo>
                      <a:pt x="715" y="280"/>
                    </a:lnTo>
                    <a:lnTo>
                      <a:pt x="466" y="280"/>
                    </a:lnTo>
                    <a:lnTo>
                      <a:pt x="466" y="210"/>
                    </a:lnTo>
                    <a:lnTo>
                      <a:pt x="394" y="210"/>
                    </a:lnTo>
                    <a:lnTo>
                      <a:pt x="394" y="280"/>
                    </a:lnTo>
                    <a:lnTo>
                      <a:pt x="323" y="280"/>
                    </a:lnTo>
                    <a:lnTo>
                      <a:pt x="323" y="210"/>
                    </a:lnTo>
                    <a:lnTo>
                      <a:pt x="251" y="210"/>
                    </a:lnTo>
                    <a:lnTo>
                      <a:pt x="251" y="280"/>
                    </a:lnTo>
                    <a:lnTo>
                      <a:pt x="715" y="280"/>
                    </a:lnTo>
                    <a:lnTo>
                      <a:pt x="715" y="278"/>
                    </a:lnTo>
                    <a:lnTo>
                      <a:pt x="713" y="278"/>
                    </a:lnTo>
                    <a:lnTo>
                      <a:pt x="713" y="276"/>
                    </a:lnTo>
                    <a:lnTo>
                      <a:pt x="711" y="276"/>
                    </a:lnTo>
                    <a:lnTo>
                      <a:pt x="711" y="274"/>
                    </a:lnTo>
                    <a:lnTo>
                      <a:pt x="709" y="274"/>
                    </a:lnTo>
                    <a:lnTo>
                      <a:pt x="709" y="272"/>
                    </a:lnTo>
                    <a:lnTo>
                      <a:pt x="707" y="272"/>
                    </a:lnTo>
                    <a:lnTo>
                      <a:pt x="707" y="270"/>
                    </a:lnTo>
                    <a:lnTo>
                      <a:pt x="705" y="270"/>
                    </a:lnTo>
                    <a:lnTo>
                      <a:pt x="705" y="268"/>
                    </a:lnTo>
                    <a:lnTo>
                      <a:pt x="703" y="268"/>
                    </a:lnTo>
                    <a:lnTo>
                      <a:pt x="703" y="266"/>
                    </a:lnTo>
                    <a:lnTo>
                      <a:pt x="701" y="266"/>
                    </a:lnTo>
                    <a:lnTo>
                      <a:pt x="699" y="264"/>
                    </a:lnTo>
                    <a:lnTo>
                      <a:pt x="699" y="262"/>
                    </a:lnTo>
                    <a:lnTo>
                      <a:pt x="697" y="262"/>
                    </a:lnTo>
                    <a:lnTo>
                      <a:pt x="697" y="261"/>
                    </a:lnTo>
                    <a:lnTo>
                      <a:pt x="695" y="261"/>
                    </a:lnTo>
                    <a:lnTo>
                      <a:pt x="695" y="259"/>
                    </a:lnTo>
                    <a:lnTo>
                      <a:pt x="693" y="259"/>
                    </a:lnTo>
                    <a:lnTo>
                      <a:pt x="693" y="257"/>
                    </a:lnTo>
                    <a:lnTo>
                      <a:pt x="692" y="257"/>
                    </a:lnTo>
                    <a:lnTo>
                      <a:pt x="690" y="255"/>
                    </a:lnTo>
                    <a:lnTo>
                      <a:pt x="690" y="253"/>
                    </a:lnTo>
                    <a:lnTo>
                      <a:pt x="688" y="253"/>
                    </a:lnTo>
                    <a:lnTo>
                      <a:pt x="688" y="251"/>
                    </a:lnTo>
                    <a:lnTo>
                      <a:pt x="686" y="251"/>
                    </a:lnTo>
                    <a:lnTo>
                      <a:pt x="686" y="249"/>
                    </a:lnTo>
                    <a:lnTo>
                      <a:pt x="684" y="249"/>
                    </a:lnTo>
                    <a:lnTo>
                      <a:pt x="684" y="247"/>
                    </a:lnTo>
                    <a:lnTo>
                      <a:pt x="682" y="247"/>
                    </a:lnTo>
                    <a:lnTo>
                      <a:pt x="680" y="244"/>
                    </a:lnTo>
                    <a:lnTo>
                      <a:pt x="680" y="242"/>
                    </a:lnTo>
                    <a:lnTo>
                      <a:pt x="678" y="242"/>
                    </a:lnTo>
                    <a:lnTo>
                      <a:pt x="678" y="240"/>
                    </a:lnTo>
                    <a:lnTo>
                      <a:pt x="676" y="240"/>
                    </a:lnTo>
                    <a:lnTo>
                      <a:pt x="674" y="239"/>
                    </a:lnTo>
                    <a:lnTo>
                      <a:pt x="674" y="237"/>
                    </a:lnTo>
                    <a:lnTo>
                      <a:pt x="672" y="237"/>
                    </a:lnTo>
                    <a:lnTo>
                      <a:pt x="672" y="235"/>
                    </a:lnTo>
                    <a:lnTo>
                      <a:pt x="670" y="235"/>
                    </a:lnTo>
                    <a:lnTo>
                      <a:pt x="670" y="233"/>
                    </a:lnTo>
                    <a:lnTo>
                      <a:pt x="668" y="233"/>
                    </a:lnTo>
                    <a:lnTo>
                      <a:pt x="668" y="231"/>
                    </a:lnTo>
                    <a:lnTo>
                      <a:pt x="666" y="231"/>
                    </a:lnTo>
                    <a:lnTo>
                      <a:pt x="664" y="229"/>
                    </a:lnTo>
                    <a:lnTo>
                      <a:pt x="664" y="227"/>
                    </a:lnTo>
                    <a:lnTo>
                      <a:pt x="662" y="227"/>
                    </a:lnTo>
                    <a:lnTo>
                      <a:pt x="662" y="225"/>
                    </a:lnTo>
                    <a:lnTo>
                      <a:pt x="660" y="225"/>
                    </a:lnTo>
                    <a:lnTo>
                      <a:pt x="660" y="223"/>
                    </a:lnTo>
                    <a:lnTo>
                      <a:pt x="658" y="223"/>
                    </a:lnTo>
                    <a:lnTo>
                      <a:pt x="658" y="221"/>
                    </a:lnTo>
                    <a:lnTo>
                      <a:pt x="656" y="221"/>
                    </a:lnTo>
                    <a:lnTo>
                      <a:pt x="655" y="219"/>
                    </a:lnTo>
                    <a:lnTo>
                      <a:pt x="655" y="217"/>
                    </a:lnTo>
                    <a:lnTo>
                      <a:pt x="653" y="217"/>
                    </a:lnTo>
                    <a:lnTo>
                      <a:pt x="653" y="216"/>
                    </a:lnTo>
                    <a:lnTo>
                      <a:pt x="651" y="216"/>
                    </a:lnTo>
                    <a:lnTo>
                      <a:pt x="649" y="214"/>
                    </a:lnTo>
                    <a:lnTo>
                      <a:pt x="649" y="212"/>
                    </a:lnTo>
                    <a:lnTo>
                      <a:pt x="647" y="212"/>
                    </a:lnTo>
                    <a:lnTo>
                      <a:pt x="645" y="210"/>
                    </a:lnTo>
                    <a:lnTo>
                      <a:pt x="538" y="210"/>
                    </a:lnTo>
                    <a:lnTo>
                      <a:pt x="538" y="280"/>
                    </a:lnTo>
                    <a:lnTo>
                      <a:pt x="179" y="280"/>
                    </a:lnTo>
                    <a:lnTo>
                      <a:pt x="179" y="210"/>
                    </a:lnTo>
                    <a:lnTo>
                      <a:pt x="645" y="210"/>
                    </a:lnTo>
                    <a:lnTo>
                      <a:pt x="645" y="208"/>
                    </a:lnTo>
                    <a:lnTo>
                      <a:pt x="643" y="208"/>
                    </a:lnTo>
                    <a:lnTo>
                      <a:pt x="643" y="206"/>
                    </a:lnTo>
                    <a:lnTo>
                      <a:pt x="641" y="206"/>
                    </a:lnTo>
                    <a:lnTo>
                      <a:pt x="639" y="204"/>
                    </a:lnTo>
                    <a:lnTo>
                      <a:pt x="639" y="202"/>
                    </a:lnTo>
                    <a:lnTo>
                      <a:pt x="637" y="202"/>
                    </a:lnTo>
                    <a:lnTo>
                      <a:pt x="635" y="200"/>
                    </a:lnTo>
                    <a:lnTo>
                      <a:pt x="635" y="198"/>
                    </a:lnTo>
                    <a:lnTo>
                      <a:pt x="633" y="198"/>
                    </a:lnTo>
                    <a:lnTo>
                      <a:pt x="633" y="196"/>
                    </a:lnTo>
                    <a:lnTo>
                      <a:pt x="631" y="196"/>
                    </a:lnTo>
                    <a:lnTo>
                      <a:pt x="629" y="195"/>
                    </a:lnTo>
                    <a:lnTo>
                      <a:pt x="629" y="193"/>
                    </a:lnTo>
                    <a:lnTo>
                      <a:pt x="627" y="193"/>
                    </a:lnTo>
                    <a:lnTo>
                      <a:pt x="627" y="191"/>
                    </a:lnTo>
                    <a:lnTo>
                      <a:pt x="625" y="191"/>
                    </a:lnTo>
                    <a:lnTo>
                      <a:pt x="623" y="189"/>
                    </a:lnTo>
                    <a:lnTo>
                      <a:pt x="623" y="187"/>
                    </a:lnTo>
                    <a:lnTo>
                      <a:pt x="621" y="187"/>
                    </a:lnTo>
                    <a:lnTo>
                      <a:pt x="619" y="185"/>
                    </a:lnTo>
                    <a:lnTo>
                      <a:pt x="619" y="183"/>
                    </a:lnTo>
                    <a:lnTo>
                      <a:pt x="618" y="183"/>
                    </a:lnTo>
                    <a:lnTo>
                      <a:pt x="618" y="181"/>
                    </a:lnTo>
                    <a:lnTo>
                      <a:pt x="616" y="181"/>
                    </a:lnTo>
                    <a:lnTo>
                      <a:pt x="614" y="179"/>
                    </a:lnTo>
                    <a:lnTo>
                      <a:pt x="614" y="177"/>
                    </a:lnTo>
                    <a:lnTo>
                      <a:pt x="612" y="177"/>
                    </a:lnTo>
                    <a:lnTo>
                      <a:pt x="610" y="175"/>
                    </a:lnTo>
                    <a:lnTo>
                      <a:pt x="610" y="173"/>
                    </a:lnTo>
                    <a:lnTo>
                      <a:pt x="608" y="173"/>
                    </a:lnTo>
                    <a:lnTo>
                      <a:pt x="608" y="172"/>
                    </a:lnTo>
                    <a:lnTo>
                      <a:pt x="606" y="172"/>
                    </a:lnTo>
                    <a:lnTo>
                      <a:pt x="604" y="170"/>
                    </a:lnTo>
                    <a:lnTo>
                      <a:pt x="604" y="168"/>
                    </a:lnTo>
                    <a:lnTo>
                      <a:pt x="602" y="168"/>
                    </a:lnTo>
                    <a:lnTo>
                      <a:pt x="600" y="166"/>
                    </a:lnTo>
                    <a:lnTo>
                      <a:pt x="598" y="164"/>
                    </a:lnTo>
                    <a:lnTo>
                      <a:pt x="598" y="162"/>
                    </a:lnTo>
                    <a:lnTo>
                      <a:pt x="596" y="162"/>
                    </a:lnTo>
                    <a:lnTo>
                      <a:pt x="594" y="160"/>
                    </a:lnTo>
                    <a:lnTo>
                      <a:pt x="594" y="158"/>
                    </a:lnTo>
                    <a:lnTo>
                      <a:pt x="592" y="158"/>
                    </a:lnTo>
                    <a:lnTo>
                      <a:pt x="592" y="156"/>
                    </a:lnTo>
                    <a:lnTo>
                      <a:pt x="590" y="156"/>
                    </a:lnTo>
                    <a:lnTo>
                      <a:pt x="588" y="154"/>
                    </a:lnTo>
                    <a:lnTo>
                      <a:pt x="588" y="152"/>
                    </a:lnTo>
                    <a:lnTo>
                      <a:pt x="586" y="152"/>
                    </a:lnTo>
                    <a:lnTo>
                      <a:pt x="584" y="151"/>
                    </a:lnTo>
                    <a:lnTo>
                      <a:pt x="584" y="149"/>
                    </a:lnTo>
                    <a:lnTo>
                      <a:pt x="583" y="149"/>
                    </a:lnTo>
                    <a:lnTo>
                      <a:pt x="583" y="147"/>
                    </a:lnTo>
                    <a:lnTo>
                      <a:pt x="581" y="147"/>
                    </a:lnTo>
                    <a:lnTo>
                      <a:pt x="579" y="145"/>
                    </a:lnTo>
                    <a:lnTo>
                      <a:pt x="579" y="143"/>
                    </a:lnTo>
                    <a:lnTo>
                      <a:pt x="577" y="143"/>
                    </a:lnTo>
                    <a:lnTo>
                      <a:pt x="575" y="141"/>
                    </a:lnTo>
                    <a:lnTo>
                      <a:pt x="573" y="139"/>
                    </a:lnTo>
                    <a:lnTo>
                      <a:pt x="573" y="0"/>
                    </a:lnTo>
                    <a:lnTo>
                      <a:pt x="501" y="0"/>
                    </a:lnTo>
                    <a:lnTo>
                      <a:pt x="501" y="78"/>
                    </a:lnTo>
                    <a:lnTo>
                      <a:pt x="214" y="78"/>
                    </a:lnTo>
                    <a:lnTo>
                      <a:pt x="21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486560" y="4826160"/>
                <a:ext cx="260640" cy="181440"/>
              </a:xfrm>
              <a:custGeom>
                <a:avLst/>
                <a:gdLst/>
                <a:ahLst/>
                <a:rect l="0" t="0" r="r" b="b"/>
                <a:pathLst>
                  <a:path fill="none" w="724" h="504">
                    <a:moveTo>
                      <a:pt x="145" y="0"/>
                    </a:moveTo>
                    <a:lnTo>
                      <a:pt x="216" y="0"/>
                    </a:lnTo>
                    <a:lnTo>
                      <a:pt x="216" y="80"/>
                    </a:lnTo>
                    <a:lnTo>
                      <a:pt x="507" y="80"/>
                    </a:lnTo>
                    <a:lnTo>
                      <a:pt x="507" y="0"/>
                    </a:lnTo>
                    <a:lnTo>
                      <a:pt x="580" y="0"/>
                    </a:lnTo>
                    <a:lnTo>
                      <a:pt x="580" y="144"/>
                    </a:lnTo>
                    <a:lnTo>
                      <a:pt x="724" y="287"/>
                    </a:lnTo>
                    <a:lnTo>
                      <a:pt x="724" y="504"/>
                    </a:lnTo>
                    <a:lnTo>
                      <a:pt x="0" y="504"/>
                    </a:lnTo>
                    <a:lnTo>
                      <a:pt x="0" y="287"/>
                    </a:lnTo>
                    <a:lnTo>
                      <a:pt x="145" y="144"/>
                    </a:lnTo>
                    <a:lnTo>
                      <a:pt x="14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5316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0" y="0"/>
                    </a:moveTo>
                    <a:lnTo>
                      <a:pt x="0" y="76"/>
                    </a:lnTo>
                    <a:lnTo>
                      <a:pt x="72" y="76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604280" y="49006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56480" y="49006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5316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0" y="0"/>
                    </a:moveTo>
                    <a:lnTo>
                      <a:pt x="0" y="76"/>
                    </a:lnTo>
                    <a:lnTo>
                      <a:pt x="72" y="76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04280" y="494352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56480" y="494352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682040" y="441000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265" y="266"/>
                    </a:moveTo>
                    <a:lnTo>
                      <a:pt x="347" y="195"/>
                    </a:lnTo>
                    <a:lnTo>
                      <a:pt x="376" y="103"/>
                    </a:lnTo>
                    <a:lnTo>
                      <a:pt x="295" y="16"/>
                    </a:lnTo>
                    <a:lnTo>
                      <a:pt x="214" y="0"/>
                    </a:lnTo>
                    <a:lnTo>
                      <a:pt x="154" y="23"/>
                    </a:lnTo>
                    <a:lnTo>
                      <a:pt x="96" y="9"/>
                    </a:lnTo>
                    <a:lnTo>
                      <a:pt x="29" y="90"/>
                    </a:lnTo>
                    <a:lnTo>
                      <a:pt x="0" y="187"/>
                    </a:lnTo>
                    <a:lnTo>
                      <a:pt x="73" y="296"/>
                    </a:lnTo>
                    <a:lnTo>
                      <a:pt x="265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 txBox="1"/>
          <p:nvPr/>
        </p:nvSpPr>
        <p:spPr>
          <a:xfrm>
            <a:off x="7326360" y="3835440"/>
            <a:ext cx="611280" cy="40788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to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41480" y="364824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05080" y="3903840"/>
            <a:ext cx="476280" cy="33984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75120" y="4711680"/>
            <a:ext cx="901800" cy="415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81000" y="1792440"/>
            <a:ext cx="849600" cy="1835280"/>
            <a:chOff x="981000" y="1792440"/>
            <a:chExt cx="849600" cy="1835280"/>
          </a:xfrm>
        </p:grpSpPr>
        <p:grpSp>
          <p:nvGrpSpPr>
            <p:cNvPr id="403" name=""/>
            <p:cNvGrpSpPr/>
            <p:nvPr/>
          </p:nvGrpSpPr>
          <p:grpSpPr>
            <a:xfrm>
              <a:off x="1208160" y="1792440"/>
              <a:ext cx="213120" cy="333720"/>
              <a:chOff x="1208160" y="1792440"/>
              <a:chExt cx="213120" cy="3337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212840" y="1809720"/>
                <a:ext cx="203400" cy="316440"/>
                <a:chOff x="1212840" y="1809720"/>
                <a:chExt cx="203400" cy="3164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212840" y="1809720"/>
                  <a:ext cx="203400" cy="314640"/>
                </a:xfrm>
                <a:custGeom>
                  <a:avLst/>
                  <a:gdLst/>
                  <a:ahLst/>
                  <a:rect l="0" t="0" r="r" b="b"/>
                  <a:pathLst>
                    <a:path w="565" h="874">
                      <a:moveTo>
                        <a:pt x="486" y="63"/>
                      </a:moveTo>
                      <a:lnTo>
                        <a:pt x="444" y="33"/>
                      </a:lnTo>
                      <a:lnTo>
                        <a:pt x="389" y="11"/>
                      </a:lnTo>
                      <a:lnTo>
                        <a:pt x="326" y="0"/>
                      </a:lnTo>
                      <a:lnTo>
                        <a:pt x="269" y="0"/>
                      </a:lnTo>
                      <a:lnTo>
                        <a:pt x="204" y="5"/>
                      </a:lnTo>
                      <a:lnTo>
                        <a:pt x="147" y="19"/>
                      </a:lnTo>
                      <a:lnTo>
                        <a:pt x="102" y="44"/>
                      </a:lnTo>
                      <a:lnTo>
                        <a:pt x="74" y="75"/>
                      </a:lnTo>
                      <a:lnTo>
                        <a:pt x="57" y="105"/>
                      </a:lnTo>
                      <a:lnTo>
                        <a:pt x="44" y="134"/>
                      </a:lnTo>
                      <a:lnTo>
                        <a:pt x="35" y="180"/>
                      </a:lnTo>
                      <a:lnTo>
                        <a:pt x="32" y="228"/>
                      </a:lnTo>
                      <a:lnTo>
                        <a:pt x="32" y="264"/>
                      </a:lnTo>
                      <a:lnTo>
                        <a:pt x="32" y="297"/>
                      </a:lnTo>
                      <a:lnTo>
                        <a:pt x="32" y="343"/>
                      </a:lnTo>
                      <a:lnTo>
                        <a:pt x="15" y="334"/>
                      </a:lnTo>
                      <a:lnTo>
                        <a:pt x="0" y="348"/>
                      </a:lnTo>
                      <a:lnTo>
                        <a:pt x="0" y="400"/>
                      </a:lnTo>
                      <a:lnTo>
                        <a:pt x="14" y="455"/>
                      </a:lnTo>
                      <a:lnTo>
                        <a:pt x="23" y="506"/>
                      </a:lnTo>
                      <a:lnTo>
                        <a:pt x="27" y="530"/>
                      </a:lnTo>
                      <a:lnTo>
                        <a:pt x="45" y="539"/>
                      </a:lnTo>
                      <a:lnTo>
                        <a:pt x="60" y="522"/>
                      </a:lnTo>
                      <a:lnTo>
                        <a:pt x="63" y="575"/>
                      </a:lnTo>
                      <a:lnTo>
                        <a:pt x="69" y="631"/>
                      </a:lnTo>
                      <a:lnTo>
                        <a:pt x="76" y="666"/>
                      </a:lnTo>
                      <a:lnTo>
                        <a:pt x="87" y="765"/>
                      </a:lnTo>
                      <a:lnTo>
                        <a:pt x="238" y="874"/>
                      </a:lnTo>
                      <a:lnTo>
                        <a:pt x="456" y="767"/>
                      </a:lnTo>
                      <a:lnTo>
                        <a:pt x="460" y="682"/>
                      </a:lnTo>
                      <a:lnTo>
                        <a:pt x="480" y="582"/>
                      </a:lnTo>
                      <a:lnTo>
                        <a:pt x="486" y="528"/>
                      </a:lnTo>
                      <a:lnTo>
                        <a:pt x="498" y="539"/>
                      </a:lnTo>
                      <a:lnTo>
                        <a:pt x="522" y="539"/>
                      </a:lnTo>
                      <a:lnTo>
                        <a:pt x="544" y="443"/>
                      </a:lnTo>
                      <a:lnTo>
                        <a:pt x="565" y="369"/>
                      </a:lnTo>
                      <a:lnTo>
                        <a:pt x="561" y="355"/>
                      </a:lnTo>
                      <a:lnTo>
                        <a:pt x="537" y="351"/>
                      </a:lnTo>
                      <a:lnTo>
                        <a:pt x="540" y="313"/>
                      </a:lnTo>
                      <a:lnTo>
                        <a:pt x="541" y="252"/>
                      </a:lnTo>
                      <a:lnTo>
                        <a:pt x="540" y="210"/>
                      </a:lnTo>
                      <a:lnTo>
                        <a:pt x="531" y="159"/>
                      </a:lnTo>
                      <a:lnTo>
                        <a:pt x="510" y="99"/>
                      </a:lnTo>
                      <a:lnTo>
                        <a:pt x="486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90600" y="1816200"/>
                  <a:ext cx="125640" cy="309960"/>
                </a:xfrm>
                <a:custGeom>
                  <a:avLst/>
                  <a:gdLst/>
                  <a:ahLst/>
                  <a:rect l="0" t="0" r="r" b="b"/>
                  <a:pathLst>
                    <a:path w="349" h="861">
                      <a:moveTo>
                        <a:pt x="125" y="104"/>
                      </a:moveTo>
                      <a:lnTo>
                        <a:pt x="163" y="301"/>
                      </a:lnTo>
                      <a:lnTo>
                        <a:pt x="177" y="314"/>
                      </a:lnTo>
                      <a:lnTo>
                        <a:pt x="125" y="317"/>
                      </a:lnTo>
                      <a:lnTo>
                        <a:pt x="77" y="338"/>
                      </a:lnTo>
                      <a:lnTo>
                        <a:pt x="47" y="340"/>
                      </a:lnTo>
                      <a:lnTo>
                        <a:pt x="56" y="517"/>
                      </a:lnTo>
                      <a:lnTo>
                        <a:pt x="0" y="513"/>
                      </a:lnTo>
                      <a:lnTo>
                        <a:pt x="47" y="561"/>
                      </a:lnTo>
                      <a:lnTo>
                        <a:pt x="89" y="526"/>
                      </a:lnTo>
                      <a:lnTo>
                        <a:pt x="115" y="526"/>
                      </a:lnTo>
                      <a:lnTo>
                        <a:pt x="89" y="493"/>
                      </a:lnTo>
                      <a:lnTo>
                        <a:pt x="89" y="400"/>
                      </a:lnTo>
                      <a:lnTo>
                        <a:pt x="205" y="415"/>
                      </a:lnTo>
                      <a:lnTo>
                        <a:pt x="218" y="513"/>
                      </a:lnTo>
                      <a:lnTo>
                        <a:pt x="197" y="577"/>
                      </a:lnTo>
                      <a:lnTo>
                        <a:pt x="124" y="744"/>
                      </a:lnTo>
                      <a:lnTo>
                        <a:pt x="5" y="727"/>
                      </a:lnTo>
                      <a:lnTo>
                        <a:pt x="44" y="861"/>
                      </a:lnTo>
                      <a:lnTo>
                        <a:pt x="241" y="748"/>
                      </a:lnTo>
                      <a:lnTo>
                        <a:pt x="253" y="638"/>
                      </a:lnTo>
                      <a:lnTo>
                        <a:pt x="274" y="508"/>
                      </a:lnTo>
                      <a:lnTo>
                        <a:pt x="287" y="519"/>
                      </a:lnTo>
                      <a:lnTo>
                        <a:pt x="306" y="517"/>
                      </a:lnTo>
                      <a:lnTo>
                        <a:pt x="349" y="352"/>
                      </a:lnTo>
                      <a:lnTo>
                        <a:pt x="345" y="335"/>
                      </a:lnTo>
                      <a:lnTo>
                        <a:pt x="324" y="331"/>
                      </a:lnTo>
                      <a:lnTo>
                        <a:pt x="324" y="278"/>
                      </a:lnTo>
                      <a:lnTo>
                        <a:pt x="328" y="238"/>
                      </a:lnTo>
                      <a:lnTo>
                        <a:pt x="324" y="202"/>
                      </a:lnTo>
                      <a:lnTo>
                        <a:pt x="319" y="163"/>
                      </a:lnTo>
                      <a:lnTo>
                        <a:pt x="307" y="118"/>
                      </a:lnTo>
                      <a:lnTo>
                        <a:pt x="294" y="83"/>
                      </a:lnTo>
                      <a:lnTo>
                        <a:pt x="271" y="48"/>
                      </a:lnTo>
                      <a:lnTo>
                        <a:pt x="230" y="18"/>
                      </a:lnTo>
                      <a:lnTo>
                        <a:pt x="184" y="0"/>
                      </a:lnTo>
                      <a:lnTo>
                        <a:pt x="193" y="26"/>
                      </a:lnTo>
                      <a:lnTo>
                        <a:pt x="203" y="53"/>
                      </a:lnTo>
                      <a:lnTo>
                        <a:pt x="200" y="67"/>
                      </a:lnTo>
                      <a:lnTo>
                        <a:pt x="186" y="81"/>
                      </a:lnTo>
                      <a:lnTo>
                        <a:pt x="172" y="92"/>
                      </a:lnTo>
                      <a:lnTo>
                        <a:pt x="151" y="101"/>
                      </a:lnTo>
                      <a:lnTo>
                        <a:pt x="125" y="104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1208160" y="179244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550" y="517"/>
                    </a:moveTo>
                    <a:lnTo>
                      <a:pt x="592" y="392"/>
                    </a:lnTo>
                    <a:lnTo>
                      <a:pt x="587" y="251"/>
                    </a:lnTo>
                    <a:lnTo>
                      <a:pt x="574" y="161"/>
                    </a:lnTo>
                    <a:lnTo>
                      <a:pt x="550" y="116"/>
                    </a:lnTo>
                    <a:lnTo>
                      <a:pt x="522" y="80"/>
                    </a:lnTo>
                    <a:lnTo>
                      <a:pt x="474" y="41"/>
                    </a:lnTo>
                    <a:lnTo>
                      <a:pt x="398" y="20"/>
                    </a:lnTo>
                    <a:lnTo>
                      <a:pt x="312" y="0"/>
                    </a:lnTo>
                    <a:lnTo>
                      <a:pt x="222" y="13"/>
                    </a:lnTo>
                    <a:lnTo>
                      <a:pt x="152" y="33"/>
                    </a:lnTo>
                    <a:lnTo>
                      <a:pt x="112" y="50"/>
                    </a:lnTo>
                    <a:lnTo>
                      <a:pt x="65" y="71"/>
                    </a:lnTo>
                    <a:lnTo>
                      <a:pt x="48" y="99"/>
                    </a:lnTo>
                    <a:lnTo>
                      <a:pt x="27" y="147"/>
                    </a:lnTo>
                    <a:lnTo>
                      <a:pt x="5" y="233"/>
                    </a:lnTo>
                    <a:lnTo>
                      <a:pt x="0" y="309"/>
                    </a:lnTo>
                    <a:lnTo>
                      <a:pt x="0" y="377"/>
                    </a:lnTo>
                    <a:lnTo>
                      <a:pt x="0" y="408"/>
                    </a:lnTo>
                    <a:lnTo>
                      <a:pt x="21" y="476"/>
                    </a:lnTo>
                    <a:lnTo>
                      <a:pt x="11" y="395"/>
                    </a:lnTo>
                    <a:lnTo>
                      <a:pt x="51" y="413"/>
                    </a:lnTo>
                    <a:lnTo>
                      <a:pt x="65" y="459"/>
                    </a:lnTo>
                    <a:lnTo>
                      <a:pt x="75" y="416"/>
                    </a:lnTo>
                    <a:lnTo>
                      <a:pt x="65" y="356"/>
                    </a:lnTo>
                    <a:lnTo>
                      <a:pt x="105" y="272"/>
                    </a:lnTo>
                    <a:lnTo>
                      <a:pt x="88" y="228"/>
                    </a:lnTo>
                    <a:lnTo>
                      <a:pt x="142" y="245"/>
                    </a:lnTo>
                    <a:lnTo>
                      <a:pt x="194" y="263"/>
                    </a:lnTo>
                    <a:lnTo>
                      <a:pt x="246" y="257"/>
                    </a:lnTo>
                    <a:lnTo>
                      <a:pt x="291" y="245"/>
                    </a:lnTo>
                    <a:lnTo>
                      <a:pt x="328" y="240"/>
                    </a:lnTo>
                    <a:lnTo>
                      <a:pt x="297" y="263"/>
                    </a:lnTo>
                    <a:lnTo>
                      <a:pt x="321" y="263"/>
                    </a:lnTo>
                    <a:lnTo>
                      <a:pt x="388" y="258"/>
                    </a:lnTo>
                    <a:lnTo>
                      <a:pt x="437" y="236"/>
                    </a:lnTo>
                    <a:lnTo>
                      <a:pt x="475" y="221"/>
                    </a:lnTo>
                    <a:lnTo>
                      <a:pt x="471" y="251"/>
                    </a:lnTo>
                    <a:lnTo>
                      <a:pt x="483" y="302"/>
                    </a:lnTo>
                    <a:lnTo>
                      <a:pt x="499" y="344"/>
                    </a:lnTo>
                    <a:lnTo>
                      <a:pt x="505" y="377"/>
                    </a:lnTo>
                    <a:lnTo>
                      <a:pt x="508" y="416"/>
                    </a:lnTo>
                    <a:lnTo>
                      <a:pt x="508" y="450"/>
                    </a:lnTo>
                    <a:lnTo>
                      <a:pt x="529" y="416"/>
                    </a:lnTo>
                    <a:lnTo>
                      <a:pt x="553" y="410"/>
                    </a:lnTo>
                    <a:lnTo>
                      <a:pt x="571" y="436"/>
                    </a:lnTo>
                    <a:lnTo>
                      <a:pt x="550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992160" y="3468600"/>
              <a:ext cx="583200" cy="159120"/>
              <a:chOff x="992160" y="3468600"/>
              <a:chExt cx="583200" cy="159120"/>
            </a:xfrm>
          </p:grpSpPr>
          <p:sp>
            <p:nvSpPr>
              <p:cNvPr id="409" name=""/>
              <p:cNvSpPr/>
              <p:nvPr/>
            </p:nvSpPr>
            <p:spPr>
              <a:xfrm>
                <a:off x="1332000" y="346860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54" y="97"/>
                    </a:moveTo>
                    <a:lnTo>
                      <a:pt x="466" y="210"/>
                    </a:lnTo>
                    <a:lnTo>
                      <a:pt x="548" y="270"/>
                    </a:lnTo>
                    <a:lnTo>
                      <a:pt x="676" y="320"/>
                    </a:lnTo>
                    <a:lnTo>
                      <a:pt x="676" y="402"/>
                    </a:lnTo>
                    <a:lnTo>
                      <a:pt x="563" y="442"/>
                    </a:lnTo>
                    <a:lnTo>
                      <a:pt x="384" y="442"/>
                    </a:lnTo>
                    <a:lnTo>
                      <a:pt x="250" y="375"/>
                    </a:lnTo>
                    <a:lnTo>
                      <a:pt x="183" y="314"/>
                    </a:lnTo>
                    <a:lnTo>
                      <a:pt x="0" y="261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35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2160" y="3476520"/>
                <a:ext cx="263880" cy="140040"/>
              </a:xfrm>
              <a:custGeom>
                <a:avLst/>
                <a:gdLst/>
                <a:ahLst/>
                <a:rect l="0" t="0" r="r" b="b"/>
                <a:pathLst>
                  <a:path w="733" h="389">
                    <a:moveTo>
                      <a:pt x="726" y="16"/>
                    </a:moveTo>
                    <a:lnTo>
                      <a:pt x="733" y="232"/>
                    </a:lnTo>
                    <a:lnTo>
                      <a:pt x="563" y="269"/>
                    </a:lnTo>
                    <a:lnTo>
                      <a:pt x="465" y="313"/>
                    </a:lnTo>
                    <a:lnTo>
                      <a:pt x="292" y="359"/>
                    </a:lnTo>
                    <a:lnTo>
                      <a:pt x="165" y="389"/>
                    </a:lnTo>
                    <a:lnTo>
                      <a:pt x="23" y="366"/>
                    </a:lnTo>
                    <a:lnTo>
                      <a:pt x="0" y="269"/>
                    </a:lnTo>
                    <a:lnTo>
                      <a:pt x="202" y="157"/>
                    </a:lnTo>
                    <a:lnTo>
                      <a:pt x="351" y="67"/>
                    </a:lnTo>
                    <a:lnTo>
                      <a:pt x="428" y="0"/>
                    </a:lnTo>
                    <a:lnTo>
                      <a:pt x="7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1225440" y="2076480"/>
              <a:ext cx="170280" cy="483120"/>
            </a:xfrm>
            <a:custGeom>
              <a:avLst/>
              <a:gdLst/>
              <a:ahLst/>
              <a:rect l="0" t="0" r="r" b="b"/>
              <a:pathLst>
                <a:path w="473" h="1342">
                  <a:moveTo>
                    <a:pt x="194" y="1342"/>
                  </a:moveTo>
                  <a:lnTo>
                    <a:pt x="473" y="84"/>
                  </a:lnTo>
                  <a:lnTo>
                    <a:pt x="420" y="11"/>
                  </a:lnTo>
                  <a:lnTo>
                    <a:pt x="234" y="113"/>
                  </a:lnTo>
                  <a:lnTo>
                    <a:pt x="54" y="0"/>
                  </a:lnTo>
                  <a:lnTo>
                    <a:pt x="0" y="70"/>
                  </a:lnTo>
                  <a:lnTo>
                    <a:pt x="194" y="1342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68280" y="2116080"/>
              <a:ext cx="63720" cy="432000"/>
            </a:xfrm>
            <a:custGeom>
              <a:avLst/>
              <a:gdLst/>
              <a:ahLst/>
              <a:rect l="0" t="0" r="r" b="b"/>
              <a:pathLst>
                <a:path w="177" h="1200">
                  <a:moveTo>
                    <a:pt x="124" y="0"/>
                  </a:moveTo>
                  <a:lnTo>
                    <a:pt x="106" y="0"/>
                  </a:lnTo>
                  <a:lnTo>
                    <a:pt x="45" y="87"/>
                  </a:lnTo>
                  <a:lnTo>
                    <a:pt x="80" y="150"/>
                  </a:lnTo>
                  <a:lnTo>
                    <a:pt x="33" y="308"/>
                  </a:lnTo>
                  <a:lnTo>
                    <a:pt x="3" y="452"/>
                  </a:lnTo>
                  <a:lnTo>
                    <a:pt x="0" y="625"/>
                  </a:lnTo>
                  <a:lnTo>
                    <a:pt x="18" y="982"/>
                  </a:lnTo>
                  <a:lnTo>
                    <a:pt x="24" y="1196"/>
                  </a:lnTo>
                  <a:lnTo>
                    <a:pt x="124" y="1200"/>
                  </a:lnTo>
                  <a:lnTo>
                    <a:pt x="143" y="976"/>
                  </a:lnTo>
                  <a:lnTo>
                    <a:pt x="173" y="625"/>
                  </a:lnTo>
                  <a:lnTo>
                    <a:pt x="173" y="456"/>
                  </a:lnTo>
                  <a:lnTo>
                    <a:pt x="159" y="310"/>
                  </a:lnTo>
                  <a:lnTo>
                    <a:pt x="131" y="154"/>
                  </a:lnTo>
                  <a:lnTo>
                    <a:pt x="177" y="10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81000" y="202104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146" y="230"/>
                  </a:moveTo>
                  <a:lnTo>
                    <a:pt x="1532" y="381"/>
                  </a:lnTo>
                  <a:lnTo>
                    <a:pt x="1978" y="574"/>
                  </a:lnTo>
                  <a:lnTo>
                    <a:pt x="1532" y="127"/>
                  </a:lnTo>
                  <a:lnTo>
                    <a:pt x="1723" y="0"/>
                  </a:lnTo>
                  <a:lnTo>
                    <a:pt x="2297" y="574"/>
                  </a:lnTo>
                  <a:lnTo>
                    <a:pt x="2360" y="828"/>
                  </a:lnTo>
                  <a:lnTo>
                    <a:pt x="2169" y="893"/>
                  </a:lnTo>
                  <a:lnTo>
                    <a:pt x="1404" y="765"/>
                  </a:lnTo>
                  <a:lnTo>
                    <a:pt x="1359" y="1548"/>
                  </a:lnTo>
                  <a:lnTo>
                    <a:pt x="1388" y="2173"/>
                  </a:lnTo>
                  <a:lnTo>
                    <a:pt x="1284" y="2187"/>
                  </a:lnTo>
                  <a:lnTo>
                    <a:pt x="1300" y="2992"/>
                  </a:lnTo>
                  <a:lnTo>
                    <a:pt x="1330" y="4127"/>
                  </a:lnTo>
                  <a:lnTo>
                    <a:pt x="1177" y="4159"/>
                  </a:lnTo>
                  <a:lnTo>
                    <a:pt x="994" y="4084"/>
                  </a:lnTo>
                  <a:lnTo>
                    <a:pt x="851" y="2216"/>
                  </a:lnTo>
                  <a:lnTo>
                    <a:pt x="796" y="3277"/>
                  </a:lnTo>
                  <a:lnTo>
                    <a:pt x="760" y="4090"/>
                  </a:lnTo>
                  <a:lnTo>
                    <a:pt x="556" y="4159"/>
                  </a:lnTo>
                  <a:lnTo>
                    <a:pt x="393" y="4145"/>
                  </a:lnTo>
                  <a:lnTo>
                    <a:pt x="450" y="2655"/>
                  </a:lnTo>
                  <a:lnTo>
                    <a:pt x="424" y="2173"/>
                  </a:lnTo>
                  <a:lnTo>
                    <a:pt x="363" y="2142"/>
                  </a:lnTo>
                  <a:lnTo>
                    <a:pt x="318" y="1971"/>
                  </a:lnTo>
                  <a:lnTo>
                    <a:pt x="302" y="1832"/>
                  </a:lnTo>
                  <a:lnTo>
                    <a:pt x="0" y="1481"/>
                  </a:lnTo>
                  <a:lnTo>
                    <a:pt x="271" y="407"/>
                  </a:lnTo>
                  <a:lnTo>
                    <a:pt x="682" y="210"/>
                  </a:lnTo>
                  <a:lnTo>
                    <a:pt x="870" y="1456"/>
                  </a:lnTo>
                  <a:lnTo>
                    <a:pt x="1146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276200" y="2584440"/>
              <a:ext cx="22320" cy="73080"/>
              <a:chOff x="1276200" y="2584440"/>
              <a:chExt cx="22320" cy="73080"/>
            </a:xfrm>
          </p:grpSpPr>
          <p:sp>
            <p:nvSpPr>
              <p:cNvPr id="415" name=""/>
              <p:cNvSpPr/>
              <p:nvPr/>
            </p:nvSpPr>
            <p:spPr>
              <a:xfrm>
                <a:off x="1276200" y="2584440"/>
                <a:ext cx="22320" cy="22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6200" y="2631960"/>
                <a:ext cx="2232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436760" y="1860480"/>
              <a:ext cx="354240" cy="695520"/>
              <a:chOff x="1436760" y="1860480"/>
              <a:chExt cx="354240" cy="695520"/>
            </a:xfrm>
          </p:grpSpPr>
          <p:sp>
            <p:nvSpPr>
              <p:cNvPr id="418" name=""/>
              <p:cNvSpPr/>
              <p:nvPr/>
            </p:nvSpPr>
            <p:spPr>
              <a:xfrm>
                <a:off x="1467000" y="2127240"/>
                <a:ext cx="105120" cy="333720"/>
              </a:xfrm>
              <a:custGeom>
                <a:avLst/>
                <a:gdLst/>
                <a:ahLst/>
                <a:rect l="0" t="0" r="r" b="b"/>
                <a:pathLst>
                  <a:path w="292" h="927">
                    <a:moveTo>
                      <a:pt x="97" y="0"/>
                    </a:moveTo>
                    <a:lnTo>
                      <a:pt x="178" y="122"/>
                    </a:lnTo>
                    <a:lnTo>
                      <a:pt x="65" y="230"/>
                    </a:lnTo>
                    <a:lnTo>
                      <a:pt x="200" y="354"/>
                    </a:lnTo>
                    <a:lnTo>
                      <a:pt x="47" y="507"/>
                    </a:lnTo>
                    <a:lnTo>
                      <a:pt x="222" y="661"/>
                    </a:lnTo>
                    <a:lnTo>
                      <a:pt x="127" y="779"/>
                    </a:lnTo>
                    <a:lnTo>
                      <a:pt x="292" y="901"/>
                    </a:lnTo>
                    <a:lnTo>
                      <a:pt x="266" y="927"/>
                    </a:lnTo>
                    <a:lnTo>
                      <a:pt x="83" y="787"/>
                    </a:lnTo>
                    <a:lnTo>
                      <a:pt x="174" y="670"/>
                    </a:lnTo>
                    <a:lnTo>
                      <a:pt x="0" y="517"/>
                    </a:lnTo>
                    <a:lnTo>
                      <a:pt x="156" y="354"/>
                    </a:lnTo>
                    <a:lnTo>
                      <a:pt x="17" y="240"/>
                    </a:lnTo>
                    <a:lnTo>
                      <a:pt x="141" y="122"/>
                    </a:lnTo>
                    <a:lnTo>
                      <a:pt x="71" y="1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36760" y="1860480"/>
                <a:ext cx="78120" cy="294120"/>
              </a:xfrm>
              <a:custGeom>
                <a:avLst/>
                <a:gdLst/>
                <a:ahLst/>
                <a:rect l="0" t="0" r="r" b="b"/>
                <a:pathLst>
                  <a:path w="217" h="817">
                    <a:moveTo>
                      <a:pt x="0" y="631"/>
                    </a:moveTo>
                    <a:lnTo>
                      <a:pt x="0" y="817"/>
                    </a:lnTo>
                    <a:lnTo>
                      <a:pt x="124" y="817"/>
                    </a:lnTo>
                    <a:lnTo>
                      <a:pt x="217" y="754"/>
                    </a:lnTo>
                    <a:lnTo>
                      <a:pt x="217" y="62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88"/>
                    </a:lnTo>
                    <a:lnTo>
                      <a:pt x="92" y="188"/>
                    </a:lnTo>
                    <a:lnTo>
                      <a:pt x="124" y="205"/>
                    </a:lnTo>
                    <a:lnTo>
                      <a:pt x="124" y="615"/>
                    </a:lnTo>
                    <a:lnTo>
                      <a:pt x="92" y="631"/>
                    </a:lnTo>
                    <a:lnTo>
                      <a:pt x="0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33600" y="2376360"/>
                <a:ext cx="257400" cy="174960"/>
              </a:xfrm>
              <a:custGeom>
                <a:avLst/>
                <a:gdLst/>
                <a:ahLst/>
                <a:rect l="0" t="0" r="r" b="b"/>
                <a:pathLst>
                  <a:path w="715" h="486">
                    <a:moveTo>
                      <a:pt x="571" y="0"/>
                    </a:moveTo>
                    <a:lnTo>
                      <a:pt x="571" y="138"/>
                    </a:lnTo>
                    <a:lnTo>
                      <a:pt x="573" y="138"/>
                    </a:lnTo>
                    <a:lnTo>
                      <a:pt x="573" y="140"/>
                    </a:lnTo>
                    <a:lnTo>
                      <a:pt x="575" y="140"/>
                    </a:lnTo>
                    <a:lnTo>
                      <a:pt x="575" y="142"/>
                    </a:lnTo>
                    <a:lnTo>
                      <a:pt x="577" y="142"/>
                    </a:lnTo>
                    <a:lnTo>
                      <a:pt x="577" y="144"/>
                    </a:lnTo>
                    <a:lnTo>
                      <a:pt x="579" y="144"/>
                    </a:lnTo>
                    <a:lnTo>
                      <a:pt x="579" y="145"/>
                    </a:lnTo>
                    <a:lnTo>
                      <a:pt x="581" y="145"/>
                    </a:lnTo>
                    <a:lnTo>
                      <a:pt x="581" y="147"/>
                    </a:lnTo>
                    <a:lnTo>
                      <a:pt x="583" y="149"/>
                    </a:lnTo>
                    <a:lnTo>
                      <a:pt x="584" y="149"/>
                    </a:lnTo>
                    <a:lnTo>
                      <a:pt x="584" y="151"/>
                    </a:lnTo>
                    <a:lnTo>
                      <a:pt x="586" y="151"/>
                    </a:lnTo>
                    <a:lnTo>
                      <a:pt x="586" y="153"/>
                    </a:lnTo>
                    <a:lnTo>
                      <a:pt x="588" y="153"/>
                    </a:lnTo>
                    <a:lnTo>
                      <a:pt x="588" y="155"/>
                    </a:lnTo>
                    <a:lnTo>
                      <a:pt x="590" y="155"/>
                    </a:lnTo>
                    <a:lnTo>
                      <a:pt x="590" y="157"/>
                    </a:lnTo>
                    <a:lnTo>
                      <a:pt x="592" y="159"/>
                    </a:lnTo>
                    <a:lnTo>
                      <a:pt x="594" y="159"/>
                    </a:lnTo>
                    <a:lnTo>
                      <a:pt x="594" y="161"/>
                    </a:lnTo>
                    <a:lnTo>
                      <a:pt x="596" y="161"/>
                    </a:lnTo>
                    <a:lnTo>
                      <a:pt x="596" y="162"/>
                    </a:lnTo>
                    <a:lnTo>
                      <a:pt x="598" y="162"/>
                    </a:lnTo>
                    <a:lnTo>
                      <a:pt x="598" y="164"/>
                    </a:lnTo>
                    <a:lnTo>
                      <a:pt x="600" y="164"/>
                    </a:lnTo>
                    <a:lnTo>
                      <a:pt x="600" y="166"/>
                    </a:lnTo>
                    <a:lnTo>
                      <a:pt x="602" y="166"/>
                    </a:lnTo>
                    <a:lnTo>
                      <a:pt x="602" y="168"/>
                    </a:lnTo>
                    <a:lnTo>
                      <a:pt x="604" y="168"/>
                    </a:lnTo>
                    <a:lnTo>
                      <a:pt x="604" y="170"/>
                    </a:lnTo>
                    <a:lnTo>
                      <a:pt x="606" y="170"/>
                    </a:lnTo>
                    <a:lnTo>
                      <a:pt x="606" y="172"/>
                    </a:lnTo>
                    <a:lnTo>
                      <a:pt x="608" y="172"/>
                    </a:lnTo>
                    <a:lnTo>
                      <a:pt x="608" y="174"/>
                    </a:lnTo>
                    <a:lnTo>
                      <a:pt x="610" y="174"/>
                    </a:lnTo>
                    <a:lnTo>
                      <a:pt x="610" y="176"/>
                    </a:lnTo>
                    <a:lnTo>
                      <a:pt x="612" y="176"/>
                    </a:lnTo>
                    <a:lnTo>
                      <a:pt x="612" y="178"/>
                    </a:lnTo>
                    <a:lnTo>
                      <a:pt x="614" y="178"/>
                    </a:lnTo>
                    <a:lnTo>
                      <a:pt x="614" y="180"/>
                    </a:lnTo>
                    <a:lnTo>
                      <a:pt x="616" y="180"/>
                    </a:lnTo>
                    <a:lnTo>
                      <a:pt x="616" y="181"/>
                    </a:lnTo>
                    <a:lnTo>
                      <a:pt x="618" y="183"/>
                    </a:lnTo>
                    <a:lnTo>
                      <a:pt x="619" y="183"/>
                    </a:lnTo>
                    <a:lnTo>
                      <a:pt x="619" y="185"/>
                    </a:lnTo>
                    <a:lnTo>
                      <a:pt x="621" y="185"/>
                    </a:lnTo>
                    <a:lnTo>
                      <a:pt x="621" y="187"/>
                    </a:lnTo>
                    <a:lnTo>
                      <a:pt x="623" y="187"/>
                    </a:lnTo>
                    <a:lnTo>
                      <a:pt x="623" y="189"/>
                    </a:lnTo>
                    <a:lnTo>
                      <a:pt x="625" y="189"/>
                    </a:lnTo>
                    <a:lnTo>
                      <a:pt x="627" y="191"/>
                    </a:lnTo>
                    <a:lnTo>
                      <a:pt x="627" y="193"/>
                    </a:lnTo>
                    <a:lnTo>
                      <a:pt x="629" y="193"/>
                    </a:lnTo>
                    <a:lnTo>
                      <a:pt x="629" y="195"/>
                    </a:lnTo>
                    <a:lnTo>
                      <a:pt x="631" y="195"/>
                    </a:lnTo>
                    <a:lnTo>
                      <a:pt x="631" y="197"/>
                    </a:lnTo>
                    <a:lnTo>
                      <a:pt x="633" y="197"/>
                    </a:lnTo>
                    <a:lnTo>
                      <a:pt x="633" y="198"/>
                    </a:lnTo>
                    <a:lnTo>
                      <a:pt x="635" y="198"/>
                    </a:lnTo>
                    <a:lnTo>
                      <a:pt x="635" y="200"/>
                    </a:lnTo>
                    <a:lnTo>
                      <a:pt x="637" y="200"/>
                    </a:lnTo>
                    <a:lnTo>
                      <a:pt x="637" y="202"/>
                    </a:lnTo>
                    <a:lnTo>
                      <a:pt x="639" y="202"/>
                    </a:lnTo>
                    <a:lnTo>
                      <a:pt x="639" y="204"/>
                    </a:lnTo>
                    <a:lnTo>
                      <a:pt x="641" y="204"/>
                    </a:lnTo>
                    <a:lnTo>
                      <a:pt x="641" y="206"/>
                    </a:lnTo>
                    <a:lnTo>
                      <a:pt x="643" y="206"/>
                    </a:lnTo>
                    <a:lnTo>
                      <a:pt x="643" y="208"/>
                    </a:lnTo>
                    <a:lnTo>
                      <a:pt x="645" y="208"/>
                    </a:lnTo>
                    <a:lnTo>
                      <a:pt x="645" y="210"/>
                    </a:lnTo>
                    <a:lnTo>
                      <a:pt x="647" y="210"/>
                    </a:lnTo>
                    <a:lnTo>
                      <a:pt x="647" y="212"/>
                    </a:lnTo>
                    <a:lnTo>
                      <a:pt x="649" y="212"/>
                    </a:lnTo>
                    <a:lnTo>
                      <a:pt x="649" y="214"/>
                    </a:lnTo>
                    <a:lnTo>
                      <a:pt x="651" y="214"/>
                    </a:lnTo>
                    <a:lnTo>
                      <a:pt x="653" y="216"/>
                    </a:lnTo>
                    <a:lnTo>
                      <a:pt x="653" y="217"/>
                    </a:lnTo>
                    <a:lnTo>
                      <a:pt x="655" y="217"/>
                    </a:lnTo>
                    <a:lnTo>
                      <a:pt x="655" y="219"/>
                    </a:lnTo>
                    <a:lnTo>
                      <a:pt x="656" y="219"/>
                    </a:lnTo>
                    <a:lnTo>
                      <a:pt x="656" y="221"/>
                    </a:lnTo>
                    <a:lnTo>
                      <a:pt x="658" y="221"/>
                    </a:lnTo>
                    <a:lnTo>
                      <a:pt x="658" y="223"/>
                    </a:lnTo>
                    <a:lnTo>
                      <a:pt x="660" y="223"/>
                    </a:lnTo>
                    <a:lnTo>
                      <a:pt x="662" y="225"/>
                    </a:lnTo>
                    <a:lnTo>
                      <a:pt x="662" y="227"/>
                    </a:lnTo>
                    <a:lnTo>
                      <a:pt x="664" y="227"/>
                    </a:lnTo>
                    <a:lnTo>
                      <a:pt x="664" y="229"/>
                    </a:lnTo>
                    <a:lnTo>
                      <a:pt x="666" y="229"/>
                    </a:lnTo>
                    <a:lnTo>
                      <a:pt x="666" y="231"/>
                    </a:lnTo>
                    <a:lnTo>
                      <a:pt x="668" y="231"/>
                    </a:lnTo>
                    <a:lnTo>
                      <a:pt x="668" y="233"/>
                    </a:lnTo>
                    <a:lnTo>
                      <a:pt x="670" y="233"/>
                    </a:lnTo>
                    <a:lnTo>
                      <a:pt x="672" y="234"/>
                    </a:lnTo>
                    <a:lnTo>
                      <a:pt x="672" y="236"/>
                    </a:lnTo>
                    <a:lnTo>
                      <a:pt x="674" y="236"/>
                    </a:lnTo>
                    <a:lnTo>
                      <a:pt x="674" y="238"/>
                    </a:lnTo>
                    <a:lnTo>
                      <a:pt x="676" y="238"/>
                    </a:lnTo>
                    <a:lnTo>
                      <a:pt x="678" y="240"/>
                    </a:lnTo>
                    <a:lnTo>
                      <a:pt x="678" y="242"/>
                    </a:lnTo>
                    <a:lnTo>
                      <a:pt x="680" y="242"/>
                    </a:lnTo>
                    <a:lnTo>
                      <a:pt x="680" y="245"/>
                    </a:lnTo>
                    <a:lnTo>
                      <a:pt x="682" y="245"/>
                    </a:lnTo>
                    <a:lnTo>
                      <a:pt x="682" y="247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6" y="249"/>
                    </a:lnTo>
                    <a:lnTo>
                      <a:pt x="688" y="251"/>
                    </a:lnTo>
                    <a:lnTo>
                      <a:pt x="688" y="253"/>
                    </a:lnTo>
                    <a:lnTo>
                      <a:pt x="690" y="253"/>
                    </a:lnTo>
                    <a:lnTo>
                      <a:pt x="690" y="254"/>
                    </a:lnTo>
                    <a:lnTo>
                      <a:pt x="692" y="254"/>
                    </a:lnTo>
                    <a:lnTo>
                      <a:pt x="692" y="256"/>
                    </a:lnTo>
                    <a:lnTo>
                      <a:pt x="693" y="256"/>
                    </a:lnTo>
                    <a:lnTo>
                      <a:pt x="693" y="258"/>
                    </a:lnTo>
                    <a:lnTo>
                      <a:pt x="695" y="258"/>
                    </a:lnTo>
                    <a:lnTo>
                      <a:pt x="697" y="260"/>
                    </a:lnTo>
                    <a:lnTo>
                      <a:pt x="697" y="262"/>
                    </a:lnTo>
                    <a:lnTo>
                      <a:pt x="699" y="262"/>
                    </a:lnTo>
                    <a:lnTo>
                      <a:pt x="699" y="264"/>
                    </a:lnTo>
                    <a:lnTo>
                      <a:pt x="701" y="264"/>
                    </a:lnTo>
                    <a:lnTo>
                      <a:pt x="703" y="266"/>
                    </a:lnTo>
                    <a:lnTo>
                      <a:pt x="703" y="268"/>
                    </a:lnTo>
                    <a:lnTo>
                      <a:pt x="705" y="268"/>
                    </a:lnTo>
                    <a:lnTo>
                      <a:pt x="707" y="270"/>
                    </a:lnTo>
                    <a:lnTo>
                      <a:pt x="707" y="271"/>
                    </a:lnTo>
                    <a:lnTo>
                      <a:pt x="709" y="271"/>
                    </a:lnTo>
                    <a:lnTo>
                      <a:pt x="709" y="273"/>
                    </a:lnTo>
                    <a:lnTo>
                      <a:pt x="711" y="273"/>
                    </a:lnTo>
                    <a:lnTo>
                      <a:pt x="713" y="275"/>
                    </a:lnTo>
                    <a:lnTo>
                      <a:pt x="713" y="277"/>
                    </a:lnTo>
                    <a:lnTo>
                      <a:pt x="715" y="277"/>
                    </a:lnTo>
                    <a:lnTo>
                      <a:pt x="715" y="486"/>
                    </a:lnTo>
                    <a:lnTo>
                      <a:pt x="0" y="486"/>
                    </a:lnTo>
                    <a:lnTo>
                      <a:pt x="0" y="389"/>
                    </a:lnTo>
                    <a:lnTo>
                      <a:pt x="392" y="389"/>
                    </a:lnTo>
                    <a:lnTo>
                      <a:pt x="392" y="321"/>
                    </a:lnTo>
                    <a:lnTo>
                      <a:pt x="464" y="321"/>
                    </a:lnTo>
                    <a:lnTo>
                      <a:pt x="464" y="389"/>
                    </a:lnTo>
                    <a:lnTo>
                      <a:pt x="249" y="389"/>
                    </a:lnTo>
                    <a:lnTo>
                      <a:pt x="249" y="321"/>
                    </a:lnTo>
                    <a:lnTo>
                      <a:pt x="321" y="321"/>
                    </a:lnTo>
                    <a:lnTo>
                      <a:pt x="321" y="389"/>
                    </a:lnTo>
                    <a:lnTo>
                      <a:pt x="0" y="389"/>
                    </a:lnTo>
                    <a:lnTo>
                      <a:pt x="0" y="321"/>
                    </a:lnTo>
                    <a:lnTo>
                      <a:pt x="177" y="321"/>
                    </a:lnTo>
                    <a:lnTo>
                      <a:pt x="177" y="389"/>
                    </a:lnTo>
                    <a:lnTo>
                      <a:pt x="536" y="389"/>
                    </a:lnTo>
                    <a:lnTo>
                      <a:pt x="536" y="321"/>
                    </a:lnTo>
                    <a:lnTo>
                      <a:pt x="0" y="321"/>
                    </a:lnTo>
                    <a:lnTo>
                      <a:pt x="0" y="277"/>
                    </a:lnTo>
                    <a:lnTo>
                      <a:pt x="249" y="277"/>
                    </a:lnTo>
                    <a:lnTo>
                      <a:pt x="249" y="208"/>
                    </a:lnTo>
                    <a:lnTo>
                      <a:pt x="321" y="208"/>
                    </a:lnTo>
                    <a:lnTo>
                      <a:pt x="321" y="277"/>
                    </a:lnTo>
                    <a:lnTo>
                      <a:pt x="392" y="277"/>
                    </a:lnTo>
                    <a:lnTo>
                      <a:pt x="392" y="208"/>
                    </a:lnTo>
                    <a:lnTo>
                      <a:pt x="464" y="208"/>
                    </a:lnTo>
                    <a:lnTo>
                      <a:pt x="464" y="277"/>
                    </a:lnTo>
                    <a:lnTo>
                      <a:pt x="0" y="277"/>
                    </a:lnTo>
                    <a:lnTo>
                      <a:pt x="0" y="275"/>
                    </a:lnTo>
                    <a:lnTo>
                      <a:pt x="1" y="275"/>
                    </a:lnTo>
                    <a:lnTo>
                      <a:pt x="1" y="273"/>
                    </a:lnTo>
                    <a:lnTo>
                      <a:pt x="3" y="273"/>
                    </a:lnTo>
                    <a:lnTo>
                      <a:pt x="3" y="271"/>
                    </a:lnTo>
                    <a:lnTo>
                      <a:pt x="5" y="271"/>
                    </a:lnTo>
                    <a:lnTo>
                      <a:pt x="5" y="270"/>
                    </a:lnTo>
                    <a:lnTo>
                      <a:pt x="7" y="270"/>
                    </a:lnTo>
                    <a:lnTo>
                      <a:pt x="7" y="268"/>
                    </a:lnTo>
                    <a:lnTo>
                      <a:pt x="9" y="268"/>
                    </a:lnTo>
                    <a:lnTo>
                      <a:pt x="9" y="266"/>
                    </a:lnTo>
                    <a:lnTo>
                      <a:pt x="11" y="266"/>
                    </a:lnTo>
                    <a:lnTo>
                      <a:pt x="11" y="264"/>
                    </a:lnTo>
                    <a:lnTo>
                      <a:pt x="13" y="264"/>
                    </a:lnTo>
                    <a:lnTo>
                      <a:pt x="15" y="262"/>
                    </a:lnTo>
                    <a:lnTo>
                      <a:pt x="15" y="260"/>
                    </a:lnTo>
                    <a:lnTo>
                      <a:pt x="17" y="260"/>
                    </a:lnTo>
                    <a:lnTo>
                      <a:pt x="17" y="258"/>
                    </a:lnTo>
                    <a:lnTo>
                      <a:pt x="19" y="258"/>
                    </a:lnTo>
                    <a:lnTo>
                      <a:pt x="19" y="256"/>
                    </a:lnTo>
                    <a:lnTo>
                      <a:pt x="21" y="256"/>
                    </a:lnTo>
                    <a:lnTo>
                      <a:pt x="21" y="254"/>
                    </a:lnTo>
                    <a:lnTo>
                      <a:pt x="23" y="254"/>
                    </a:lnTo>
                    <a:lnTo>
                      <a:pt x="25" y="253"/>
                    </a:lnTo>
                    <a:lnTo>
                      <a:pt x="25" y="251"/>
                    </a:lnTo>
                    <a:lnTo>
                      <a:pt x="27" y="251"/>
                    </a:lnTo>
                    <a:lnTo>
                      <a:pt x="27" y="249"/>
                    </a:lnTo>
                    <a:lnTo>
                      <a:pt x="29" y="249"/>
                    </a:lnTo>
                    <a:lnTo>
                      <a:pt x="29" y="247"/>
                    </a:lnTo>
                    <a:lnTo>
                      <a:pt x="31" y="247"/>
                    </a:lnTo>
                    <a:lnTo>
                      <a:pt x="31" y="245"/>
                    </a:lnTo>
                    <a:lnTo>
                      <a:pt x="33" y="245"/>
                    </a:lnTo>
                    <a:lnTo>
                      <a:pt x="35" y="242"/>
                    </a:lnTo>
                    <a:lnTo>
                      <a:pt x="35" y="240"/>
                    </a:lnTo>
                    <a:lnTo>
                      <a:pt x="36" y="240"/>
                    </a:lnTo>
                    <a:lnTo>
                      <a:pt x="36" y="238"/>
                    </a:lnTo>
                    <a:lnTo>
                      <a:pt x="38" y="238"/>
                    </a:lnTo>
                    <a:lnTo>
                      <a:pt x="40" y="236"/>
                    </a:lnTo>
                    <a:lnTo>
                      <a:pt x="40" y="234"/>
                    </a:lnTo>
                    <a:lnTo>
                      <a:pt x="42" y="234"/>
                    </a:lnTo>
                    <a:lnTo>
                      <a:pt x="42" y="233"/>
                    </a:lnTo>
                    <a:lnTo>
                      <a:pt x="44" y="233"/>
                    </a:lnTo>
                    <a:lnTo>
                      <a:pt x="44" y="231"/>
                    </a:lnTo>
                    <a:lnTo>
                      <a:pt x="46" y="231"/>
                    </a:lnTo>
                    <a:lnTo>
                      <a:pt x="46" y="229"/>
                    </a:lnTo>
                    <a:lnTo>
                      <a:pt x="48" y="229"/>
                    </a:lnTo>
                    <a:lnTo>
                      <a:pt x="50" y="227"/>
                    </a:lnTo>
                    <a:lnTo>
                      <a:pt x="50" y="225"/>
                    </a:lnTo>
                    <a:lnTo>
                      <a:pt x="52" y="225"/>
                    </a:lnTo>
                    <a:lnTo>
                      <a:pt x="52" y="223"/>
                    </a:lnTo>
                    <a:lnTo>
                      <a:pt x="54" y="223"/>
                    </a:lnTo>
                    <a:lnTo>
                      <a:pt x="54" y="221"/>
                    </a:lnTo>
                    <a:lnTo>
                      <a:pt x="56" y="221"/>
                    </a:lnTo>
                    <a:lnTo>
                      <a:pt x="56" y="219"/>
                    </a:lnTo>
                    <a:lnTo>
                      <a:pt x="58" y="219"/>
                    </a:lnTo>
                    <a:lnTo>
                      <a:pt x="60" y="217"/>
                    </a:lnTo>
                    <a:lnTo>
                      <a:pt x="60" y="216"/>
                    </a:lnTo>
                    <a:lnTo>
                      <a:pt x="62" y="216"/>
                    </a:lnTo>
                    <a:lnTo>
                      <a:pt x="62" y="214"/>
                    </a:lnTo>
                    <a:lnTo>
                      <a:pt x="64" y="214"/>
                    </a:lnTo>
                    <a:lnTo>
                      <a:pt x="66" y="212"/>
                    </a:lnTo>
                    <a:lnTo>
                      <a:pt x="66" y="210"/>
                    </a:lnTo>
                    <a:lnTo>
                      <a:pt x="68" y="210"/>
                    </a:lnTo>
                    <a:lnTo>
                      <a:pt x="70" y="208"/>
                    </a:lnTo>
                    <a:lnTo>
                      <a:pt x="177" y="208"/>
                    </a:lnTo>
                    <a:lnTo>
                      <a:pt x="177" y="277"/>
                    </a:lnTo>
                    <a:lnTo>
                      <a:pt x="536" y="277"/>
                    </a:lnTo>
                    <a:lnTo>
                      <a:pt x="536" y="208"/>
                    </a:lnTo>
                    <a:lnTo>
                      <a:pt x="70" y="208"/>
                    </a:lnTo>
                    <a:lnTo>
                      <a:pt x="70" y="206"/>
                    </a:lnTo>
                    <a:lnTo>
                      <a:pt x="72" y="206"/>
                    </a:lnTo>
                    <a:lnTo>
                      <a:pt x="72" y="204"/>
                    </a:lnTo>
                    <a:lnTo>
                      <a:pt x="73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7" y="200"/>
                    </a:lnTo>
                    <a:lnTo>
                      <a:pt x="79" y="198"/>
                    </a:lnTo>
                    <a:lnTo>
                      <a:pt x="79" y="197"/>
                    </a:lnTo>
                    <a:lnTo>
                      <a:pt x="81" y="197"/>
                    </a:lnTo>
                    <a:lnTo>
                      <a:pt x="81" y="195"/>
                    </a:lnTo>
                    <a:lnTo>
                      <a:pt x="83" y="195"/>
                    </a:lnTo>
                    <a:lnTo>
                      <a:pt x="85" y="193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89"/>
                    </a:lnTo>
                    <a:lnTo>
                      <a:pt x="89" y="189"/>
                    </a:lnTo>
                    <a:lnTo>
                      <a:pt x="91" y="187"/>
                    </a:lnTo>
                    <a:lnTo>
                      <a:pt x="91" y="185"/>
                    </a:lnTo>
                    <a:lnTo>
                      <a:pt x="93" y="185"/>
                    </a:lnTo>
                    <a:lnTo>
                      <a:pt x="95" y="183"/>
                    </a:lnTo>
                    <a:lnTo>
                      <a:pt x="95" y="181"/>
                    </a:lnTo>
                    <a:lnTo>
                      <a:pt x="97" y="181"/>
                    </a:lnTo>
                    <a:lnTo>
                      <a:pt x="97" y="180"/>
                    </a:lnTo>
                    <a:lnTo>
                      <a:pt x="99" y="180"/>
                    </a:lnTo>
                    <a:lnTo>
                      <a:pt x="101" y="178"/>
                    </a:lnTo>
                    <a:lnTo>
                      <a:pt x="101" y="176"/>
                    </a:lnTo>
                    <a:lnTo>
                      <a:pt x="103" y="176"/>
                    </a:lnTo>
                    <a:lnTo>
                      <a:pt x="105" y="174"/>
                    </a:lnTo>
                    <a:lnTo>
                      <a:pt x="105" y="172"/>
                    </a:lnTo>
                    <a:lnTo>
                      <a:pt x="107" y="172"/>
                    </a:lnTo>
                    <a:lnTo>
                      <a:pt x="107" y="170"/>
                    </a:lnTo>
                    <a:lnTo>
                      <a:pt x="109" y="170"/>
                    </a:lnTo>
                    <a:lnTo>
                      <a:pt x="110" y="168"/>
                    </a:lnTo>
                    <a:lnTo>
                      <a:pt x="110" y="166"/>
                    </a:lnTo>
                    <a:lnTo>
                      <a:pt x="112" y="166"/>
                    </a:lnTo>
                    <a:lnTo>
                      <a:pt x="114" y="164"/>
                    </a:lnTo>
                    <a:lnTo>
                      <a:pt x="116" y="162"/>
                    </a:lnTo>
                    <a:lnTo>
                      <a:pt x="116" y="161"/>
                    </a:lnTo>
                    <a:lnTo>
                      <a:pt x="118" y="161"/>
                    </a:lnTo>
                    <a:lnTo>
                      <a:pt x="120" y="159"/>
                    </a:lnTo>
                    <a:lnTo>
                      <a:pt x="120" y="157"/>
                    </a:lnTo>
                    <a:lnTo>
                      <a:pt x="122" y="157"/>
                    </a:lnTo>
                    <a:lnTo>
                      <a:pt x="122" y="155"/>
                    </a:lnTo>
                    <a:lnTo>
                      <a:pt x="124" y="155"/>
                    </a:lnTo>
                    <a:lnTo>
                      <a:pt x="126" y="153"/>
                    </a:lnTo>
                    <a:lnTo>
                      <a:pt x="126" y="151"/>
                    </a:lnTo>
                    <a:lnTo>
                      <a:pt x="128" y="151"/>
                    </a:lnTo>
                    <a:lnTo>
                      <a:pt x="130" y="149"/>
                    </a:lnTo>
                    <a:lnTo>
                      <a:pt x="130" y="147"/>
                    </a:lnTo>
                    <a:lnTo>
                      <a:pt x="132" y="147"/>
                    </a:lnTo>
                    <a:lnTo>
                      <a:pt x="132" y="145"/>
                    </a:lnTo>
                    <a:lnTo>
                      <a:pt x="134" y="145"/>
                    </a:lnTo>
                    <a:lnTo>
                      <a:pt x="136" y="144"/>
                    </a:lnTo>
                    <a:lnTo>
                      <a:pt x="136" y="142"/>
                    </a:lnTo>
                    <a:lnTo>
                      <a:pt x="138" y="142"/>
                    </a:lnTo>
                    <a:lnTo>
                      <a:pt x="140" y="140"/>
                    </a:lnTo>
                    <a:lnTo>
                      <a:pt x="142" y="138"/>
                    </a:lnTo>
                    <a:lnTo>
                      <a:pt x="142" y="0"/>
                    </a:lnTo>
                    <a:lnTo>
                      <a:pt x="214" y="0"/>
                    </a:lnTo>
                    <a:lnTo>
                      <a:pt x="214" y="77"/>
                    </a:lnTo>
                    <a:lnTo>
                      <a:pt x="501" y="77"/>
                    </a:lnTo>
                    <a:lnTo>
                      <a:pt x="501" y="0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31800" y="2376360"/>
                <a:ext cx="259200" cy="179640"/>
              </a:xfrm>
              <a:custGeom>
                <a:avLst/>
                <a:gdLst/>
                <a:ahLst/>
                <a:rect l="0" t="0" r="r" b="b"/>
                <a:pathLst>
                  <a:path fill="none" w="720" h="499">
                    <a:moveTo>
                      <a:pt x="575" y="0"/>
                    </a:moveTo>
                    <a:lnTo>
                      <a:pt x="504" y="0"/>
                    </a:lnTo>
                    <a:lnTo>
                      <a:pt x="504" y="79"/>
                    </a:lnTo>
                    <a:lnTo>
                      <a:pt x="216" y="79"/>
                    </a:lnTo>
                    <a:lnTo>
                      <a:pt x="216" y="0"/>
                    </a:lnTo>
                    <a:lnTo>
                      <a:pt x="142" y="0"/>
                    </a:lnTo>
                    <a:lnTo>
                      <a:pt x="142" y="142"/>
                    </a:lnTo>
                    <a:lnTo>
                      <a:pt x="0" y="285"/>
                    </a:lnTo>
                    <a:lnTo>
                      <a:pt x="0" y="499"/>
                    </a:lnTo>
                    <a:lnTo>
                      <a:pt x="720" y="499"/>
                    </a:lnTo>
                    <a:lnTo>
                      <a:pt x="720" y="285"/>
                    </a:lnTo>
                    <a:lnTo>
                      <a:pt x="575" y="142"/>
                    </a:lnTo>
                    <a:lnTo>
                      <a:pt x="57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9848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4772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9552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9848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4772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59552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61960" y="196056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110" y="266"/>
                    </a:moveTo>
                    <a:lnTo>
                      <a:pt x="29" y="195"/>
                    </a:lnTo>
                    <a:lnTo>
                      <a:pt x="0" y="103"/>
                    </a:lnTo>
                    <a:lnTo>
                      <a:pt x="81" y="16"/>
                    </a:lnTo>
                    <a:lnTo>
                      <a:pt x="162" y="0"/>
                    </a:lnTo>
                    <a:lnTo>
                      <a:pt x="222" y="23"/>
                    </a:lnTo>
                    <a:lnTo>
                      <a:pt x="280" y="9"/>
                    </a:lnTo>
                    <a:lnTo>
                      <a:pt x="347" y="90"/>
                    </a:lnTo>
                    <a:lnTo>
                      <a:pt x="376" y="187"/>
                    </a:lnTo>
                    <a:lnTo>
                      <a:pt x="303" y="296"/>
                    </a:lnTo>
                    <a:lnTo>
                      <a:pt x="110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 txBox="1"/>
          <p:nvPr/>
        </p:nvSpPr>
        <p:spPr>
          <a:xfrm>
            <a:off x="1473120" y="1452600"/>
            <a:ext cx="952560" cy="40788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740720" y="61675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11600" y="4319640"/>
            <a:ext cx="1225440" cy="6382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allF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ferenc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162160" y="5195880"/>
            <a:ext cx="2712960" cy="6811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onf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nec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30560" y="3911760"/>
            <a:ext cx="1224000" cy="6382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allJ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ferenc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535640" y="4856040"/>
            <a:ext cx="475920" cy="5446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698920" y="4448160"/>
            <a:ext cx="66600" cy="95256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pps enabled by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01680" y="1461960"/>
            <a:ext cx="7675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 many to enum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ual interface to c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cus on verbal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much easier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C as a participant in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y/record on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ne handset as voice input/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to computer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hancing exis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Vari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201680" y="1461960"/>
            <a:ext cx="7675560" cy="52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havior of switches varies from one vendor 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which feature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what form those features 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variations appear in 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ry device with lineGetDevCaps, lineGetAddressC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bility bits” describe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bits describe variations i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device cla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201680" y="1461960"/>
            <a:ext cx="7675560" cy="42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straction of phone se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okswitch audio I/O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set, speaker, heads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nger, Display, Buttons and l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load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I provides query and manipulation of a phone’s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local audio input and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terminal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rminal” operations connect phone to line inter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n independently connect lamp events, button events, ring events, display events, hookswitch events, media str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.g., speaker and microphone to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752480" y="3567240"/>
            <a:ext cx="6172920" cy="3014640"/>
            <a:chOff x="1752480" y="3567240"/>
            <a:chExt cx="6172920" cy="3014640"/>
          </a:xfrm>
        </p:grpSpPr>
        <p:sp>
          <p:nvSpPr>
            <p:cNvPr id="443" name=""/>
            <p:cNvSpPr/>
            <p:nvPr/>
          </p:nvSpPr>
          <p:spPr>
            <a:xfrm flipH="1">
              <a:off x="4343400" y="4114800"/>
              <a:ext cx="2590920" cy="38088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735000" y="5008680"/>
              <a:ext cx="4190400" cy="1573200"/>
              <a:chOff x="3735000" y="5008680"/>
              <a:chExt cx="4190400" cy="1573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668920" y="5008680"/>
                <a:ext cx="2256480" cy="1573200"/>
                <a:chOff x="5668920" y="5008680"/>
                <a:chExt cx="2256480" cy="157320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7682040" y="5008680"/>
                  <a:ext cx="243360" cy="801360"/>
                  <a:chOff x="7682040" y="5008680"/>
                  <a:chExt cx="243360" cy="801360"/>
                </a:xfrm>
              </p:grpSpPr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7775640" y="5008680"/>
                    <a:ext cx="20520" cy="801360"/>
                    <a:chOff x="7775640" y="5008680"/>
                    <a:chExt cx="20520" cy="80136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7775640" y="5008680"/>
                      <a:ext cx="20520" cy="126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7775640" y="5018040"/>
                      <a:ext cx="20520" cy="7920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0" name=""/>
                  <p:cNvSpPr/>
                  <p:nvPr/>
                </p:nvSpPr>
                <p:spPr>
                  <a:xfrm>
                    <a:off x="7682040" y="5056200"/>
                    <a:ext cx="24336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w="676" h="32">
                        <a:moveTo>
                          <a:pt x="676" y="0"/>
                        </a:moveTo>
                        <a:lnTo>
                          <a:pt x="0" y="0"/>
                        </a:lnTo>
                        <a:lnTo>
                          <a:pt x="0" y="32"/>
                        </a:lnTo>
                        <a:lnTo>
                          <a:pt x="676" y="32"/>
                        </a:lnTo>
                        <a:lnTo>
                          <a:pt x="676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815160" y="5032440"/>
                  <a:ext cx="321120" cy="1147680"/>
                  <a:chOff x="6815160" y="5032440"/>
                  <a:chExt cx="321120" cy="114768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6946920" y="5032440"/>
                    <a:ext cx="27000" cy="1147680"/>
                    <a:chOff x="6946920" y="5032440"/>
                    <a:chExt cx="27000" cy="11476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6946920" y="5032440"/>
                      <a:ext cx="27000" cy="2052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6946920" y="5045040"/>
                      <a:ext cx="27000" cy="113508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5" name=""/>
                  <p:cNvSpPr/>
                  <p:nvPr/>
                </p:nvSpPr>
                <p:spPr>
                  <a:xfrm>
                    <a:off x="6815160" y="5083200"/>
                    <a:ext cx="321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892" h="72">
                        <a:moveTo>
                          <a:pt x="892" y="0"/>
                        </a:moveTo>
                        <a:lnTo>
                          <a:pt x="0" y="6"/>
                        </a:lnTo>
                        <a:lnTo>
                          <a:pt x="0" y="72"/>
                        </a:lnTo>
                        <a:lnTo>
                          <a:pt x="892" y="57"/>
                        </a:lnTo>
                        <a:lnTo>
                          <a:pt x="892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5668920" y="5040360"/>
                  <a:ext cx="468720" cy="1541520"/>
                  <a:chOff x="5668920" y="5040360"/>
                  <a:chExt cx="468720" cy="154152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854680" y="5040360"/>
                    <a:ext cx="47520" cy="1541520"/>
                    <a:chOff x="5854680" y="5040360"/>
                    <a:chExt cx="47520" cy="154152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5854680" y="5040360"/>
                      <a:ext cx="47520" cy="270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5854680" y="5056200"/>
                      <a:ext cx="47520" cy="152568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>
                    <a:off x="5668920" y="5126040"/>
                    <a:ext cx="46872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302" h="85">
                        <a:moveTo>
                          <a:pt x="1302" y="8"/>
                        </a:moveTo>
                        <a:lnTo>
                          <a:pt x="0" y="0"/>
                        </a:lnTo>
                        <a:lnTo>
                          <a:pt x="0" y="73"/>
                        </a:lnTo>
                        <a:lnTo>
                          <a:pt x="1302" y="85"/>
                        </a:lnTo>
                        <a:lnTo>
                          <a:pt x="1302" y="8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735000" y="5055840"/>
                <a:ext cx="4166280" cy="454320"/>
                <a:chOff x="3735000" y="5055840"/>
                <a:chExt cx="4166280" cy="45432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5702040" y="5055840"/>
                  <a:ext cx="2199240" cy="230760"/>
                  <a:chOff x="5702040" y="5055840"/>
                  <a:chExt cx="2199240" cy="2307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6040800" y="5097960"/>
                    <a:ext cx="1018800" cy="170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830" h="474">
                        <a:moveTo>
                          <a:pt x="0" y="114"/>
                        </a:moveTo>
                        <a:lnTo>
                          <a:pt x="0" y="114"/>
                        </a:lnTo>
                        <a:cubicBezTo>
                          <a:pt x="33" y="154"/>
                          <a:pt x="80" y="192"/>
                          <a:pt x="140" y="228"/>
                        </a:cubicBezTo>
                        <a:cubicBezTo>
                          <a:pt x="267" y="303"/>
                          <a:pt x="449" y="365"/>
                          <a:pt x="668" y="408"/>
                        </a:cubicBezTo>
                        <a:cubicBezTo>
                          <a:pt x="887" y="451"/>
                          <a:pt x="1136" y="474"/>
                          <a:pt x="1389" y="474"/>
                        </a:cubicBezTo>
                        <a:cubicBezTo>
                          <a:pt x="1642" y="474"/>
                          <a:pt x="1891" y="451"/>
                          <a:pt x="2110" y="408"/>
                        </a:cubicBezTo>
                        <a:cubicBezTo>
                          <a:pt x="2329" y="365"/>
                          <a:pt x="2511" y="303"/>
                          <a:pt x="2638" y="228"/>
                        </a:cubicBezTo>
                        <a:cubicBezTo>
                          <a:pt x="2756" y="158"/>
                          <a:pt x="2822" y="80"/>
                          <a:pt x="2830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057080" y="5056920"/>
                    <a:ext cx="844200" cy="1584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45" h="440">
                        <a:moveTo>
                          <a:pt x="0" y="107"/>
                        </a:moveTo>
                        <a:lnTo>
                          <a:pt x="0" y="107"/>
                        </a:lnTo>
                        <a:cubicBezTo>
                          <a:pt x="19" y="127"/>
                          <a:pt x="40" y="145"/>
                          <a:pt x="64" y="164"/>
                        </a:cubicBezTo>
                        <a:cubicBezTo>
                          <a:pt x="172" y="248"/>
                          <a:pt x="328" y="317"/>
                          <a:pt x="516" y="366"/>
                        </a:cubicBezTo>
                        <a:cubicBezTo>
                          <a:pt x="704" y="414"/>
                          <a:pt x="917" y="440"/>
                          <a:pt x="1134" y="440"/>
                        </a:cubicBezTo>
                        <a:cubicBezTo>
                          <a:pt x="1351" y="440"/>
                          <a:pt x="1565" y="414"/>
                          <a:pt x="1753" y="366"/>
                        </a:cubicBezTo>
                        <a:cubicBezTo>
                          <a:pt x="1941" y="317"/>
                          <a:pt x="2097" y="248"/>
                          <a:pt x="2205" y="164"/>
                        </a:cubicBezTo>
                        <a:cubicBezTo>
                          <a:pt x="2271" y="113"/>
                          <a:pt x="2318" y="58"/>
                          <a:pt x="2345" y="0"/>
                        </a:cubicBezTo>
                      </a:path>
                    </a:pathLst>
                  </a:custGeom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702040" y="5100120"/>
                    <a:ext cx="1162440" cy="1864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29" h="518">
                        <a:moveTo>
                          <a:pt x="0" y="77"/>
                        </a:moveTo>
                        <a:lnTo>
                          <a:pt x="0" y="77"/>
                        </a:lnTo>
                        <a:cubicBezTo>
                          <a:pt x="33" y="138"/>
                          <a:pt x="98" y="197"/>
                          <a:pt x="193" y="250"/>
                        </a:cubicBezTo>
                        <a:cubicBezTo>
                          <a:pt x="336" y="332"/>
                          <a:pt x="541" y="399"/>
                          <a:pt x="789" y="446"/>
                        </a:cubicBezTo>
                        <a:cubicBezTo>
                          <a:pt x="1036" y="493"/>
                          <a:pt x="1317" y="518"/>
                          <a:pt x="1602" y="518"/>
                        </a:cubicBezTo>
                        <a:cubicBezTo>
                          <a:pt x="1888" y="518"/>
                          <a:pt x="2169" y="493"/>
                          <a:pt x="2416" y="446"/>
                        </a:cubicBezTo>
                        <a:cubicBezTo>
                          <a:pt x="2663" y="399"/>
                          <a:pt x="2869" y="332"/>
                          <a:pt x="3012" y="250"/>
                        </a:cubicBezTo>
                        <a:cubicBezTo>
                          <a:pt x="3146" y="174"/>
                          <a:pt x="3221" y="88"/>
                          <a:pt x="3229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6863760" y="5055840"/>
                    <a:ext cx="858240" cy="154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84" h="430">
                        <a:moveTo>
                          <a:pt x="0" y="119"/>
                        </a:moveTo>
                        <a:lnTo>
                          <a:pt x="0" y="119"/>
                        </a:lnTo>
                        <a:cubicBezTo>
                          <a:pt x="15" y="133"/>
                          <a:pt x="31" y="146"/>
                          <a:pt x="49" y="159"/>
                        </a:cubicBezTo>
                        <a:cubicBezTo>
                          <a:pt x="160" y="241"/>
                          <a:pt x="320" y="310"/>
                          <a:pt x="512" y="357"/>
                        </a:cubicBezTo>
                        <a:cubicBezTo>
                          <a:pt x="705" y="405"/>
                          <a:pt x="923" y="430"/>
                          <a:pt x="1145" y="430"/>
                        </a:cubicBezTo>
                        <a:cubicBezTo>
                          <a:pt x="1367" y="430"/>
                          <a:pt x="1586" y="405"/>
                          <a:pt x="1778" y="357"/>
                        </a:cubicBezTo>
                        <a:cubicBezTo>
                          <a:pt x="1971" y="310"/>
                          <a:pt x="2130" y="241"/>
                          <a:pt x="2242" y="159"/>
                        </a:cubicBezTo>
                        <a:cubicBezTo>
                          <a:pt x="2308" y="110"/>
                          <a:pt x="2356" y="56"/>
                          <a:pt x="2384" y="0"/>
                        </a:cubicBezTo>
                      </a:path>
                    </a:pathLst>
                  </a:custGeom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3735000" y="5142240"/>
                  <a:ext cx="2300400" cy="367920"/>
                  <a:chOff x="3735000" y="5142240"/>
                  <a:chExt cx="2300400" cy="3679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4306680" y="5142240"/>
                    <a:ext cx="1728720" cy="3337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802" h="927">
                        <a:moveTo>
                          <a:pt x="0" y="224"/>
                        </a:moveTo>
                        <a:lnTo>
                          <a:pt x="0" y="224"/>
                        </a:lnTo>
                        <a:cubicBezTo>
                          <a:pt x="55" y="302"/>
                          <a:pt x="135" y="376"/>
                          <a:pt x="237" y="445"/>
                        </a:cubicBezTo>
                        <a:cubicBezTo>
                          <a:pt x="451" y="592"/>
                          <a:pt x="760" y="713"/>
                          <a:pt x="1132" y="798"/>
                        </a:cubicBezTo>
                        <a:cubicBezTo>
                          <a:pt x="1505" y="882"/>
                          <a:pt x="1927" y="927"/>
                          <a:pt x="2356" y="927"/>
                        </a:cubicBezTo>
                        <a:cubicBezTo>
                          <a:pt x="2786" y="927"/>
                          <a:pt x="3208" y="882"/>
                          <a:pt x="3580" y="798"/>
                        </a:cubicBezTo>
                        <a:cubicBezTo>
                          <a:pt x="3952" y="713"/>
                          <a:pt x="4261" y="592"/>
                          <a:pt x="4476" y="445"/>
                        </a:cubicBezTo>
                        <a:cubicBezTo>
                          <a:pt x="4675" y="310"/>
                          <a:pt x="4787" y="157"/>
                          <a:pt x="4802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735000" y="5146200"/>
                    <a:ext cx="1964160" cy="363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5456" h="1011">
                        <a:moveTo>
                          <a:pt x="0" y="151"/>
                        </a:moveTo>
                        <a:lnTo>
                          <a:pt x="0" y="151"/>
                        </a:lnTo>
                        <a:cubicBezTo>
                          <a:pt x="56" y="270"/>
                          <a:pt x="166" y="385"/>
                          <a:pt x="326" y="490"/>
                        </a:cubicBezTo>
                        <a:cubicBezTo>
                          <a:pt x="567" y="648"/>
                          <a:pt x="914" y="780"/>
                          <a:pt x="1332" y="871"/>
                        </a:cubicBezTo>
                        <a:cubicBezTo>
                          <a:pt x="1750" y="963"/>
                          <a:pt x="2225" y="1011"/>
                          <a:pt x="2707" y="1011"/>
                        </a:cubicBezTo>
                        <a:cubicBezTo>
                          <a:pt x="3190" y="1011"/>
                          <a:pt x="3664" y="963"/>
                          <a:pt x="4082" y="871"/>
                        </a:cubicBezTo>
                        <a:cubicBezTo>
                          <a:pt x="4500" y="780"/>
                          <a:pt x="4847" y="648"/>
                          <a:pt x="5089" y="490"/>
                        </a:cubicBezTo>
                        <a:cubicBezTo>
                          <a:pt x="5316" y="340"/>
                          <a:pt x="5442" y="172"/>
                          <a:pt x="5456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6691320" y="3567240"/>
              <a:ext cx="1157400" cy="77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1752480" y="4267080"/>
              <a:ext cx="2667240" cy="1676880"/>
              <a:chOff x="1752480" y="4267080"/>
              <a:chExt cx="2667240" cy="1676880"/>
            </a:xfrm>
          </p:grpSpPr>
          <p:sp>
            <p:nvSpPr>
              <p:cNvPr id="472" name=""/>
              <p:cNvSpPr/>
              <p:nvPr/>
            </p:nvSpPr>
            <p:spPr>
              <a:xfrm>
                <a:off x="1752480" y="4267080"/>
                <a:ext cx="2667240" cy="1676880"/>
              </a:xfrm>
              <a:custGeom>
                <a:avLst/>
                <a:gdLst/>
                <a:ahLst/>
                <a:rect l="0" t="0" r="r" b="b"/>
                <a:pathLst>
                  <a:path w="7409" h="4658">
                    <a:moveTo>
                      <a:pt x="0" y="0"/>
                    </a:moveTo>
                    <a:lnTo>
                      <a:pt x="0" y="4235"/>
                    </a:lnTo>
                    <a:lnTo>
                      <a:pt x="423" y="4235"/>
                    </a:lnTo>
                    <a:lnTo>
                      <a:pt x="423" y="4658"/>
                    </a:lnTo>
                    <a:lnTo>
                      <a:pt x="4022" y="4658"/>
                    </a:lnTo>
                    <a:lnTo>
                      <a:pt x="4022" y="4235"/>
                    </a:lnTo>
                    <a:lnTo>
                      <a:pt x="7409" y="4235"/>
                    </a:lnTo>
                    <a:lnTo>
                      <a:pt x="740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905120" y="5791320"/>
                <a:ext cx="1295280" cy="152280"/>
              </a:xfrm>
              <a:prstGeom prst="rect">
                <a:avLst/>
              </a:prstGeom>
              <a:solidFill>
                <a:srgbClr val="f5c3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 txBox="1"/>
            <p:nvPr/>
          </p:nvSpPr>
          <p:spPr>
            <a:xfrm>
              <a:off x="1809720" y="4471920"/>
              <a:ext cx="1936800" cy="11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-in board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herboard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 mod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3886200" y="4495680"/>
              <a:ext cx="457560" cy="914760"/>
              <a:chOff x="3886200" y="4495680"/>
              <a:chExt cx="457560" cy="914760"/>
            </a:xfrm>
          </p:grpSpPr>
          <p:sp>
            <p:nvSpPr>
              <p:cNvPr id="476" name=""/>
              <p:cNvSpPr/>
              <p:nvPr/>
            </p:nvSpPr>
            <p:spPr>
              <a:xfrm>
                <a:off x="3886200" y="4495680"/>
                <a:ext cx="457560" cy="457560"/>
              </a:xfrm>
              <a:custGeom>
                <a:avLst/>
                <a:gdLst/>
                <a:ahLst/>
                <a:rect l="0" t="0" r="r" b="b"/>
                <a:pathLst>
                  <a:path fill="none" w="1271" h="1271">
                    <a:moveTo>
                      <a:pt x="1271" y="0"/>
                    </a:moveTo>
                    <a:lnTo>
                      <a:pt x="1271" y="0"/>
                    </a:lnTo>
                    <a:cubicBezTo>
                      <a:pt x="1048" y="0"/>
                      <a:pt x="829" y="59"/>
                      <a:pt x="635" y="170"/>
                    </a:cubicBezTo>
                    <a:cubicBezTo>
                      <a:pt x="442" y="282"/>
                      <a:pt x="282" y="442"/>
                      <a:pt x="170" y="636"/>
                    </a:cubicBezTo>
                    <a:cubicBezTo>
                      <a:pt x="59" y="829"/>
                      <a:pt x="0" y="1048"/>
                      <a:pt x="0" y="1271"/>
                    </a:cubicBezTo>
                  </a:path>
                </a:pathLst>
              </a:custGeom>
              <a:ln w="25560">
                <a:solidFill>
                  <a:srgbClr val="ff3434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86200" y="4952880"/>
                <a:ext cx="457560" cy="457560"/>
              </a:xfrm>
              <a:custGeom>
                <a:avLst/>
                <a:gdLst/>
                <a:ahLst/>
                <a:rect l="0" t="0" r="r" b="b"/>
                <a:pathLst>
                  <a:path fill="none" w="1271" h="127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223"/>
                      <a:pt x="59" y="442"/>
                      <a:pt x="170" y="636"/>
                    </a:cubicBezTo>
                    <a:cubicBezTo>
                      <a:pt x="282" y="829"/>
                      <a:pt x="442" y="989"/>
                      <a:pt x="636" y="1101"/>
                    </a:cubicBezTo>
                    <a:cubicBezTo>
                      <a:pt x="829" y="1212"/>
                      <a:pt x="1048" y="1271"/>
                      <a:pt x="1271" y="1271"/>
                    </a:cubicBezTo>
                  </a:path>
                </a:pathLst>
              </a:custGeom>
              <a:ln w="25560">
                <a:solidFill>
                  <a:srgbClr val="ff3434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 txBox="1"/>
            <p:nvPr/>
          </p:nvSpPr>
          <p:spPr>
            <a:xfrm>
              <a:off x="4438800" y="4471920"/>
              <a:ext cx="1403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ne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access to “PBX”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de variety of switche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access to phone handse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ervice Provi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face defined in the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ctionality implemented by telephony equipment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terface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201680" y="1461960"/>
            <a:ext cx="767556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ilar to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arly the same set of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arly the sam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rt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eliminates multi-app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kes care of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focuses on device-specific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nnection mod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201680" y="1461960"/>
            <a:ext cx="76755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-line model has been sh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zed by telephony equipment on each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is designed to allow client-server service providers al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zed by a central “cluster” of telephony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ftware-only installation on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lient-server provid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930240" y="1523880"/>
            <a:ext cx="7951680" cy="4324680"/>
            <a:chOff x="930240" y="1523880"/>
            <a:chExt cx="7951680" cy="4324680"/>
          </a:xfrm>
        </p:grpSpPr>
        <p:sp>
          <p:nvSpPr>
            <p:cNvPr id="491" name=""/>
            <p:cNvSpPr txBox="1"/>
            <p:nvPr/>
          </p:nvSpPr>
          <p:spPr>
            <a:xfrm>
              <a:off x="1619280" y="1579680"/>
              <a:ext cx="6558120" cy="320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57400" y="4187880"/>
              <a:ext cx="3740040" cy="166068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65920" y="5311800"/>
              <a:ext cx="291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2920" y="5396040"/>
              <a:ext cx="2889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87880" y="5489640"/>
              <a:ext cx="2894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17720" y="369108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3720" y="1530360"/>
              <a:ext cx="3575160" cy="216072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2160720" y="2990880"/>
              <a:ext cx="1316160" cy="4111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lient St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54120" y="2870280"/>
              <a:ext cx="279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1063800" y="276084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1859040" y="2527200"/>
              <a:ext cx="1909800" cy="3430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 D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1069920" y="244152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3716280" y="4352760"/>
              <a:ext cx="2052720" cy="887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Provide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P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4920" y="38671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04080" y="368316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48280" y="1523880"/>
              <a:ext cx="3575160" cy="215892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245280" y="2982960"/>
              <a:ext cx="1316160" cy="4111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lient St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38680" y="2862360"/>
              <a:ext cx="279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5148360" y="275436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5945040" y="2521080"/>
              <a:ext cx="1908000" cy="341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 D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5156280" y="243360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34000" y="2516040"/>
              <a:ext cx="28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0600" y="3368520"/>
              <a:ext cx="166680" cy="595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15160" y="3392640"/>
              <a:ext cx="166680" cy="596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97280" y="3878280"/>
              <a:ext cx="166680" cy="5284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35280" y="3824280"/>
              <a:ext cx="4222800" cy="1652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994120" y="5349960"/>
              <a:ext cx="81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75080" y="5164200"/>
              <a:ext cx="1607040" cy="484560"/>
              <a:chOff x="4375080" y="5164200"/>
              <a:chExt cx="1607040" cy="484560"/>
            </a:xfrm>
          </p:grpSpPr>
          <p:sp>
            <p:nvSpPr>
              <p:cNvPr id="519" name=""/>
              <p:cNvSpPr/>
              <p:nvPr/>
            </p:nvSpPr>
            <p:spPr>
              <a:xfrm>
                <a:off x="459252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e2b299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73076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6900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00688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14512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8480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2304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56092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75080" y="5164200"/>
                <a:ext cx="1580040" cy="470160"/>
              </a:xfrm>
              <a:custGeom>
                <a:avLst/>
                <a:gdLst/>
                <a:ahLst/>
                <a:rect l="0" t="0" r="r" b="b"/>
                <a:pathLst>
                  <a:path w="4389" h="1306">
                    <a:moveTo>
                      <a:pt x="418" y="0"/>
                    </a:moveTo>
                    <a:lnTo>
                      <a:pt x="4389" y="0"/>
                    </a:lnTo>
                    <a:lnTo>
                      <a:pt x="4374" y="1306"/>
                    </a:lnTo>
                    <a:lnTo>
                      <a:pt x="362" y="1306"/>
                    </a:lnTo>
                    <a:lnTo>
                      <a:pt x="306" y="1287"/>
                    </a:lnTo>
                    <a:lnTo>
                      <a:pt x="7" y="1287"/>
                    </a:lnTo>
                    <a:lnTo>
                      <a:pt x="7" y="737"/>
                    </a:lnTo>
                    <a:lnTo>
                      <a:pt x="365" y="737"/>
                    </a:lnTo>
                    <a:lnTo>
                      <a:pt x="365" y="701"/>
                    </a:lnTo>
                    <a:lnTo>
                      <a:pt x="313" y="701"/>
                    </a:lnTo>
                    <a:lnTo>
                      <a:pt x="313" y="597"/>
                    </a:lnTo>
                    <a:lnTo>
                      <a:pt x="0" y="597"/>
                    </a:lnTo>
                    <a:lnTo>
                      <a:pt x="0" y="29"/>
                    </a:lnTo>
                    <a:lnTo>
                      <a:pt x="328" y="29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e2b2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75080" y="5164200"/>
                <a:ext cx="1595880" cy="484560"/>
              </a:xfrm>
              <a:custGeom>
                <a:avLst/>
                <a:gdLst/>
                <a:ahLst/>
                <a:rect l="0" t="0" r="r" b="b"/>
                <a:pathLst>
                  <a:path fill="none" w="4433" h="1346">
                    <a:moveTo>
                      <a:pt x="422" y="0"/>
                    </a:moveTo>
                    <a:lnTo>
                      <a:pt x="4433" y="0"/>
                    </a:lnTo>
                    <a:lnTo>
                      <a:pt x="4414" y="1346"/>
                    </a:lnTo>
                    <a:lnTo>
                      <a:pt x="365" y="1346"/>
                    </a:lnTo>
                    <a:lnTo>
                      <a:pt x="309" y="1328"/>
                    </a:lnTo>
                    <a:lnTo>
                      <a:pt x="7" y="1328"/>
                    </a:lnTo>
                    <a:lnTo>
                      <a:pt x="7" y="762"/>
                    </a:lnTo>
                    <a:lnTo>
                      <a:pt x="369" y="762"/>
                    </a:lnTo>
                    <a:lnTo>
                      <a:pt x="369" y="724"/>
                    </a:lnTo>
                    <a:lnTo>
                      <a:pt x="316" y="724"/>
                    </a:lnTo>
                    <a:lnTo>
                      <a:pt x="316" y="618"/>
                    </a:lnTo>
                    <a:lnTo>
                      <a:pt x="0" y="618"/>
                    </a:lnTo>
                    <a:lnTo>
                      <a:pt x="0" y="33"/>
                    </a:lnTo>
                    <a:lnTo>
                      <a:pt x="331" y="33"/>
                    </a:lnTo>
                    <a:lnTo>
                      <a:pt x="42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94200" y="5181480"/>
                <a:ext cx="144720" cy="236880"/>
              </a:xfrm>
              <a:custGeom>
                <a:avLst/>
                <a:gdLst/>
                <a:ahLst/>
                <a:rect l="0" t="0" r="r" b="b"/>
                <a:pathLst>
                  <a:path w="402" h="658">
                    <a:moveTo>
                      <a:pt x="0" y="0"/>
                    </a:moveTo>
                    <a:lnTo>
                      <a:pt x="0" y="658"/>
                    </a:lnTo>
                    <a:lnTo>
                      <a:pt x="364" y="658"/>
                    </a:lnTo>
                    <a:lnTo>
                      <a:pt x="364" y="611"/>
                    </a:lnTo>
                    <a:lnTo>
                      <a:pt x="223" y="583"/>
                    </a:lnTo>
                    <a:lnTo>
                      <a:pt x="223" y="74"/>
                    </a:lnTo>
                    <a:lnTo>
                      <a:pt x="402" y="39"/>
                    </a:lnTo>
                    <a:lnTo>
                      <a:pt x="40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64120" y="5554800"/>
                <a:ext cx="3600" cy="79560"/>
              </a:xfrm>
              <a:custGeom>
                <a:avLst/>
                <a:gdLst/>
                <a:ahLst/>
                <a:rect l="0" t="0" r="r" b="b"/>
                <a:pathLst>
                  <a:path w="10" h="221">
                    <a:moveTo>
                      <a:pt x="0" y="0"/>
                    </a:moveTo>
                    <a:lnTo>
                      <a:pt x="10" y="0"/>
                    </a:lnTo>
                    <a:lnTo>
                      <a:pt x="10" y="221"/>
                    </a:lnTo>
                    <a:lnTo>
                      <a:pt x="0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64120" y="5554800"/>
                <a:ext cx="18000" cy="93960"/>
              </a:xfrm>
              <a:custGeom>
                <a:avLst/>
                <a:gdLst/>
                <a:ahLst/>
                <a:rect l="0" t="0" r="r" b="b"/>
                <a:pathLst>
                  <a:path fill="none" w="50" h="261">
                    <a:moveTo>
                      <a:pt x="0" y="0"/>
                    </a:moveTo>
                    <a:lnTo>
                      <a:pt x="50" y="0"/>
                    </a:lnTo>
                    <a:lnTo>
                      <a:pt x="50" y="261"/>
                    </a:lnTo>
                    <a:lnTo>
                      <a:pt x="0" y="26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64120" y="5423040"/>
                <a:ext cx="3600" cy="81360"/>
              </a:xfrm>
              <a:custGeom>
                <a:avLst/>
                <a:gdLst/>
                <a:ahLst/>
                <a:rect l="0" t="0" r="r" b="b"/>
                <a:pathLst>
                  <a:path w="10" h="226">
                    <a:moveTo>
                      <a:pt x="0" y="0"/>
                    </a:moveTo>
                    <a:lnTo>
                      <a:pt x="10" y="0"/>
                    </a:lnTo>
                    <a:lnTo>
                      <a:pt x="10" y="226"/>
                    </a:lnTo>
                    <a:lnTo>
                      <a:pt x="0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64120" y="5423040"/>
                <a:ext cx="18000" cy="95760"/>
              </a:xfrm>
              <a:custGeom>
                <a:avLst/>
                <a:gdLst/>
                <a:ahLst/>
                <a:rect l="0" t="0" r="r" b="b"/>
                <a:pathLst>
                  <a:path fill="none" w="50" h="266">
                    <a:moveTo>
                      <a:pt x="3" y="0"/>
                    </a:moveTo>
                    <a:lnTo>
                      <a:pt x="50" y="0"/>
                    </a:lnTo>
                    <a:lnTo>
                      <a:pt x="50" y="266"/>
                    </a:lnTo>
                    <a:lnTo>
                      <a:pt x="0" y="266"/>
                    </a:lnTo>
                    <a:lnTo>
                      <a:pt x="3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81720" y="519120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81720" y="51912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81720" y="523080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81720" y="52308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81720" y="527040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1720" y="52704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81720" y="531036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81720" y="531036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81720" y="534996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81720" y="5349960"/>
                <a:ext cx="171720" cy="28800"/>
              </a:xfrm>
              <a:custGeom>
                <a:avLst/>
                <a:gdLst/>
                <a:ahLst/>
                <a:rect l="0" t="0" r="r" b="b"/>
                <a:pathLst>
                  <a:path fill="none" w="477" h="80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41840" y="54547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1840" y="54547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41840" y="549432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41840" y="54943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641840" y="553392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41840" y="55339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641840" y="557388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641840" y="5573880"/>
                <a:ext cx="170280" cy="27360"/>
              </a:xfrm>
              <a:custGeom>
                <a:avLst/>
                <a:gdLst/>
                <a:ahLst/>
                <a:rect l="0" t="0" r="r" b="b"/>
                <a:pathLst>
                  <a:path fill="none" w="473" h="76">
                    <a:moveTo>
                      <a:pt x="0" y="0"/>
                    </a:moveTo>
                    <a:lnTo>
                      <a:pt x="473" y="0"/>
                    </a:lnTo>
                    <a:lnTo>
                      <a:pt x="473" y="76"/>
                    </a:lnTo>
                    <a:lnTo>
                      <a:pt x="0" y="7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81720" y="554508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81720" y="554508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81720" y="558468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81720" y="558468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82960" y="536724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82960" y="536724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35440" y="536724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35440" y="536724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51320" y="519264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51320" y="519264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51320" y="531036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51320" y="531036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51320" y="542772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51320" y="5427720"/>
                <a:ext cx="51120" cy="71640"/>
              </a:xfrm>
              <a:custGeom>
                <a:avLst/>
                <a:gdLst/>
                <a:ahLst/>
                <a:rect l="0" t="0" r="r" b="b"/>
                <a:pathLst>
                  <a:path fill="none" w="142" h="199">
                    <a:moveTo>
                      <a:pt x="0" y="0"/>
                    </a:moveTo>
                    <a:lnTo>
                      <a:pt x="142" y="0"/>
                    </a:lnTo>
                    <a:lnTo>
                      <a:pt x="142" y="199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51320" y="554508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51320" y="554508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59280" y="5194440"/>
                <a:ext cx="144720" cy="203400"/>
              </a:xfrm>
              <a:custGeom>
                <a:avLst/>
                <a:gdLst/>
                <a:ahLst/>
                <a:rect l="0" t="0" r="r" b="b"/>
                <a:pathLst>
                  <a:path w="402" h="565">
                    <a:moveTo>
                      <a:pt x="0" y="565"/>
                    </a:moveTo>
                    <a:lnTo>
                      <a:pt x="0" y="0"/>
                    </a:lnTo>
                    <a:lnTo>
                      <a:pt x="402" y="0"/>
                    </a:lnTo>
                    <a:lnTo>
                      <a:pt x="402" y="565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59280" y="5194440"/>
                <a:ext cx="157680" cy="217800"/>
              </a:xfrm>
              <a:custGeom>
                <a:avLst/>
                <a:gdLst/>
                <a:ahLst/>
                <a:rect l="0" t="0" r="r" b="b"/>
                <a:pathLst>
                  <a:path fill="none" w="438" h="605">
                    <a:moveTo>
                      <a:pt x="0" y="0"/>
                    </a:moveTo>
                    <a:lnTo>
                      <a:pt x="438" y="0"/>
                    </a:lnTo>
                    <a:lnTo>
                      <a:pt x="438" y="605"/>
                    </a:lnTo>
                    <a:lnTo>
                      <a:pt x="0" y="60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15000" y="519120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15000" y="51912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15000" y="523080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715000" y="52308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15000" y="527040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15000" y="52704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15000" y="531036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715000" y="531036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15000" y="534996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15000" y="534996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15000" y="538812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15000" y="53881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715000" y="54277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15000" y="54277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715000" y="54673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715000" y="54673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15000" y="55069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715000" y="55069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715000" y="554508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15000" y="554508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15000" y="558468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15000" y="558468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30880" y="519264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30880" y="519264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30880" y="531036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330880" y="531036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30880" y="531036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30880" y="542772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30880" y="5427720"/>
                <a:ext cx="49680" cy="71640"/>
              </a:xfrm>
              <a:custGeom>
                <a:avLst/>
                <a:gdLst/>
                <a:ahLst/>
                <a:rect l="0" t="0" r="r" b="b"/>
                <a:pathLst>
                  <a:path fill="none" w="138" h="199">
                    <a:moveTo>
                      <a:pt x="0" y="0"/>
                    </a:moveTo>
                    <a:lnTo>
                      <a:pt x="138" y="0"/>
                    </a:lnTo>
                    <a:lnTo>
                      <a:pt x="138" y="199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30880" y="554508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30880" y="554508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97600" y="5446800"/>
                <a:ext cx="76680" cy="149760"/>
              </a:xfrm>
              <a:custGeom>
                <a:avLst/>
                <a:gdLst/>
                <a:ahLst/>
                <a:rect l="0" t="0" r="r" b="b"/>
                <a:pathLst>
                  <a:path w="213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13" y="0"/>
                    </a:lnTo>
                    <a:lnTo>
                      <a:pt x="213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97600" y="5446800"/>
                <a:ext cx="90720" cy="163800"/>
              </a:xfrm>
              <a:custGeom>
                <a:avLst/>
                <a:gdLst/>
                <a:ahLst/>
                <a:rect l="0" t="0" r="r" b="b"/>
                <a:pathLst>
                  <a:path fill="none" w="252" h="455">
                    <a:moveTo>
                      <a:pt x="0" y="0"/>
                    </a:moveTo>
                    <a:lnTo>
                      <a:pt x="252" y="0"/>
                    </a:lnTo>
                    <a:lnTo>
                      <a:pt x="252" y="455"/>
                    </a:lnTo>
                    <a:lnTo>
                      <a:pt x="0" y="45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978440" y="5448240"/>
                <a:ext cx="74880" cy="149760"/>
              </a:xfrm>
              <a:custGeom>
                <a:avLst/>
                <a:gdLst/>
                <a:ahLst/>
                <a:rect l="0" t="0" r="r" b="b"/>
                <a:pathLst>
                  <a:path w="208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08" y="0"/>
                    </a:lnTo>
                    <a:lnTo>
                      <a:pt x="208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78440" y="5448240"/>
                <a:ext cx="89280" cy="162360"/>
              </a:xfrm>
              <a:custGeom>
                <a:avLst/>
                <a:gdLst/>
                <a:ahLst/>
                <a:rect l="0" t="0" r="r" b="b"/>
                <a:pathLst>
                  <a:path fill="none" w="248" h="451">
                    <a:moveTo>
                      <a:pt x="0" y="0"/>
                    </a:moveTo>
                    <a:lnTo>
                      <a:pt x="248" y="0"/>
                    </a:lnTo>
                    <a:lnTo>
                      <a:pt x="248" y="451"/>
                    </a:lnTo>
                    <a:lnTo>
                      <a:pt x="0" y="45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856040" y="5450040"/>
                <a:ext cx="78120" cy="149760"/>
              </a:xfrm>
              <a:custGeom>
                <a:avLst/>
                <a:gdLst/>
                <a:ahLst/>
                <a:rect l="0" t="0" r="r" b="b"/>
                <a:pathLst>
                  <a:path w="217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17" y="0"/>
                    </a:lnTo>
                    <a:lnTo>
                      <a:pt x="217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856040" y="5450040"/>
                <a:ext cx="92520" cy="162360"/>
              </a:xfrm>
              <a:custGeom>
                <a:avLst/>
                <a:gdLst/>
                <a:ahLst/>
                <a:rect l="0" t="0" r="r" b="b"/>
                <a:pathLst>
                  <a:path fill="none" w="257" h="451">
                    <a:moveTo>
                      <a:pt x="0" y="0"/>
                    </a:moveTo>
                    <a:lnTo>
                      <a:pt x="257" y="0"/>
                    </a:lnTo>
                    <a:lnTo>
                      <a:pt x="257" y="451"/>
                    </a:lnTo>
                    <a:lnTo>
                      <a:pt x="0" y="45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033880" y="5194440"/>
                <a:ext cx="144720" cy="203400"/>
              </a:xfrm>
              <a:custGeom>
                <a:avLst/>
                <a:gdLst/>
                <a:ahLst/>
                <a:rect l="0" t="0" r="r" b="b"/>
                <a:pathLst>
                  <a:path w="402" h="565">
                    <a:moveTo>
                      <a:pt x="0" y="565"/>
                    </a:moveTo>
                    <a:lnTo>
                      <a:pt x="0" y="0"/>
                    </a:lnTo>
                    <a:lnTo>
                      <a:pt x="402" y="0"/>
                    </a:lnTo>
                    <a:lnTo>
                      <a:pt x="402" y="565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033880" y="5194440"/>
                <a:ext cx="157680" cy="217800"/>
              </a:xfrm>
              <a:custGeom>
                <a:avLst/>
                <a:gdLst/>
                <a:ahLst/>
                <a:rect l="0" t="0" r="r" b="b"/>
                <a:pathLst>
                  <a:path fill="none" w="438" h="605">
                    <a:moveTo>
                      <a:pt x="0" y="0"/>
                    </a:moveTo>
                    <a:lnTo>
                      <a:pt x="438" y="0"/>
                    </a:lnTo>
                    <a:lnTo>
                      <a:pt x="438" y="605"/>
                    </a:lnTo>
                    <a:lnTo>
                      <a:pt x="0" y="60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89360" y="536904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89360" y="536904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41840" y="536904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41840" y="536904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82960" y="520056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82960" y="520056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35440" y="520056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35440" y="520056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89360" y="520056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89360" y="520056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41840" y="520056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1840" y="520056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2960" y="524340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82960" y="524340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35440" y="524340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35440" y="524340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89360" y="524340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89360" y="52434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641840" y="524340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41840" y="52434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82960" y="528480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82960" y="5284800"/>
                <a:ext cx="39960" cy="32040"/>
              </a:xfrm>
              <a:custGeom>
                <a:avLst/>
                <a:gdLst/>
                <a:ahLst/>
                <a:rect l="0" t="0" r="r" b="b"/>
                <a:pathLst>
                  <a:path fill="none" w="111" h="89">
                    <a:moveTo>
                      <a:pt x="0" y="0"/>
                    </a:moveTo>
                    <a:lnTo>
                      <a:pt x="111" y="0"/>
                    </a:lnTo>
                    <a:lnTo>
                      <a:pt x="111" y="89"/>
                    </a:lnTo>
                    <a:lnTo>
                      <a:pt x="0" y="8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35440" y="528480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35440" y="5284800"/>
                <a:ext cx="39960" cy="32040"/>
              </a:xfrm>
              <a:custGeom>
                <a:avLst/>
                <a:gdLst/>
                <a:ahLst/>
                <a:rect l="0" t="0" r="r" b="b"/>
                <a:pathLst>
                  <a:path fill="none" w="111" h="89">
                    <a:moveTo>
                      <a:pt x="0" y="0"/>
                    </a:moveTo>
                    <a:lnTo>
                      <a:pt x="111" y="0"/>
                    </a:lnTo>
                    <a:lnTo>
                      <a:pt x="111" y="89"/>
                    </a:lnTo>
                    <a:lnTo>
                      <a:pt x="0" y="8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89360" y="528480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89360" y="52848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41840" y="528480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41840" y="52848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82960" y="532296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782960" y="532296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35440" y="532296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735440" y="532296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89360" y="532296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89360" y="5322960"/>
                <a:ext cx="38520" cy="35280"/>
              </a:xfrm>
              <a:custGeom>
                <a:avLst/>
                <a:gdLst/>
                <a:ahLst/>
                <a:rect l="0" t="0" r="r" b="b"/>
                <a:pathLst>
                  <a:path fill="none" w="107" h="98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41840" y="532296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641840" y="5322960"/>
                <a:ext cx="38520" cy="35280"/>
              </a:xfrm>
              <a:custGeom>
                <a:avLst/>
                <a:gdLst/>
                <a:ahLst/>
                <a:rect l="0" t="0" r="r" b="b"/>
                <a:pathLst>
                  <a:path fill="none" w="107" h="98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81720" y="538812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481720" y="53881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81720" y="54277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81720" y="54277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81720" y="54673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481720" y="54673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1720" y="55069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481720" y="5506920"/>
                <a:ext cx="171720" cy="28800"/>
              </a:xfrm>
              <a:custGeom>
                <a:avLst/>
                <a:gdLst/>
                <a:ahLst/>
                <a:rect l="0" t="0" r="r" b="b"/>
                <a:pathLst>
                  <a:path fill="none" w="477" h="80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81560" y="54500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81560" y="54799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81560" y="551196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81560" y="55436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381560" y="55753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381560" y="560700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81560" y="51926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81560" y="52243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381560" y="5256360"/>
                <a:ext cx="95040" cy="0"/>
              </a:xfrm>
              <a:custGeom>
                <a:avLst/>
                <a:gdLst/>
                <a:ahLst/>
                <a:rect l="0" t="0" r="r" b="b"/>
                <a:pathLst>
                  <a:path w="264" h="0">
                    <a:moveTo>
                      <a:pt x="0" y="0"/>
                    </a:moveTo>
                    <a:lnTo>
                      <a:pt x="0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381560" y="5286240"/>
                <a:ext cx="95760" cy="3600"/>
              </a:xfrm>
              <a:custGeom>
                <a:avLst/>
                <a:gdLst/>
                <a:ahLst/>
                <a:rect l="0" t="0" r="r" b="b"/>
                <a:pathLst>
                  <a:path w="266" h="10">
                    <a:moveTo>
                      <a:pt x="0" y="0"/>
                    </a:moveTo>
                    <a:lnTo>
                      <a:pt x="0" y="10"/>
                    </a:lnTo>
                    <a:lnTo>
                      <a:pt x="266" y="10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381560" y="53197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1560" y="534996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 txBox="1"/>
            <p:nvPr/>
          </p:nvSpPr>
          <p:spPr>
            <a:xfrm>
              <a:off x="930240" y="3425760"/>
              <a:ext cx="108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 P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5024520" y="3408480"/>
              <a:ext cx="108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 P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549440" y="1654200"/>
              <a:ext cx="2565360" cy="869760"/>
              <a:chOff x="1549440" y="1654200"/>
              <a:chExt cx="2565360" cy="86976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7600" y="1662120"/>
                <a:ext cx="750960" cy="7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71480" y="1687680"/>
                <a:ext cx="573120" cy="38088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1703520" y="178740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82920" y="1662120"/>
                <a:ext cx="741240" cy="7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567160" y="1687680"/>
                <a:ext cx="563400" cy="380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7080" y="1654200"/>
                <a:ext cx="747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3456000" y="1677960"/>
                <a:ext cx="573120" cy="387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49440" y="2523960"/>
                <a:ext cx="280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 txBox="1"/>
              <p:nvPr/>
            </p:nvSpPr>
            <p:spPr>
              <a:xfrm>
                <a:off x="2597040" y="178272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 txBox="1"/>
              <p:nvPr/>
            </p:nvSpPr>
            <p:spPr>
              <a:xfrm>
                <a:off x="3490920" y="177804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635800" y="1639800"/>
              <a:ext cx="2565360" cy="868320"/>
              <a:chOff x="5635800" y="1639800"/>
              <a:chExt cx="2565360" cy="868320"/>
            </a:xfrm>
          </p:grpSpPr>
          <p:pic>
            <p:nvPicPr>
              <p:cNvPr id="6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73600" y="1647720"/>
                <a:ext cx="75096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5757840" y="1671480"/>
                <a:ext cx="573120" cy="38088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5789520" y="177336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68920" y="1647720"/>
                <a:ext cx="741240" cy="7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6653160" y="1671480"/>
                <a:ext cx="563400" cy="3826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3440" y="1639800"/>
                <a:ext cx="747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7542360" y="1663560"/>
                <a:ext cx="573120" cy="387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35800" y="2508120"/>
                <a:ext cx="280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6683400" y="176832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7577280" y="176220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 txBox="1"/>
            <p:nvPr/>
          </p:nvSpPr>
          <p:spPr>
            <a:xfrm>
              <a:off x="7081920" y="3789360"/>
              <a:ext cx="12240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Are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214280" y="276120"/>
            <a:ext cx="766620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odelling the telephone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201680" y="1461960"/>
            <a:ext cx="7675560" cy="51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ypically a line object represents a single “wir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one call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line may represent a whole pool of similar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y physical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network supporting multiple logical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“call center”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enefits of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01680" y="1461960"/>
            <a:ext cx="767556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application progr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o a singl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 with a variety of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hardware ve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o a singl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 with a variety of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reased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way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1981080" y="3657600"/>
            <a:ext cx="4121640" cy="2591280"/>
            <a:chOff x="1981080" y="3657600"/>
            <a:chExt cx="4121640" cy="2591280"/>
          </a:xfrm>
        </p:grpSpPr>
        <p:sp>
          <p:nvSpPr>
            <p:cNvPr id="693" name=""/>
            <p:cNvSpPr/>
            <p:nvPr/>
          </p:nvSpPr>
          <p:spPr>
            <a:xfrm>
              <a:off x="1981080" y="3657600"/>
              <a:ext cx="4121640" cy="2591280"/>
            </a:xfrm>
            <a:custGeom>
              <a:avLst/>
              <a:gdLst/>
              <a:ahLst/>
              <a:rect l="0" t="0" r="r" b="b"/>
              <a:pathLst>
                <a:path w="11449" h="7198">
                  <a:moveTo>
                    <a:pt x="0" y="0"/>
                  </a:moveTo>
                  <a:lnTo>
                    <a:pt x="0" y="6544"/>
                  </a:lnTo>
                  <a:lnTo>
                    <a:pt x="654" y="6544"/>
                  </a:lnTo>
                  <a:lnTo>
                    <a:pt x="654" y="7198"/>
                  </a:lnTo>
                  <a:lnTo>
                    <a:pt x="6215" y="7198"/>
                  </a:lnTo>
                  <a:lnTo>
                    <a:pt x="6215" y="6544"/>
                  </a:lnTo>
                  <a:lnTo>
                    <a:pt x="11449" y="6544"/>
                  </a:lnTo>
                  <a:lnTo>
                    <a:pt x="114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dc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6160" y="6013440"/>
              <a:ext cx="2001960" cy="235080"/>
            </a:xfrm>
            <a:prstGeom prst="rect">
              <a:avLst/>
            </a:prstGeom>
            <a:solidFill>
              <a:srgbClr val="f5c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se we build a two-line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line has a D/A converter &amp; cod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se to support “voice”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one is a “chann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487480" y="5257800"/>
            <a:ext cx="2917080" cy="1095480"/>
            <a:chOff x="5487480" y="5257800"/>
            <a:chExt cx="2917080" cy="1095480"/>
          </a:xfrm>
        </p:grpSpPr>
        <p:grpSp>
          <p:nvGrpSpPr>
            <p:cNvPr id="698" name=""/>
            <p:cNvGrpSpPr/>
            <p:nvPr/>
          </p:nvGrpSpPr>
          <p:grpSpPr>
            <a:xfrm>
              <a:off x="6834240" y="5257800"/>
              <a:ext cx="1570320" cy="1095480"/>
              <a:chOff x="6834240" y="5257800"/>
              <a:chExt cx="1570320" cy="109548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8234280" y="5257800"/>
                <a:ext cx="170280" cy="559080"/>
                <a:chOff x="8234280" y="5257800"/>
                <a:chExt cx="170280" cy="55908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8300880" y="5257800"/>
                  <a:ext cx="14400" cy="559080"/>
                  <a:chOff x="8300880" y="5257800"/>
                  <a:chExt cx="14400" cy="5590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8300880" y="5257800"/>
                    <a:ext cx="1440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8300880" y="5264280"/>
                    <a:ext cx="14400" cy="55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3" name=""/>
                <p:cNvSpPr/>
                <p:nvPr/>
              </p:nvSpPr>
              <p:spPr>
                <a:xfrm>
                  <a:off x="8234280" y="5291280"/>
                  <a:ext cx="170280" cy="8280"/>
                </a:xfrm>
                <a:custGeom>
                  <a:avLst/>
                  <a:gdLst/>
                  <a:ahLst/>
                  <a:rect l="0" t="0" r="r" b="b"/>
                  <a:pathLst>
                    <a:path w="473" h="23">
                      <a:moveTo>
                        <a:pt x="473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473" y="23"/>
                      </a:lnTo>
                      <a:lnTo>
                        <a:pt x="47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7631280" y="5273640"/>
                <a:ext cx="224280" cy="800280"/>
                <a:chOff x="7631280" y="5273640"/>
                <a:chExt cx="224280" cy="80028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23080" y="5273640"/>
                  <a:ext cx="19080" cy="800280"/>
                  <a:chOff x="7723080" y="5273640"/>
                  <a:chExt cx="19080" cy="80028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7723080" y="5273640"/>
                    <a:ext cx="19080" cy="1440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723080" y="5283360"/>
                    <a:ext cx="19080" cy="7905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"/>
                <p:cNvSpPr/>
                <p:nvPr/>
              </p:nvSpPr>
              <p:spPr>
                <a:xfrm>
                  <a:off x="7631280" y="5310360"/>
                  <a:ext cx="224280" cy="18000"/>
                </a:xfrm>
                <a:custGeom>
                  <a:avLst/>
                  <a:gdLst/>
                  <a:ahLst/>
                  <a:rect l="0" t="0" r="r" b="b"/>
                  <a:pathLst>
                    <a:path w="623" h="50">
                      <a:moveTo>
                        <a:pt x="623" y="0"/>
                      </a:moveTo>
                      <a:lnTo>
                        <a:pt x="0" y="4"/>
                      </a:lnTo>
                      <a:lnTo>
                        <a:pt x="0" y="50"/>
                      </a:lnTo>
                      <a:lnTo>
                        <a:pt x="623" y="40"/>
                      </a:lnTo>
                      <a:lnTo>
                        <a:pt x="62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6834240" y="5280120"/>
                <a:ext cx="325800" cy="1073160"/>
                <a:chOff x="6834240" y="5280120"/>
                <a:chExt cx="325800" cy="107316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6962760" y="5280120"/>
                  <a:ext cx="33480" cy="1073160"/>
                  <a:chOff x="6962760" y="5280120"/>
                  <a:chExt cx="33480" cy="10731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6962760" y="5280120"/>
                    <a:ext cx="33480" cy="1908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962760" y="5291280"/>
                    <a:ext cx="33480" cy="1062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6834240" y="5340240"/>
                  <a:ext cx="325800" cy="20880"/>
                </a:xfrm>
                <a:custGeom>
                  <a:avLst/>
                  <a:gdLst/>
                  <a:ahLst/>
                  <a:rect l="0" t="0" r="r" b="b"/>
                  <a:pathLst>
                    <a:path w="905" h="58">
                      <a:moveTo>
                        <a:pt x="905" y="5"/>
                      </a:move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905" y="58"/>
                      </a:lnTo>
                      <a:lnTo>
                        <a:pt x="905" y="5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4" name=""/>
            <p:cNvGrpSpPr/>
            <p:nvPr/>
          </p:nvGrpSpPr>
          <p:grpSpPr>
            <a:xfrm>
              <a:off x="5487480" y="5290200"/>
              <a:ext cx="2900880" cy="317520"/>
              <a:chOff x="5487480" y="5290200"/>
              <a:chExt cx="2900880" cy="31752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6856560" y="5290200"/>
                <a:ext cx="1531800" cy="161640"/>
                <a:chOff x="6856560" y="5290200"/>
                <a:chExt cx="1531800" cy="1616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092360" y="5319720"/>
                  <a:ext cx="710280" cy="118080"/>
                </a:xfrm>
                <a:custGeom>
                  <a:avLst/>
                  <a:gdLst/>
                  <a:ahLst/>
                  <a:rect l="0" t="0" r="r" b="b"/>
                  <a:pathLst>
                    <a:path fill="none" w="1973" h="328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23" y="107"/>
                        <a:pt x="55" y="133"/>
                        <a:pt x="97" y="158"/>
                      </a:cubicBezTo>
                      <a:cubicBezTo>
                        <a:pt x="186" y="210"/>
                        <a:pt x="313" y="253"/>
                        <a:pt x="465" y="283"/>
                      </a:cubicBezTo>
                      <a:cubicBezTo>
                        <a:pt x="618" y="313"/>
                        <a:pt x="792" y="328"/>
                        <a:pt x="968" y="328"/>
                      </a:cubicBezTo>
                      <a:cubicBezTo>
                        <a:pt x="1145" y="328"/>
                        <a:pt x="1318" y="313"/>
                        <a:pt x="1471" y="283"/>
                      </a:cubicBezTo>
                      <a:cubicBezTo>
                        <a:pt x="1624" y="253"/>
                        <a:pt x="1751" y="210"/>
                        <a:pt x="1839" y="158"/>
                      </a:cubicBezTo>
                      <a:cubicBezTo>
                        <a:pt x="1921" y="110"/>
                        <a:pt x="1967" y="56"/>
                        <a:pt x="1973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799760" y="5291640"/>
                  <a:ext cx="588600" cy="110880"/>
                </a:xfrm>
                <a:custGeom>
                  <a:avLst/>
                  <a:gdLst/>
                  <a:ahLst/>
                  <a:rect l="0" t="0" r="r" b="b"/>
                  <a:pathLst>
                    <a:path fill="none" w="1635" h="308">
                      <a:moveTo>
                        <a:pt x="0" y="75"/>
                      </a:moveTo>
                      <a:lnTo>
                        <a:pt x="0" y="75"/>
                      </a:lnTo>
                      <a:cubicBezTo>
                        <a:pt x="13" y="89"/>
                        <a:pt x="28" y="102"/>
                        <a:pt x="44" y="114"/>
                      </a:cubicBezTo>
                      <a:cubicBezTo>
                        <a:pt x="119" y="173"/>
                        <a:pt x="228" y="222"/>
                        <a:pt x="359" y="256"/>
                      </a:cubicBezTo>
                      <a:cubicBezTo>
                        <a:pt x="491" y="290"/>
                        <a:pt x="639" y="308"/>
                        <a:pt x="791" y="308"/>
                      </a:cubicBezTo>
                      <a:cubicBezTo>
                        <a:pt x="942" y="308"/>
                        <a:pt x="1091" y="290"/>
                        <a:pt x="1222" y="256"/>
                      </a:cubicBezTo>
                      <a:cubicBezTo>
                        <a:pt x="1353" y="222"/>
                        <a:pt x="1462" y="173"/>
                        <a:pt x="1538" y="114"/>
                      </a:cubicBezTo>
                      <a:cubicBezTo>
                        <a:pt x="1583" y="79"/>
                        <a:pt x="1616" y="40"/>
                        <a:pt x="1635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856560" y="5321520"/>
                  <a:ext cx="809640" cy="130320"/>
                </a:xfrm>
                <a:custGeom>
                  <a:avLst/>
                  <a:gdLst/>
                  <a:ahLst/>
                  <a:rect l="0" t="0" r="r" b="b"/>
                  <a:pathLst>
                    <a:path fill="none" w="2249" h="362">
                      <a:moveTo>
                        <a:pt x="0" y="54"/>
                      </a:moveTo>
                      <a:lnTo>
                        <a:pt x="0" y="54"/>
                      </a:lnTo>
                      <a:cubicBezTo>
                        <a:pt x="23" y="97"/>
                        <a:pt x="69" y="138"/>
                        <a:pt x="134" y="175"/>
                      </a:cubicBezTo>
                      <a:cubicBezTo>
                        <a:pt x="234" y="232"/>
                        <a:pt x="377" y="279"/>
                        <a:pt x="549" y="312"/>
                      </a:cubicBezTo>
                      <a:cubicBezTo>
                        <a:pt x="722" y="345"/>
                        <a:pt x="917" y="362"/>
                        <a:pt x="1116" y="362"/>
                      </a:cubicBezTo>
                      <a:cubicBezTo>
                        <a:pt x="1315" y="362"/>
                        <a:pt x="1510" y="345"/>
                        <a:pt x="1683" y="312"/>
                      </a:cubicBezTo>
                      <a:cubicBezTo>
                        <a:pt x="1855" y="279"/>
                        <a:pt x="1998" y="232"/>
                        <a:pt x="2098" y="175"/>
                      </a:cubicBezTo>
                      <a:cubicBezTo>
                        <a:pt x="2191" y="122"/>
                        <a:pt x="2243" y="62"/>
                        <a:pt x="224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666200" y="5290200"/>
                  <a:ext cx="596520" cy="108000"/>
                </a:xfrm>
                <a:custGeom>
                  <a:avLst/>
                  <a:gdLst/>
                  <a:ahLst/>
                  <a:rect l="0" t="0" r="r" b="b"/>
                  <a:pathLst>
                    <a:path fill="none" w="1657" h="300">
                      <a:moveTo>
                        <a:pt x="0" y="84"/>
                      </a:moveTo>
                      <a:lnTo>
                        <a:pt x="0" y="84"/>
                      </a:lnTo>
                      <a:cubicBezTo>
                        <a:pt x="10" y="93"/>
                        <a:pt x="22" y="102"/>
                        <a:pt x="34" y="112"/>
                      </a:cubicBezTo>
                      <a:cubicBezTo>
                        <a:pt x="111" y="169"/>
                        <a:pt x="222" y="216"/>
                        <a:pt x="356" y="249"/>
                      </a:cubicBezTo>
                      <a:cubicBezTo>
                        <a:pt x="490" y="282"/>
                        <a:pt x="642" y="300"/>
                        <a:pt x="796" y="300"/>
                      </a:cubicBezTo>
                      <a:cubicBezTo>
                        <a:pt x="950" y="300"/>
                        <a:pt x="1102" y="282"/>
                        <a:pt x="1236" y="249"/>
                      </a:cubicBezTo>
                      <a:cubicBezTo>
                        <a:pt x="1369" y="216"/>
                        <a:pt x="1480" y="169"/>
                        <a:pt x="1558" y="112"/>
                      </a:cubicBezTo>
                      <a:cubicBezTo>
                        <a:pt x="1604" y="77"/>
                        <a:pt x="1638" y="39"/>
                        <a:pt x="165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487480" y="5351040"/>
                <a:ext cx="1602000" cy="256680"/>
                <a:chOff x="5487480" y="5351040"/>
                <a:chExt cx="1602000" cy="2566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885640" y="5351040"/>
                  <a:ext cx="1203840" cy="232560"/>
                </a:xfrm>
                <a:custGeom>
                  <a:avLst/>
                  <a:gdLst/>
                  <a:ahLst/>
                  <a:rect l="0" t="0" r="r" b="b"/>
                  <a:pathLst>
                    <a:path fill="none" w="3344" h="646">
                      <a:moveTo>
                        <a:pt x="0" y="156"/>
                      </a:moveTo>
                      <a:lnTo>
                        <a:pt x="0" y="156"/>
                      </a:lnTo>
                      <a:cubicBezTo>
                        <a:pt x="38" y="210"/>
                        <a:pt x="94" y="262"/>
                        <a:pt x="165" y="310"/>
                      </a:cubicBezTo>
                      <a:cubicBezTo>
                        <a:pt x="314" y="413"/>
                        <a:pt x="529" y="497"/>
                        <a:pt x="788" y="556"/>
                      </a:cubicBezTo>
                      <a:cubicBezTo>
                        <a:pt x="1048" y="615"/>
                        <a:pt x="1342" y="646"/>
                        <a:pt x="1641" y="646"/>
                      </a:cubicBezTo>
                      <a:cubicBezTo>
                        <a:pt x="1940" y="646"/>
                        <a:pt x="2234" y="615"/>
                        <a:pt x="2493" y="556"/>
                      </a:cubicBezTo>
                      <a:cubicBezTo>
                        <a:pt x="2752" y="497"/>
                        <a:pt x="2967" y="413"/>
                        <a:pt x="3117" y="310"/>
                      </a:cubicBezTo>
                      <a:cubicBezTo>
                        <a:pt x="3255" y="216"/>
                        <a:pt x="3333" y="109"/>
                        <a:pt x="3344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487480" y="5353920"/>
                  <a:ext cx="1367280" cy="253800"/>
                </a:xfrm>
                <a:custGeom>
                  <a:avLst/>
                  <a:gdLst/>
                  <a:ahLst/>
                  <a:rect l="0" t="0" r="r" b="b"/>
                  <a:pathLst>
                    <a:path fill="none" w="3798" h="705">
                      <a:moveTo>
                        <a:pt x="0" y="105"/>
                      </a:moveTo>
                      <a:lnTo>
                        <a:pt x="0" y="105"/>
                      </a:lnTo>
                      <a:cubicBezTo>
                        <a:pt x="39" y="188"/>
                        <a:pt x="116" y="269"/>
                        <a:pt x="227" y="342"/>
                      </a:cubicBezTo>
                      <a:cubicBezTo>
                        <a:pt x="395" y="452"/>
                        <a:pt x="637" y="544"/>
                        <a:pt x="928" y="608"/>
                      </a:cubicBezTo>
                      <a:cubicBezTo>
                        <a:pt x="1219" y="671"/>
                        <a:pt x="1549" y="705"/>
                        <a:pt x="1885" y="705"/>
                      </a:cubicBezTo>
                      <a:cubicBezTo>
                        <a:pt x="2221" y="705"/>
                        <a:pt x="2551" y="671"/>
                        <a:pt x="2842" y="608"/>
                      </a:cubicBezTo>
                      <a:cubicBezTo>
                        <a:pt x="3133" y="544"/>
                        <a:pt x="3374" y="452"/>
                        <a:pt x="3542" y="342"/>
                      </a:cubicBezTo>
                      <a:cubicBezTo>
                        <a:pt x="3701" y="238"/>
                        <a:pt x="3789" y="120"/>
                        <a:pt x="3798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3" name=""/>
          <p:cNvGrpSpPr/>
          <p:nvPr/>
        </p:nvGrpSpPr>
        <p:grpSpPr>
          <a:xfrm>
            <a:off x="5487480" y="3962520"/>
            <a:ext cx="2917080" cy="1095120"/>
            <a:chOff x="5487480" y="3962520"/>
            <a:chExt cx="2917080" cy="1095120"/>
          </a:xfrm>
        </p:grpSpPr>
        <p:grpSp>
          <p:nvGrpSpPr>
            <p:cNvPr id="724" name=""/>
            <p:cNvGrpSpPr/>
            <p:nvPr/>
          </p:nvGrpSpPr>
          <p:grpSpPr>
            <a:xfrm>
              <a:off x="6834240" y="3962520"/>
              <a:ext cx="1570320" cy="1095120"/>
              <a:chOff x="6834240" y="3962520"/>
              <a:chExt cx="1570320" cy="109512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8234280" y="3962520"/>
                <a:ext cx="170280" cy="558720"/>
                <a:chOff x="8234280" y="3962520"/>
                <a:chExt cx="170280" cy="558720"/>
              </a:xfrm>
            </p:grpSpPr>
            <p:grpSp>
              <p:nvGrpSpPr>
                <p:cNvPr id="726" name=""/>
                <p:cNvGrpSpPr/>
                <p:nvPr/>
              </p:nvGrpSpPr>
              <p:grpSpPr>
                <a:xfrm>
                  <a:off x="8300880" y="3962520"/>
                  <a:ext cx="14400" cy="558720"/>
                  <a:chOff x="8300880" y="3962520"/>
                  <a:chExt cx="14400" cy="55872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8300880" y="3962520"/>
                    <a:ext cx="1440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300880" y="3968640"/>
                    <a:ext cx="14400" cy="55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>
                  <a:off x="8234280" y="3995640"/>
                  <a:ext cx="170280" cy="8280"/>
                </a:xfrm>
                <a:custGeom>
                  <a:avLst/>
                  <a:gdLst/>
                  <a:ahLst/>
                  <a:rect l="0" t="0" r="r" b="b"/>
                  <a:pathLst>
                    <a:path w="473" h="23">
                      <a:moveTo>
                        <a:pt x="473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473" y="23"/>
                      </a:lnTo>
                      <a:lnTo>
                        <a:pt x="47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7631280" y="3978360"/>
                <a:ext cx="224280" cy="799920"/>
                <a:chOff x="7631280" y="3978360"/>
                <a:chExt cx="224280" cy="79992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7723080" y="3978360"/>
                  <a:ext cx="19080" cy="799920"/>
                  <a:chOff x="7723080" y="3978360"/>
                  <a:chExt cx="19080" cy="79992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7723080" y="3978360"/>
                    <a:ext cx="19080" cy="1440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7723080" y="3987720"/>
                    <a:ext cx="19080" cy="7905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4" name=""/>
                <p:cNvSpPr/>
                <p:nvPr/>
              </p:nvSpPr>
              <p:spPr>
                <a:xfrm>
                  <a:off x="7631280" y="4014720"/>
                  <a:ext cx="224280" cy="18000"/>
                </a:xfrm>
                <a:custGeom>
                  <a:avLst/>
                  <a:gdLst/>
                  <a:ahLst/>
                  <a:rect l="0" t="0" r="r" b="b"/>
                  <a:pathLst>
                    <a:path w="623" h="50">
                      <a:moveTo>
                        <a:pt x="623" y="0"/>
                      </a:moveTo>
                      <a:lnTo>
                        <a:pt x="0" y="4"/>
                      </a:lnTo>
                      <a:lnTo>
                        <a:pt x="0" y="50"/>
                      </a:lnTo>
                      <a:lnTo>
                        <a:pt x="623" y="40"/>
                      </a:lnTo>
                      <a:lnTo>
                        <a:pt x="62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834240" y="3984480"/>
                <a:ext cx="325800" cy="1073160"/>
                <a:chOff x="6834240" y="3984480"/>
                <a:chExt cx="325800" cy="107316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6962760" y="3984480"/>
                  <a:ext cx="33480" cy="1073160"/>
                  <a:chOff x="6962760" y="3984480"/>
                  <a:chExt cx="33480" cy="10731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6962760" y="3984480"/>
                    <a:ext cx="33480" cy="1908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962760" y="3995640"/>
                    <a:ext cx="33480" cy="1062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9" name=""/>
                <p:cNvSpPr/>
                <p:nvPr/>
              </p:nvSpPr>
              <p:spPr>
                <a:xfrm>
                  <a:off x="6834240" y="4044960"/>
                  <a:ext cx="325800" cy="20880"/>
                </a:xfrm>
                <a:custGeom>
                  <a:avLst/>
                  <a:gdLst/>
                  <a:ahLst/>
                  <a:rect l="0" t="0" r="r" b="b"/>
                  <a:pathLst>
                    <a:path w="905" h="58">
                      <a:moveTo>
                        <a:pt x="905" y="5"/>
                      </a:move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905" y="58"/>
                      </a:lnTo>
                      <a:lnTo>
                        <a:pt x="905" y="5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0" name=""/>
            <p:cNvGrpSpPr/>
            <p:nvPr/>
          </p:nvGrpSpPr>
          <p:grpSpPr>
            <a:xfrm>
              <a:off x="5487480" y="3994920"/>
              <a:ext cx="2900880" cy="317520"/>
              <a:chOff x="5487480" y="3994920"/>
              <a:chExt cx="2900880" cy="31752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6856560" y="3994920"/>
                <a:ext cx="1531800" cy="161280"/>
                <a:chOff x="6856560" y="3994920"/>
                <a:chExt cx="1531800" cy="1612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092360" y="4024080"/>
                  <a:ext cx="710280" cy="118080"/>
                </a:xfrm>
                <a:custGeom>
                  <a:avLst/>
                  <a:gdLst/>
                  <a:ahLst/>
                  <a:rect l="0" t="0" r="r" b="b"/>
                  <a:pathLst>
                    <a:path fill="none" w="1973" h="328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23" y="107"/>
                        <a:pt x="55" y="133"/>
                        <a:pt x="97" y="158"/>
                      </a:cubicBezTo>
                      <a:cubicBezTo>
                        <a:pt x="186" y="210"/>
                        <a:pt x="313" y="253"/>
                        <a:pt x="465" y="283"/>
                      </a:cubicBezTo>
                      <a:cubicBezTo>
                        <a:pt x="618" y="313"/>
                        <a:pt x="792" y="328"/>
                        <a:pt x="968" y="328"/>
                      </a:cubicBezTo>
                      <a:cubicBezTo>
                        <a:pt x="1145" y="328"/>
                        <a:pt x="1318" y="313"/>
                        <a:pt x="1471" y="283"/>
                      </a:cubicBezTo>
                      <a:cubicBezTo>
                        <a:pt x="1624" y="253"/>
                        <a:pt x="1751" y="210"/>
                        <a:pt x="1839" y="158"/>
                      </a:cubicBezTo>
                      <a:cubicBezTo>
                        <a:pt x="1921" y="110"/>
                        <a:pt x="1967" y="56"/>
                        <a:pt x="1973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799760" y="3996360"/>
                  <a:ext cx="588600" cy="110880"/>
                </a:xfrm>
                <a:custGeom>
                  <a:avLst/>
                  <a:gdLst/>
                  <a:ahLst/>
                  <a:rect l="0" t="0" r="r" b="b"/>
                  <a:pathLst>
                    <a:path fill="none" w="1635" h="308">
                      <a:moveTo>
                        <a:pt x="0" y="75"/>
                      </a:moveTo>
                      <a:lnTo>
                        <a:pt x="0" y="75"/>
                      </a:lnTo>
                      <a:cubicBezTo>
                        <a:pt x="13" y="89"/>
                        <a:pt x="28" y="102"/>
                        <a:pt x="44" y="114"/>
                      </a:cubicBezTo>
                      <a:cubicBezTo>
                        <a:pt x="119" y="173"/>
                        <a:pt x="228" y="222"/>
                        <a:pt x="359" y="256"/>
                      </a:cubicBezTo>
                      <a:cubicBezTo>
                        <a:pt x="491" y="290"/>
                        <a:pt x="639" y="308"/>
                        <a:pt x="791" y="308"/>
                      </a:cubicBezTo>
                      <a:cubicBezTo>
                        <a:pt x="942" y="308"/>
                        <a:pt x="1091" y="290"/>
                        <a:pt x="1222" y="256"/>
                      </a:cubicBezTo>
                      <a:cubicBezTo>
                        <a:pt x="1353" y="222"/>
                        <a:pt x="1462" y="173"/>
                        <a:pt x="1538" y="114"/>
                      </a:cubicBezTo>
                      <a:cubicBezTo>
                        <a:pt x="1583" y="79"/>
                        <a:pt x="1616" y="40"/>
                        <a:pt x="1635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856560" y="4025880"/>
                  <a:ext cx="809640" cy="130320"/>
                </a:xfrm>
                <a:custGeom>
                  <a:avLst/>
                  <a:gdLst/>
                  <a:ahLst/>
                  <a:rect l="0" t="0" r="r" b="b"/>
                  <a:pathLst>
                    <a:path fill="none" w="2249" h="362">
                      <a:moveTo>
                        <a:pt x="0" y="54"/>
                      </a:moveTo>
                      <a:lnTo>
                        <a:pt x="0" y="54"/>
                      </a:lnTo>
                      <a:cubicBezTo>
                        <a:pt x="23" y="97"/>
                        <a:pt x="69" y="138"/>
                        <a:pt x="134" y="175"/>
                      </a:cubicBezTo>
                      <a:cubicBezTo>
                        <a:pt x="234" y="232"/>
                        <a:pt x="377" y="279"/>
                        <a:pt x="549" y="312"/>
                      </a:cubicBezTo>
                      <a:cubicBezTo>
                        <a:pt x="722" y="345"/>
                        <a:pt x="917" y="362"/>
                        <a:pt x="1116" y="362"/>
                      </a:cubicBezTo>
                      <a:cubicBezTo>
                        <a:pt x="1315" y="362"/>
                        <a:pt x="1510" y="345"/>
                        <a:pt x="1683" y="312"/>
                      </a:cubicBezTo>
                      <a:cubicBezTo>
                        <a:pt x="1855" y="279"/>
                        <a:pt x="1998" y="232"/>
                        <a:pt x="2098" y="175"/>
                      </a:cubicBezTo>
                      <a:cubicBezTo>
                        <a:pt x="2191" y="122"/>
                        <a:pt x="2243" y="62"/>
                        <a:pt x="224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666200" y="3994920"/>
                  <a:ext cx="596520" cy="108000"/>
                </a:xfrm>
                <a:custGeom>
                  <a:avLst/>
                  <a:gdLst/>
                  <a:ahLst/>
                  <a:rect l="0" t="0" r="r" b="b"/>
                  <a:pathLst>
                    <a:path fill="none" w="1657" h="300">
                      <a:moveTo>
                        <a:pt x="0" y="84"/>
                      </a:moveTo>
                      <a:lnTo>
                        <a:pt x="0" y="84"/>
                      </a:lnTo>
                      <a:cubicBezTo>
                        <a:pt x="10" y="93"/>
                        <a:pt x="22" y="102"/>
                        <a:pt x="34" y="112"/>
                      </a:cubicBezTo>
                      <a:cubicBezTo>
                        <a:pt x="111" y="169"/>
                        <a:pt x="222" y="216"/>
                        <a:pt x="356" y="249"/>
                      </a:cubicBezTo>
                      <a:cubicBezTo>
                        <a:pt x="490" y="282"/>
                        <a:pt x="642" y="300"/>
                        <a:pt x="796" y="300"/>
                      </a:cubicBezTo>
                      <a:cubicBezTo>
                        <a:pt x="950" y="300"/>
                        <a:pt x="1102" y="282"/>
                        <a:pt x="1236" y="249"/>
                      </a:cubicBezTo>
                      <a:cubicBezTo>
                        <a:pt x="1369" y="216"/>
                        <a:pt x="1480" y="169"/>
                        <a:pt x="1558" y="112"/>
                      </a:cubicBezTo>
                      <a:cubicBezTo>
                        <a:pt x="1604" y="77"/>
                        <a:pt x="1638" y="39"/>
                        <a:pt x="165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5487480" y="4055760"/>
                <a:ext cx="1602000" cy="256680"/>
                <a:chOff x="5487480" y="4055760"/>
                <a:chExt cx="1602000" cy="2566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5885640" y="4055760"/>
                  <a:ext cx="1203840" cy="232560"/>
                </a:xfrm>
                <a:custGeom>
                  <a:avLst/>
                  <a:gdLst/>
                  <a:ahLst/>
                  <a:rect l="0" t="0" r="r" b="b"/>
                  <a:pathLst>
                    <a:path fill="none" w="3344" h="646">
                      <a:moveTo>
                        <a:pt x="0" y="156"/>
                      </a:moveTo>
                      <a:lnTo>
                        <a:pt x="0" y="156"/>
                      </a:lnTo>
                      <a:cubicBezTo>
                        <a:pt x="38" y="210"/>
                        <a:pt x="94" y="262"/>
                        <a:pt x="165" y="310"/>
                      </a:cubicBezTo>
                      <a:cubicBezTo>
                        <a:pt x="314" y="413"/>
                        <a:pt x="529" y="497"/>
                        <a:pt x="788" y="556"/>
                      </a:cubicBezTo>
                      <a:cubicBezTo>
                        <a:pt x="1048" y="615"/>
                        <a:pt x="1342" y="646"/>
                        <a:pt x="1641" y="646"/>
                      </a:cubicBezTo>
                      <a:cubicBezTo>
                        <a:pt x="1940" y="646"/>
                        <a:pt x="2234" y="615"/>
                        <a:pt x="2493" y="556"/>
                      </a:cubicBezTo>
                      <a:cubicBezTo>
                        <a:pt x="2752" y="497"/>
                        <a:pt x="2967" y="413"/>
                        <a:pt x="3117" y="310"/>
                      </a:cubicBezTo>
                      <a:cubicBezTo>
                        <a:pt x="3255" y="216"/>
                        <a:pt x="3333" y="109"/>
                        <a:pt x="3344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487480" y="4058640"/>
                  <a:ext cx="1367280" cy="253800"/>
                </a:xfrm>
                <a:custGeom>
                  <a:avLst/>
                  <a:gdLst/>
                  <a:ahLst/>
                  <a:rect l="0" t="0" r="r" b="b"/>
                  <a:pathLst>
                    <a:path fill="none" w="3798" h="705">
                      <a:moveTo>
                        <a:pt x="0" y="105"/>
                      </a:moveTo>
                      <a:lnTo>
                        <a:pt x="0" y="105"/>
                      </a:lnTo>
                      <a:cubicBezTo>
                        <a:pt x="39" y="188"/>
                        <a:pt x="116" y="269"/>
                        <a:pt x="227" y="342"/>
                      </a:cubicBezTo>
                      <a:cubicBezTo>
                        <a:pt x="395" y="452"/>
                        <a:pt x="637" y="544"/>
                        <a:pt x="928" y="608"/>
                      </a:cubicBezTo>
                      <a:cubicBezTo>
                        <a:pt x="1219" y="671"/>
                        <a:pt x="1549" y="705"/>
                        <a:pt x="1885" y="705"/>
                      </a:cubicBezTo>
                      <a:cubicBezTo>
                        <a:pt x="2221" y="705"/>
                        <a:pt x="2551" y="671"/>
                        <a:pt x="2842" y="608"/>
                      </a:cubicBezTo>
                      <a:cubicBezTo>
                        <a:pt x="3133" y="544"/>
                        <a:pt x="3374" y="452"/>
                        <a:pt x="3542" y="342"/>
                      </a:cubicBezTo>
                      <a:cubicBezTo>
                        <a:pt x="3701" y="238"/>
                        <a:pt x="3789" y="120"/>
                        <a:pt x="3798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9" name=""/>
          <p:cNvSpPr txBox="1"/>
          <p:nvPr/>
        </p:nvSpPr>
        <p:spPr>
          <a:xfrm>
            <a:off x="4952880" y="3809880"/>
            <a:ext cx="1022400" cy="8380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/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952880" y="5029200"/>
            <a:ext cx="1022400" cy="8380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/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201680" y="1461960"/>
            <a:ext cx="767556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ite “wave” driver for each cha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ite TAPI part of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all “wave” devices into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get device IDs within the set of “wave” devices, e.g.,  3 &amp;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all “tapi/line”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get device IDs within the set of “tapi/line” devices, e.g., 2 &amp;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01680" y="1461960"/>
            <a:ext cx="76755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bined TAPI &amp; wave driver tracks the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/line 2 ---&gt; wav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/line 3 ---&gt; wave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SPI_lineGetID( ..., call, “wave”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gure out which line that call is on e.g.,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up which wave device that is e.g.,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, e.g. 4, as the wave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(..., 4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 and prepare to play sound through that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(..., 3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 an error, since there is no call active on that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ding th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201680" y="1461960"/>
            <a:ext cx="76755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provides hooks to allow equipment vendor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Intel/Microsof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altering TAPI run-tim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ey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format commands a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passes data thru to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way to avoid “colliding”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sions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201680" y="1461960"/>
            <a:ext cx="7675560" cy="41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IDGEN.EXE generates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lied with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blish ID as part of extension sp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 retrieves extension ID at ru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are with expected value from sp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it” extension with line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sions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201680" y="1461960"/>
            <a:ext cx="7675560" cy="54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n App may use th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ands: lineDevSpecific, lineDevSpecific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structures: extension areas, bi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ssages: LINE_DEVSPECIFIC, LINE_DEVSPECIFIC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s: use extensions with 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oid strict dependency on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 prepared to operate if the extension is not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inal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01680" y="1461960"/>
            <a:ext cx="7675560" cy="40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changes the way you use the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becomes a tool to manag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changes the way you use the tele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becomes a participant in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2890800" y="3019320"/>
            <a:ext cx="41194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indows Telephony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01680" y="1461960"/>
            <a:ext cx="7675560" cy="54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LL, Control Panel, and suppor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distributable at n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rce code for sample application and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 header files, LIBs, mak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ll documentation in Word for Windows 2.0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I and SPI reference 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Avail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1680" y="1461960"/>
            <a:ext cx="767556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DK for Windows 3.1 availabl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veloper Platform Level II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wnload files (for a limited time)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Serv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NEXT forum, File Library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et:  ftp.microsoft.com (198.105.232.1) in the directory “/devtools/tap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crosof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ownload Service BBS (+1 (206) 936-67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Other Delivery Vehic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1680" y="1461960"/>
            <a:ext cx="76755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LL and support components in every retail, OEM, and upgrade pac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 part of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lephony SDK for Windows NT to be delivered in 1994 (at least in beta 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